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17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5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mudanca no tamanho da parti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90-110 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 Solaris o equiavalente ao /etc/exports é o /etc/dfs/dfstab. A sintaxe varia um pouco tambem, mas a idéia é a me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dois zeros no final da linha se referem ao númerro de vezes que deve ser feito o fsck ( 0 ) e o número de sequência que também deve se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17-47 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325-353 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tirado das man pages UNIX em Su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67-503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549-580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ntar sobre as responsabilidades do super usuário, assim como a necessidade de haverem 2 ou 3 pessoas ( nem mais nem menos ) com a senha d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1 Essential System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2 Unix System Administration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3 Sun Administration SunOS 4.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4 Managing NFS and 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5 System Performance Tu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76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12  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79-81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81-82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r último slide para conversão L1,L2,L3,L4,L5 para os respectivos liv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24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visão apenas. Salientar para a diferença entre as permissões de arquivos e diretó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. seta permissão de leitura apenas para to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. coloca em file2 u+w e em file3 og+r-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. recurs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. igual a chmod a+r * .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5. rwxrw-r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retira permissão de escrita para o grupo e de escrita e execução para outros quando se cria um novo arqu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interpretação do sticky bit e do SGID é diferente quando interpretados para diretó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imeiro tem aplicação imediata para o /tmp, que normalmente tem permissões 777 e que habilitaria todos os usuários a remover qualquer arqu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cket será visto em segu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med pipes são as pipes abertas pelo nome pelas aplicações. Geralmente estão no /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exemplo prático são os disco rígidos. Geralemente exi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/dev/sd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/dev/rsd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imeiro é de acesso por bloco e o segundo a caracter. A caracterr é comumente referenciado como raw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hard link removido não remove a área de da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 um hard link existir, e o arquivo original for removido, os dados também não são removid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Unix não sinaliza a existência do hard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symbolic link removido não remove a área de dados, removendo apenas o próprio symbolic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 o arquivo para o qual o symbolic link aponta for removido, o symbolic link passa a apontar para uma posição invá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le2 é um hard link de fi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le3 é um symbolic link de file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já deve ter sido visto em outra parte do curso ( ou será visto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3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4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4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6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ice number não corresponde diretamente a prioridade do processo, mas a importância que ele tem ( em terrmos de execução ) em relação aos demais. A prioridade é calculada por vários fatores, dentre eles o nic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amar a atenção para o UID e GID real e ef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48 de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amar a atenção para a diferença entre um fork e um exec ( os execs são feitos no sentido vertical e não muda o PI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n -k geralmente necessita que a base de dados tenha sido inicializada. O arquivo que contem esta base pode ser o whatis ou w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executado em Su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executado em Su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sta os PIDs do usuário ful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. procura por arquivos terminados com .c e imp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. lista arquivos com tamanho maior que 2048 blocos e que não foram modificados em 30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. remove todos os arquivos chamado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. lista todos os arquivos do tipo “file”  com set user ID ou set group ID ativos, no intuito de preservar a seguranç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5. troca owner e group de todo os arquivos do diretório /home/ful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C deterrmina que o diretório corrente para a operação será o /di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p restaura as permissões e owner dos arqu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ast lista os últimos logins no 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il por default pega as 10 últimas entr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tmp será falado mais a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mbé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descobrir porque o software do usuário que estava funcionando ontem parou de funcionar misteriosamente ho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ir a reuni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trocar o toner das impress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rearranjar os móveis da sala para acomodar novos equipa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arranjar espaço em disco quando não há mais espaço a mais de 6 m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cancelar impressões erradas que só colocam ff na página impr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descobrir problemas “insolúveis” sempre nas Sextas e no final da ta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mente introdutório, com alguns exemp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amar a atenção para as diferenças de programação entre sh,csh,k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93-136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oot SunOS 4.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Mb de memó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PU Sun 4/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co 20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rface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nitor monocro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ntar sobre a necessidade de se colocar o sistema em single user; da falta de uma série de serviços devido aos daemons não estarem rodando; da necessidade do single user para backups os fsck não automát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^D para colocar o sistema em multi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parte de fsck será vista mais a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em Su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BSD podem haver mais de um arquivo rc, dependendo de cada site ( rc.boot ; rc.network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inittab exite a relação dos rc’s que devem ser executados para cada nível de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rc0 está a relação dos scripts que devem ser executados no nível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scripts possuem um número que indicam a ordem em que serão execu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es scripts são todos links para o /etc/init.d que é onde estã realmente os scri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 figura só está representado o nível 0 ( single us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normal se avisar os usuário de um possível shutdown, assim como esperar que não haja mais usuários lo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lgumas implementações de UNIX existe o /etc/nologin que pode ser usado para prevenir que alguem se logue enquanto estamos em preocesso de shut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hutdown agora feito pelo usuári o ed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amar a atenção para a superstição em torno dos 3 syn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143-194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usuário do ponto de vista unix não precisa ser uma pessoa. É uma entidade que pode executar programas e possui seus próprios arquivos. Podem ser outros computadores, alguma função que rode regularmente, ou grupos de oper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do Prefácio xiii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ntar sobre as diferenças entre BSD e System V, diferenças entre comandos e sobre a tendência de uniformização em torno de System V Rele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ib.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efácio xiv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6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normal criar regras de criação de usernames, como o primeiro nome da pessoa mais as 3 letras iniciais do sobrenome, ou coisas deste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amar atenção para a natureza unidirecional da criptografia da senha ( não há como decriptografar uma senh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o ponto de vista de segurança não adianta fechar as permissões de /etc/passwd porque outros serviços passaram a não funcionar ( cd ~user ; por exemplo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senha com aasterisco é dita desabilitada porque não há como digitar uma senha que criptografada resulte em  um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ioria dos exemplos desta apresentação baseados em SunOS 4.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ág 393-453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nta o filesystem /dev/dsk/c1d1s8 no diretório /users2 e depois desmo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ssivelmente, controladora 1 ; disco 1 ; partição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0880"/>
            <a:ext cx="1440" cy="1906560"/>
          </a:xfrm>
          <a:custGeom>
            <a:avLst/>
            <a:gdLst/>
            <a:ahLst/>
            <a:rect l="l" t="t" r="r" b="b"/>
            <a:pathLst>
              <a:path w="1" h="1201">
                <a:moveTo>
                  <a:pt x="0" y="1200"/>
                </a:moveTo>
                <a:lnTo>
                  <a:pt x="0" y="11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ministração de Sistemas Unix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– Visão Gera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133720"/>
            <a:ext cx="3733920" cy="3429000"/>
          </a:xfrm>
          <a:prstGeom prst="donut">
            <a:avLst>
              <a:gd name="adj" fmla="val 19458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87800" y="3386160"/>
            <a:ext cx="1044720" cy="92376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3280" y="220032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Sh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3280" y="29242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núc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9360" y="358308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fstab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tomatiza o processo de montagem e desmontagem dos file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vice: nome do arquivo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unt: diretório onde deve ser feita a mont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ype: tipo do file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tions: opções de montagem ( ro,rw,suid,quo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mp: frequência de 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sck: ordem em que o filesystem deve ser verificado com fsck em tempo de 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Relação disco &lt;-&gt; filesyste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tições: unidade básica de armazenamento do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filesystems são criados nas partições dos d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partições são tratadas logicamente como se fossem discos físicos sepa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implementações BSD, o disco pode ter até 7 nomes de partiçoes  ( a,b,c,d,e,f,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icionando dis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ectar o disco a uma controladora disponível ( cuidar para não haver conflitos no barramento SCSI, se for o cas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disco deve estar formatado ( low-level forma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tições devem estar defin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ices correspondentes devem estar cr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filesystem UNIX deve estar criado na part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novo filesystem deve ser verificado com fs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fstab deve ser atu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diretório onde será montado deve exis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ssivelmente adicionar qu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icionando dis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SunOS/Solar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rwin#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arching for disks...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VAILABLE DISK SE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. sd0 at si0 slav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0: &lt;SUN0669 cyl 1614 alt 2 hd 15 sec 5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d2 at si0 sla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2: &lt;SUN1.3G cyl 1965 alt 2 hd 17 sec 8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d4 at si0 slav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4: &lt;SUN1.3G cyl 1965 alt 2 hd 17 sec 8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sd6 at si0 slave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6: &lt;SUN1.3G cyl 1965 alt 2 hd 17 sec 8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pecify disk (enter its number)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ecting sd4: &lt;SUN1.3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disk formatted, defect list fou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arning: Current Disk has mounted part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SunOS/Solar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T M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k       - select a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ype       - select (define) a disk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 - select (define) a parti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rrent    - describe the current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t     - format and analyze 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air     - repair a defectiv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how       - translate a dis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bel      - write label to 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lyze    - surfa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ect     - defect lis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ckup     - search for backup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t&gt;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33520" y="7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M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     - change `a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     - change `b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     - change `c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      - change `d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     - change `e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      - change `f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      - change `g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      - change `h'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ect - select a predefine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me   - name the curren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t  - display the curren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bel  - write partition map and label to 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&gt;</a:t>
            </a:r>
            <a:r>
              <a:rPr b="0" lang="pt-BR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75960" y="6094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rrent partition table (original sd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a - starting cyl      0, # blocks   201280 (148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b - starting cyl    148, # blocks    80240 (59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c - starting cyl      0, # blocks  2672400 (1965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d - starting cyl    207, # blocks   201280 (148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e - starting cyl    355, # blocks   201280 (148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f - starting cyl    503, # blocks   601120 (442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g - starting cyl    945, # blocks   401200 (295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h - starting cyl   1240, # blocks   986000 (725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 a - starting cyl      0, # blocks   201280 (148/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er new starting cyl [0]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er new # blocks [201280, 148/0/0]: 601/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tion&gt;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– Arquitetura do Sistem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828800"/>
            <a:ext cx="8458200" cy="502920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809880"/>
            <a:ext cx="2895480" cy="21895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-siste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gerên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743200"/>
            <a:ext cx="7696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1981080"/>
            <a:ext cx="3047760" cy="3373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124080"/>
            <a:ext cx="7696080" cy="3373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4038480"/>
            <a:ext cx="1447920" cy="33732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unic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6248520"/>
            <a:ext cx="7696080" cy="3373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962520"/>
            <a:ext cx="2057400" cy="5806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-sistema de arqu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724280"/>
            <a:ext cx="1447920" cy="33732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5359320"/>
            <a:ext cx="1447920" cy="33732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er. Memó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181480"/>
            <a:ext cx="2057400" cy="70776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962520"/>
            <a:ext cx="838080" cy="18190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51814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ara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181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705720" y="2362320"/>
            <a:ext cx="0" cy="7617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9240" y="1979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09880" y="2362320"/>
            <a:ext cx="0" cy="7617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13372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3505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77120" y="58672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38280" y="57909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95120" y="533412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95120" y="426708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477120" y="34290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47920" y="45716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3800" y="274176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ível Núc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440" y="228456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ível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562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das as partiçoes, deve-se criar um filesystem ne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newfs /dev/rsd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rsd4a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53856 sectors in 601 cylinders of 4 tracks, 64 sectors 78,8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er-block backups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2, 4192, 8352, 12512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fsck -y /dev/rsd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procedimento descrito neste exemplo pode variar bastante na sintaxe dos comandos se usado em outras plata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ornar um disc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ootabl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deve-se usar installboot ( Sun ); dvhtool ( IRIX ); mkboot (HP); disklabel ( DE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loppy disk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possível se criar filesystem UNIX em floppy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rmalmente usa-se floppy com filesystem do tipo 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lmente os diferentes tipos de UNIX implementam aplicativos que permitem trabalhar com disquetes DOS como se fizessem parte da árvore de dire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NFS - Network File Syste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FS é um sistema de arquivos distribuído que possibilita acesso transparente a discos em máquinas rem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ermite que arquivos comuns as diversas máquinas fiquem centralizados em apenas uma máqu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ervidor e client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vidor de NFS :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e possui um ou mais file systems e torna-os disponíveis para a rede ( através do protocolo RP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iente NFS :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os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e monta um file system remoto e o torna disponível para os usuários como se fosse um file system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figurando o NF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vidor : em tempo de boot devem ser disparados dois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 daemon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pc.moun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iente : 3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aemon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vem estar ativ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pc.lock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pc.sta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daemons</a:t>
            </a: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 usados no NF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fsd : aceita requisições de NFS através de RPC e as executa no serv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pc.mountd :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e processa os pedidos de montagem de d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iod : realiza operações de I/O em blocos para os clientes de 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cp.lockd e rpc.statd : cuidam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ile lockin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no cliente de 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portando file system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ile system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a serem disponibilizados no servidor NFS devem ser explicitamente exportados para 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máquinas cliente de NFS para cada file system exportado devem ser especificados no serv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rquivo que contém os file systems a serem exportados é o /etc/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Regras para exportar file system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quer file system ou sub-diretório deste pode ser exp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é permitido exportar um subdiretório de um file system já exportado, a não ser que este sub-diretório esteja em outro dispositiv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é permitido exportar um diretório em que o seu sub-diretório já esteja exportado ( somente quando estiverem em dispositivos físicos diferent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ó é possível exportar file systems l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nfigurando o Servido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bilitando o script de inici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5.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xxn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xx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ks para /etc/init.d/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ortando dire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hosts.allow e /etc/hosts.de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- Visão do usuár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erárqu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iação / destruição de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escimento dinâmico de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t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NFS – Servidor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to do /etc/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ório máquina1(opção1, ...) máquina2 (opção1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o, 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_root_squ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_subtree_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Default: a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NFS – Servidor 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ortar efetivamente os dier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portfs –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ndo o 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5.d/Sxxnsf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cerrando o 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5.d/Kxxnfs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mandos exportfs e mou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ortfs : permite que se exporte explicitamente um file system ou que se exporte todo o /etc/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unt : possibilita a montagem de um file system manualmente ou através da configuração contida em /etc/fs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Arquivo /etc/export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home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loca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rw=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tool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ro,access=linus: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S: sintaxe para sistemas SunOS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ontando file system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s NFS podem montar qualquer file system ou sub-diretório deste exportado por um servidor de N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 ser considerados como um file sys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podem ser montados em qualquer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ós montados em um diretório, o conteúdo anterior deste diretório deixa de ser 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fstab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rquivo /etc/fstab pode automatizar o processo de mont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us:/home/user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home/user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f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w,bg,hard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urie:/var/spool/mail /var/spool/mail nfs rw,bg,soft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Opções de NFS para /etc/fstab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w/ro : monta o file system com ou sem permissão de 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g : caso não seja possível fazer o mount, tenta em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d/soft : no modo hard fica tentando montar sempre; no modo soft tent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etran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ve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trans/timeo : número de vezes que se repete a montagem quando retornar erro do servidor; timeo corresponde ao timeout nas tentativas de mont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Network Information Service -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se de dados distribuída que substitui várias cópias repetidas de arquivos de configuração por uma gerência centra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tais com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/etc/host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/etc/passw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/etc/group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etc podem ser mantidos apenas em um servidor e distribuídos pela re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m haver vários domínios de NIS numa mesma sub-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ervidores e client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m 2 tipos de serv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tre : mantém todos os mapas utilizados pelo 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avo : mantém uma cópia de todos os mapas,  e possui condições de responder como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s : consultam os 2 tipos de servidores para obter os m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Gerência do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alar o ambiente NIS, gerando os servidores mestre e escra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ivar o daemon ypserv, que habilita o sistema a se tornar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icionar mais servidores escravos a medida que a rede cres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dificar os arquivos nas estações clientes para que elas possam usufruir do 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ivar o daemon ypbind, que habilita o cliente a fazer requisições ao servidor 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- Visão do usuário .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mbiente de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grama: arquivo execu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: programa em exec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s solicitam os serviços do núcleo com o uso de chamadas de sistema. Ex.: fork, exec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apas padrões gerados pelo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bootparams : informações para máquinas sem disco ( diskles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ethers : números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group : grupos de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hosts : nomes dos hosts e seus números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aliases : utilizado no sistema de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netgroup : definições de net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netmasks : máscaras de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networks : endereços de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passwd : nomes de usuários, senha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protocols : nomes de protocolos de rede e resp. núm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rpc : números de programas 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services : números de portas de rede e nomes dos serv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ervidores de Domínio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servidor por domí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NIS é o nome do banco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tem relação como o domínio do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rede suporta mais de um servidor NIS c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mínios di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smo domí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stre/Escr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ervidores 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vidores Escra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ópia dos dados e um servidor m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cronização da cópia é feita pelo servidor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yppus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apas do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da base de dados, isto é, os arquivos são usados na consulta pelos 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to do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sswd.byname / passwd.by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ecessário gerar os mapas no momento da isntal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kefile em /var/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nfigurando o Servidor do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lar e executar 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o serviço N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ps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r diretórios para armazenar os mapas de um certo domí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var/yp/&lt;domínio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r mapas do 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piar o ypMakefile para Makefile no diretório /var/yp/&lt;domínio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nfigurando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ditar o 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terminar o domínio NIS que a máquina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bin/domainname &lt;nome_domínio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dita o /etc/sysconfig/network e setar NISDOMAIN = nome_domí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nfigurando o Cliente N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lar e executar 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ypb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figurar a “procura” pelo servidor NIS do domí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usca do servidor através de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avés do arquivo de configuração /etc/yp.co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liente..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exibilidade de configurar a pesquisa pelo serv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yp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yp.co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main winer server bardo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main tasmaniano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pserver bardo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Detalh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hosts.co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uir  “n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passw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uir no final +::::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uir no final +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sha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uir no final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nsswitch.co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uir “n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- Shel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face entre o usuário e 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pretador de coma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s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s comp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irecionamento de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f then  else;  for;  wh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mandos úteis 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pcat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map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lista o mapa diretamente do servidor. 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ypcat pass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ypcat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pwhich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omíni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: retorna o nome do servidor que responde pelo domínio. 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ypwhich my_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r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tualizando map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ndo for necessário atualizar algum mapa mantido pelo NIS, é necessá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ificar o arquivo local original no servidor m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r para o diretório /var/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ivar o script que realiza esta tarefa, através do comand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( cd /var/yp ; mak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automounte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tomounter é uma ferramenta que monta diretórios quando eles são acessados e desmonta quando não for mais necess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arquivos de configuração podem ser distribuidos por NIS, facilitando o gerenciamento de d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utras vantagen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arquivos /etc/fstab de cada máquina fica bastante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chances de um processo ficar bloqueado devido a inacessibilidade a um servidor de NFS é bastante reduz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utomounter pode ser configurado a procurar o servidor de NFS mais próximo, de forma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apas do automounte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pa principal : geralmente designado como /etc/auto.master. Contém uma lista com os mapas diretos e pontos de montagem dos mapas indiretos, além de informações sobre os demais m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auto.master - exempl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more /etc/auto.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people/jupiter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auto.home.de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people/darwin      /etc/auto.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-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auto.outros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ro,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apas indiret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more /etc/auto.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dgar   -intr   darwin-gw:/home/adm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berio -intr   darwin-gw:/home/staff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nise  -intr   darwin-gw:/home/staff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per   -intr   darwin-gw:/home/staff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mb     -intr   darwin-gw:/home/staff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intr   darwin-gw:/home/darwin2/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apas diret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more /etc/auto.ou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grass4.1         -intr   einstein:/usr/grass4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tmp/aries       -intr   mendel:/scratch_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aries              -intr   einstein:/usr/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Quota de disc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que prevê o controle do número de blocos e inodes ocupado por cada usuário nos filesystems sob este 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filesystem que terá controle de quota precisa ter um arquivo chamad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sua raiz ( base de dados do sub-sistem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do montado ( no /etc/fstab ) deve ter a opção quota a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licativos de manipulação das quot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otaon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lesyst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indica ao kernel que deve ser feito controle de quotas no filesystem indicado. Pode ser ativado em tempo de boot, de forma que todos filesystems montados com a opção quota passem a ser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otacheck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lesyst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verifica possíveis inconsistências entre a base de dados ( arquiv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cada filesystem ) e o número de blocos/inodes de cada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nix - Serviços do Sistem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ar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cal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ocar / liberar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enciar memória secund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/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dquot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: edita o número de blocos/inodes disponibilizados para cada usuário. Possui dois níveis de contro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mite soft : apenas emite uma mensagem de aviso, permitindo escrita por mais algum tempo ( geralmente 7 dia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mite hard : não permite escrita no disco até que se reduza o número de blocos/i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necessidade de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lanejamento de back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ckup de arquivos e file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 necessidade de backu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e as atividades do administrador, está a tarefa de planejar e executar um sistema eficiente de bac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arquivos podem ser perdidos por falhas do próprio usuário, de algum problema de software ou por algum probl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desastre causado pela perda de um disco pode ser tanto maior quanto pior tiver sido planejado/executado um esquema de bac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Planejamento de backup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is arquivos precisam de back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ão estes arquiv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m irá realizar o backup destes arquiv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,quando e sob quais condições o backup deve ser fei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que freqüência estes arquivos mud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que urgência os arquivos devem ser restaura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Backup completo e incrementa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ckup completo é aquele em que todos os arquivos são colocados em fita magnética (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ull backup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ckup incremental é aquele em que somente os arquivos que foram alterados desde o último backup são armaz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X usa o conceito de níveis de backup. Nível 0 representa u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ull backup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ao passo que os demais níveis são incrementais em relação ao backup de mesmo nível a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emplos de planejament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a segunda-feira do mes: nível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mais segunda-feiras: níve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rça,quarta,quinta,sexta-feira: ní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a-feira: nível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rça,quarta,quinta,sexta-feira: níve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ídi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as magné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as 9 trilhas : máximo 225Mb, caras, len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ucho QIC : de 150Mb até 2Gb, relativamente baratas, lentas e bastante confi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ucho de 8mm e  4mm ( grande capacidade de armazenamento - + do que 5Gb , sensíveis ao ambiente e mais caras ). As de 4mm também são conhecidas como fita 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ídi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oppy disk: muito baratos, pouquissima capacidade de armaze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cos removíveis: não são muito usuais em máquinas UNIX. Armazena tipicamento de 44Mb a 270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cos opticos: armazena de 128Mb a 1,2Gb, são ainda bastante caros e muito conf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Backup de arquivos e filesystem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do usar tar/cpio ou outra ferramenta especial para backup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r e cpio é a escolha natural para arquivos pequenos ou para se fazer um backup de arquivos do própri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ckups de um filesystem inteiro, ou mesmo de um sistema inteiro, requerem uso de ferramentas apropriadas, tais como dump ou b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s usando tar e cp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tar -cf /dev/rmt1 /home /home2 /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tar -xf /dev/r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find /home -print | cpio -o &gt; /dev/r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find /home -mtime -1 ! -name \*.o -print | cpio -o &gt;/dev/r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nceitos Bási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BSD dum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omando dump oferece mais recursos para a realização de bac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dum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ções do dum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-9: nível do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: atualiza o /etc/dumpdates após o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: tamanho da fita 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: densidade da fita em b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: nome do device onde deve ser feito o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s de dum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ckup de nível 2, fita com 2300 pés e 6250 bpi, device = /dev/rmt1 e filesystem a ser realizado o backup = /dev/rdisk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mp 2usfd 2300 /dev/rmt1 6250 /dev/rdisk2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ckup de nível 3 com opções de fita default do diretório /home/ful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mp 3u /home/fu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Restaurando arquivos usando restor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ções de re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: restaura um filesystem comple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x: extrai os arqu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: nome d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: deterrmina qual fita do backup deve ser uti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: modo int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s de restor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restore -x -f /dv/rmt1  fulano/a.out sicrano/teste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restore -if /dev/rm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 &gt;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e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r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cd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crano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ltran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add fu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/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crano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ltrano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tore&gt;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Backups remot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comandos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rdump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rrestor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em o acesso a uma unidade de fita localizada numa máquina rem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tilizam o mesmo protocolo utilizado pelos serviç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s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r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cessita do arquiv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.rhost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representa um problema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rdump 0uf remote_machine:/dev/rst0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mpressor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de usuários para imp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print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pooling dir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aem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administ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roduç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subsistema de impressão apresenta substanciais diferenças entre BSD/Syste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sistema de impressão estilo BS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nOS, IRIX, Digital UNIX, linux e A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sistema de impressão estilo System 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P-UX, SCO, Solaris, IRIX, A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BSD - comandos para impress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r: submete um job para a fila de imp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q: lista jobs na fila de imp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rm: remove um job da fila de imp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d: daemon de imp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c: interface de administ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printca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e arquivo descreve todas as impressoras acessíveis pelo sistema ( locais e remot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rquivo /etc/printcap é um arquivo obrigatório e não apenas uma base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f: PATH do arquivo de con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aud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f: PATH do arquivo de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o: arquivo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p: nome do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devic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nde a impressora está con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d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pooling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h: suprime a página de cabeç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Opçoes do printca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uper Usuár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a privilegiada sem restrição de acesso a todos os comandos 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me deste usuário: 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de acesso a conta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- /etc/printca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impressora serial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p|local|ljIII-1|Local HP LJ III: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lp=/dev/ttyb:sh:lf=/var/adm/lpd-errs: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br#19200:ms=-clocal,crtscts,pass8,-echo,ixon,ixof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# impressora rem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r|users|rima|Rima:\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lp=:rm=kepler:rp=u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Spooling directory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e diretório armazena os arquivos destinados a uma determinada impressora até que o daemon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lp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ossa imprimi-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rmalmente estão localizados em /var/s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da impressora deve ter seu próprio diretório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poo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permissões devem ser: daemon.daemon e 7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lp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pd é o daemon de s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inicializado em tempo de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comum este daemon “travar”. Neste caso, deve-se usar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kill -9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no processo equivalente e reinicializa-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Gerenciando as filas de impress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omando de gerenciamento é o lp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atu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do da impressor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finaliza qualquer impressão pendente e desabilita qualquer impressão nesta impressora. Não remove nenhum job da f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op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para a impressão após a impressão corrente fi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reinicializa a impressão após um abort ou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Gerenciando as filas de impress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sabl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não permite a submissão de jobs, nem para as f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abl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desfaz o d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wn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equivale a stop e d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p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desfaz o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de uso do lpc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$ l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pc&gt;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mands may be abbreviated.  Command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bort   enable  disable help    restart status  topq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ean   exit    down    quit    start   stop   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pc&gt;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uing is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ting is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daemon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uing is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ting is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daemon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pc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blemas comuns e suas soluçõ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mais que se monitore o sistema, problemas vão sempre acont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ça uma lista dos simtomas. Seja quantitativo quando possí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nte as soluções docum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não for possível solucionar o problema, procure auxílio de pessoa mais experiente ou do suporte técnico do fabricante do equip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istema “devagar”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itos arquivos em um mesmo diretório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 alguns arquivos e reorganize 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cos blocos livres no file syst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 determinar quantos blocos livres existem e remova alguns arquivos se for o caso, ou aloque mais esp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ucos inodes liv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f -i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determinar o número de inodes livres. Limpe ou refaça o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manda excessiva dos proces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examinar os processos correntes e, na medida do possível, reorganize as pri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uper Usuár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ssword:           ( não aparece no víde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                        ( prompt do super usuár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isco che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nsagens caracterís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 full, cannot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space left on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amine os diretórios lost+found de cada file system. Remova os fragmentos de arquivos ou mova-os para a área correspon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mova os logs do sistema não necessários, assim como arquivos no /tmp e arquivos de E-mail ( com critério !!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a os usuários a armazenar os arquivos que não estejam sendo usados recentemente. Alguns usuários são convencidos ao verem as estatísticas do sistema. Outros precisam que o sistema fique uma semana for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istema “pindura”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que a conexão do tec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ssione ^Q . Geralmente anula o ^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ssione ^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git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tty san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seguido de ^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ligue o monitor e torne a liga-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gramas sem control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ão aqueles programas que não podem ser parados pelo terminal associado a 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kill -9 no processo correspondente ao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não resolver, reboote 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nde obter maiores informaçõ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sential System Administration, Frisch, El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’Reilly &amp; Associates, I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x System Administration Guide, Reiss, Levi e Radin, Jose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borne McGraw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aging NFS and NIS, Stern, 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’Reilly &amp; Associates, I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 Performance Tuning, Loukides, M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’Reilly &amp; Associates, I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ual de administração do equip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Kerne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Kernel gerencia todos os recursos físicos do compu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 o sistema de arquivos local ou rem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e que os processos criem, leiam, escrevam ou acessem estes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 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aem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ve informações da memória para o disco e vice-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Kerne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ide qual processo deve ocupar a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 os drivers de acesso aos perifé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 o software que implementa os diversos serviços de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 os processos de intercomunicação, tais como 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Kernel - Subsistema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kernel acessa os dados físicos armazenados em mídia magnética através do subsistema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bela de descrição do arquivo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le Descripto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bela de aquivos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l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Kernel - Subsistema de controle de process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kernel gerencia a execução dos processos através deste sub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e de execução do processo (ordem em que devem ser processado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e memória para 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ejamento de execução do processo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do acesso a recursos pelos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uper Usuár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ontrole de acesso está disponível em algumas implementações de Berkeley através do arquiv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/etc/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 grupo root ( wheel em alguns casos ) estão relacionados os usuários que podem usar o comand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ot:*:0:fulano,sic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roduç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cessidade da Administr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dministração de Sistemas é um tipo especial de atividade que envolve integrar os sistemas de computadores com as necessidades da comunidade usuária, de forma efetiva 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é-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hecimentos de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es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Unix – Sistema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arquivos são essenciais no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são arquivos execut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vilégios e permissões são controlados em grande parte através do acesso a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/O de arquivo 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são indiferentes ( em alto níve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unicação entre processos ocorre através de arquivos em muitos ca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istema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utura em árvore, hi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vos com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ém dados (textos, programas, ...) ou imagens execut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o especial, indicam diretórios e arqu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vos espe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m para mapear dispositivos de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istema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ório “HO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da usuário possui o seu próprio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retório inicial ao abrir uma s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ório corrente de trabalh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(current working directo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uário “caminha” na árvore de arquivos, alterando diretório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 ‘cd’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change direct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incipais Diretó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 - contém a raiz do sistema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bin - comandos mais usados n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dev - dispositivos de entrada e saí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 - arquivos para administrar 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lib - bibliotecas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tmp - arquivos temporários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 - diretórios d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incipais Diretó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usr/bin - comandos menos u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lost+found - arquivos que o Unix tenta recuperar quando faz um check-up no sistema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var, /sbin,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Árvore de Diretó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6240" y="17524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86040" y="2743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30160" y="2743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836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0640" y="2743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74640" y="274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560" y="27432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st&amp;f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280" y="27432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488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274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0880" y="2209680"/>
            <a:ext cx="3886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2209320"/>
            <a:ext cx="2895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2209320"/>
            <a:ext cx="2209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95480" y="220932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86200" y="220932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20968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20968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209680"/>
            <a:ext cx="2361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2209680"/>
            <a:ext cx="36576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809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560" y="3809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2360" y="3809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ssw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6840" y="320040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200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320040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0960" y="38098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6400" y="38098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200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3200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880" y="3809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880" y="38098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12408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3124080"/>
            <a:ext cx="1600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ferênci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 como identificar um arquiv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 completa ou absolu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retório raiz: “/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 raiz da árvore ao arquivo ou diretório em qu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parador dos elementos: ‘/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usr/waters/wall/numb.do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ferênci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 relati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minho percorrido a partir do diretório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ório corrente: “.” (ex.: “numb.doc” = “./numb.do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ório pai do corrente: “..” (ex.: “../rush/xanadu.do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e chamadas do sistema usualmente aceitam as duas formas de ref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Nomes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esco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me começa com ponto (exemplo: “.profile”, “.logi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strados com uma opção especial do listador de dire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amanho do 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SD: até 255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 V: até 14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teção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tos (hea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junto de informações fixas sobre um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s: proprietário, grupo, tamanho, data de criação,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prietário: a qual usuário pertence o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ser identifier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criação do arquivo: assume o uid do processo que cria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rodução a Administr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rodução ao Sistema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x - uma visão mais detalhada de arquivos e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erramentas essenciais para administ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ot / Shut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as de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s de arquivos e dis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teção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terável pelo comand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hown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por funçã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: a que grupo de usuários pertence o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oup identifier - g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criação do arquivo: assume o gid do processo que cria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terável pelo comando chgrp e por função c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066680"/>
            <a:ext cx="84423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ls -l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tal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rwxr-xr-x  2 root     wheel         512 Dec 10 19:05 di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root     wheel          23 Dec 10 19:05 file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root     wheel          63 Dec 10 19:05 fil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chown -R edgar.staff di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chgrp staff file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 chown edgar fil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ls -l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tal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rwxr-xr-x  2 edgar    staff         512 Dec 10 19:05 di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root     staff          23 Dec 10 19:05 file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edgar    wheel          63 Dec 10 19:05 fil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empl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ermissões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ermissõe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ad -&gt; leitura do arqu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 -&gt; escrita no arqu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cute -&gt; arquivo 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re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ad -&gt; procura no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 -&gt; alteração nos arquivos do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cute -&gt; tornar o diretório co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mandos chmod e umas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a=r file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u+w,og+r-w file2 fi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-R go-rwx /home/ful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+r * .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754 file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sk 0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umas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z um XOR entre a umask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66 para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77 para diret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lores mais comums:002, 022, 003, 0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0 0 = 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 0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0 1 = 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 1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utros modos de acess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   sticky bi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ntêm o executável em memória após a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   SUI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t user ID na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   SGI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t group ID na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   File Lockin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le locking mandatório em reads/wr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utros modos de acesso para diretó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u+t /tmp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ermite remoção de arquivos apenas quando o usuário for o dono do arqu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mod g+s /pub/dir1 - determina que os arquivos criados sob /pub/dir1 terá o mesmo dono e grupo deste diretório e não d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  ls -lag /tmp |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tal 47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rwxrwxrwt  6 root     wheel       22016 Dec 10 19:22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rwxr-xr-x 22 root     wheel        1024 Nov 16 16:56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lsc      wheel           0 May  8  1995 .FM115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lsc      wheel           0 Jul 14 15:24 .FM126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rock     wheel          53 Dec  6  1994 .FM14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lsc      wheel           0 Oct 14  1994 .FM18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ipos de Arqu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re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especiais ( bloco e caract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ks ( hard e sof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rquivos especiai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o mecanismo usado para I/O pelo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m 2 tipos de arquivos especi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ientado a caracter, onde a transferência de e para o dispositivo é realizada caracter a c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ientado a bloco, onde a transferência é feita em blocos de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lmente estes arquivos estão no diretório /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ota de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FS / auto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Hard Lin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socia dois ou mais nomes de arquivos ao mesmo i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partilha a mesma área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é possível haver hard links entre partiçõe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ymbolic Lin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ão arquivos que atuam como ponteiros para outros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pa um espaço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 apontar para qualquer área do disco, inclusive em outras part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emplo de Lin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$ ls 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ta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1 fulano          29 Nov 20 15:32 fi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$ ln file1 fi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$ ln -s file1 file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$ ls 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tal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2 fulano          29 Nov 20 15:32 fi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rw-r--r--  2 fulano          29 Nov 20 15:32 fi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rwxrwxrwx  1 fulano           5 Nov 20 15:33 file3 -&gt; fi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ocket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arquivo utilizado para comunicação entre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parte do TCP/IP e disponível em todas as versões de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Instalação do Linux</a:t>
            </a:r>
            <a:br>
              <a:rPr sz="44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vide material de Administração Linux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Unix - Process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 é um programa que roda sozinho no seu próprio espaço de endereçamento vir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programa/job pode necessitar de vários processos até seu térm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comando simples ( ls por exemplo ) será executado em apenas 1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ipos de process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s int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inicializados e controlados por uma sessão de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processos submetidos a uma fila e executados sequencialm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m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processos servidores, geralmente inicializado no boot da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cessos interativ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s em foreground são aqueles que estão conectados ao terminal, recebendo e enviando dados diretamente para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s em background não possuem relação direta com um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guns shells permitem a comutação foreground/background através de comandos especiais. Csh, K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tributos dos process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 ID ( P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ent Process ( PP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i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and Effective User ID ( RUID, EU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and Effective Group ID ( RGID, EG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 ciclo de vida de um process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368440"/>
            <a:ext cx="1130400" cy="520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2840" y="2368440"/>
            <a:ext cx="1130400" cy="520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6880" y="3359160"/>
            <a:ext cx="113004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4349880"/>
            <a:ext cx="113004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30560" y="5264280"/>
            <a:ext cx="11304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9360" y="5187960"/>
            <a:ext cx="11304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83040" y="6102360"/>
            <a:ext cx="11304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2590920"/>
            <a:ext cx="14479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486400"/>
            <a:ext cx="68580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0000" y="265284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52320" y="55483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8920" y="2927520"/>
            <a:ext cx="104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4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97320" y="3917880"/>
            <a:ext cx="104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4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4832280"/>
            <a:ext cx="104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4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2927520"/>
            <a:ext cx="78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30840" y="5823000"/>
            <a:ext cx="104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4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97720" y="5746680"/>
            <a:ext cx="104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5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1880" y="24242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88760" y="24242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36840" y="3414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t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37200" y="440532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531972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3400" y="524340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90400" y="61578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rodução a Administração de Sistem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is tarefas do Administrador de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órico do S.O. Uni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V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eley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x – Introdução à Arquite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aforma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Ferramentas essenciais para administraç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 e man -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ipe/g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plicação de uma árvore de dire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aração de dire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il /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on/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pipe/gre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ps -aux|head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ER       PID %CPU %MEM   SZ  RSS TT STAT START  TIME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ps -aux|grep fu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72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5.8  1.9   248  568  p5 R      16:05   0:00 ps -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9796  0.0    0.3   40    88    p5 S      15:32   0:00 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71      0.0    0.9   40    272  p5 S      16:05   0:00 grep fu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lan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9708  0.0    0.0   80    0      p5 IW   15:27   0:00 -csh (c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pipe/gre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ps -elf|head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 S UID PID  PPID  C PRI NI  P  SZ:RSS  WCHAN  STIME TTY  TIME CO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9 S     root     0     0  0  39 RT  *     0:0     8019f270   Nov 16 ? 0:01 s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in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d . -name \*.c -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d /tmp -size +2048 -mtime +30 -exec ls -l {} \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d / -name core -exec rm {} \; -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d / -type f \( -perm -2000 -o -perm 4000 \) -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d /home/fulano -exec chown fulano {} \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exec chgrp fulano_group {} \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uplicando uma árvore de diretó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piar /dir2/olddir para /dir1/new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cd /di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tar -cf - -C /dir2 olddir | tar -xvpf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mv olddir new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C indica que olddir está em di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p mantém as permissões origi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mando tail 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last | 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marit   ttyp0    152.84.252.105   Mon Nov 20 08:10 - 08:28  (00: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ltei    ttyp3    200.9.65.169     Mon Nov 20 08:05 - 09:08  (01: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stilck   ttyp1    fsc07.fsc.ufsc.b Mon Nov 20 08:05 - 08:10  (00: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sc       ttyp0    200.17.171.65    Mon Nov 20 08:03 - 08:06  (00: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ge      ttyp0    vortex.ufrgs.br  Mon Nov 20 08:01 - 08:01  (00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na     ttyp1    guaiba.emater.tc Mon Nov 20 07:53 - 07:54  (00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inheiro  ttyp1    143.54.22.40     Mon Nov 20 07:41 - 07:41  (00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stilck   ttyp0    fsc06.fsc.ufsc.b Mon Nov 20 07:38 - 07:57  (00: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tmp begins Mon Nov 20 07: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f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lesystem            kbytes    used   avail capacity  Mount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0a              14983    9368    4117    69%   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0g             349788  283035   31775    90%    /u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4f             282175  250571    3387    99%    /usr/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4a              94063    2032   82625     2%    /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4d              94063   71061   13596    84%    /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4b              37479   19155   14577    57%    /var/l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0h             217648  128656   67228    66%    /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6c            1255494 1087262   42683    96%    /home/dar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4h             462807  331558   84969    80%    /home/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/dev/sd2c            1255494 1010919  119026    89%    /home/darw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r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a comandos em datas e horários pré-especifi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tiliza um arquivo de regras para determinar quando deve executar os coma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on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rontab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in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a do mê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a da se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-se usar aster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diff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parador diferencial de arquivos re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torna os comandos necessários para refazer o arquivo2 a partir do arquiv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ff arq1 ar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incipais tarefas do Administrador de Sistem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dastramento de novos usuários e remoção de ant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unicação com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oio a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ckups e restauração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ção e finalização do sistema de forma adequada ( boot e shutdow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danças na configuração de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cópia de arquivos utilizando vários form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 a conversão do tamanho de bloco, ASCII para EBCDIC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útil para transferências de arquivos de disco rígido para fita mag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gramação Shel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 simples: sequência de palavras separadas por espaços, onde a primeira palavra é o comando a ser execu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ipeline: sequência de 1 ou mais comandos separados por bar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gramação: qualquer shell provê estruturas de controle que combinam instruções individuais ou comandos para satisfazer uma necess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Boot / Shutdow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gle user / multi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íveis de boot ( System V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s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ot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ash d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vos de inici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hut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nc / h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 processo de boo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cução dos comandos armazenados na memória não volátil ( ROM/ NVRAM/ FIRMWARE ) quando a máquina é l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ga do programa de boot do disco rígido/CDROM/fita magnética ou pela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grama de boot carrega o kernel na memória e passa o controle para 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kernel inicializa suas tabelas internas e termina o diagnóstico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fim, passa o controle para o processo número 1 ( ini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emplo de boo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nOS Release 4.1.3 (GENERIC) #3: Mon Jul 27 16:43:54 PDT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pyright (c) 1983-1992, Sun Microsystem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m = 16384K (0x100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vail mem = 14311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thernet address = 8:0:20:3:f5: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u = SUNW,Sun 4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s0 at obio 0xf1000000 pri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s1 at obio 0xf0000000 pri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dio0 at obio 0xf7201000 pri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bus0 at SBus slot 0 0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ma0 at SBus slot 0 0x4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0 at SBus slot 0 0x800000 pri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0 at esp0 target 3 lu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d0: &lt;SUN0207 cyl 1254 alt 2 hd 9 sec 3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0 at SBus slot 0 0xc00000 pri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wtwo0 at SBus slot 3 0x0 pri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dc: no RQM - stat 0x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dc: no RQM - stat 0x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d0 at obio 0xf7200000 pri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ot on sd0a fstype 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wap on sd0b fstype spec size 3272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ump on sd0b fstype spec size 3271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ini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processo init inicializa todos os demais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o estado dos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nta os discos l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quotas de d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 os daem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bilita o login d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ulti user / single use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do o sistema esta pronto para aceitar logins dos usuários e com toda a inicialização realizada, diz-se que ele está em 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ngle user: atividades administrativas e de manutenção que requerem controle total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níveis de boot ( System V )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ligado; single user; multi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 V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un lev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0 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0 -&gt; desli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 ou S -&gt; singl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 -&gt; multi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 -&gt; multi user com N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 -&gt; estado definido loc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 -&gt; diag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 -&gt; reboot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boot manual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cessível pelo prompt do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ot -s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para single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ot: dos     para bootar dos em SCO/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ot -f s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ash: boot dksc()unix.save initstate=s par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ot em single user em I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ação da atividade do sistema e ajuste para máximo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ção de novas versões de softw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enciar o espaço em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ever scripts de automação de tare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ência da segur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ção e Configuração da máqu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incipais tarefas do Administrador de Sistem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sc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le system check: utilitário que verifica a integridade dos fi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tecta e corrige automaticamente pequen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oda automaticamente sempre que a máquina não for desligada através de um shut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s casos em que o problema é mais sério, coloca o sistema em singl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com fsck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rwin# fsck /dev/rsd4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/dev/rsd4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Currently Mounted on /ex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Phase 1 - Check Block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Phase 2 - Check Path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Phase 3 - Check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Phase 4 - Check Reference 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 Phase 5 - Check Cy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148 files, 65266 used, 28797 free (189 frags, 3576 blocks, 0.2% fragmen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rquivos de inicializaç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S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  e  /etc/rc.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yste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init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0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rc2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etc/init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ystem V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5080" y="3511440"/>
            <a:ext cx="10540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8960" y="274968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8960" y="419724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8960" y="564516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25640" y="343548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5640" y="480708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54440" y="374004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54440" y="427356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54440" y="480708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64480" y="1454040"/>
            <a:ext cx="10540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64480" y="198756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64480" y="252108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4480" y="305424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2895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2895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35812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5029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36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3886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819520" y="4419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40080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400800" y="1676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16765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400800" y="2133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0080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8954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5029200"/>
            <a:ext cx="297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8686800" y="213336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924320" y="21337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4197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8458200" y="274284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924680" y="27432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8229600" y="3276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92432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3124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38098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51814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038480" y="3276720"/>
            <a:ext cx="0" cy="2209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32767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6254640"/>
            <a:ext cx="105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23520" y="6400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23880" y="5867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51814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429000" y="5715000"/>
            <a:ext cx="1752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9000" y="57150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4320" y="3484440"/>
            <a:ext cx="623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12600" y="2728800"/>
            <a:ext cx="81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t.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90000" y="4176720"/>
            <a:ext cx="80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0.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13680" y="5624640"/>
            <a:ext cx="80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2.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78560" y="3414600"/>
            <a:ext cx="96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tt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3000" y="478620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3000" y="623412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30680" y="3759120"/>
            <a:ext cx="107604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75c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08080" y="4299120"/>
            <a:ext cx="82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85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31400" y="4832280"/>
            <a:ext cx="93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87n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94440" y="193680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47800" y="2546280"/>
            <a:ext cx="3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70760" y="307980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71480" y="140328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hutdow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os usuários são not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os processos rodando recebem um sinal para termina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os usuários restantes sã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gged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idade dos file systems é man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endendo do shutdown, o sistema pode ir para single user; halt ou re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Exemplo shutdow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 shutdown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hutdown at 11:56 (in 0 minutes) [pid 500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*** FINAL System shutdown message from edgar@linus *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ystem going down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oadcast Message at 11:56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** FINAL Shutdown message for linus from edgar@linus 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us going dow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 shutdown time has ar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sync / hal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ync: garante que todas as transações de discos serão terminadas e que o sistema poderá ser desligado sem que nenhum arquivo seja da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lt: para o sistema completamente, retornando para o prompt do monitor. Em alguns casos pode ser ativado manu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tas de usuá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o de criação de um nov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tas de usuários - introduçã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uário do ponto de vista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rname / log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ID -&gt; user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ID -&gt; group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pass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etc/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istórico do Sistema Operacional Unix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6880" y="1911240"/>
            <a:ext cx="11300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7440" y="2749680"/>
            <a:ext cx="1206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5440" y="2749680"/>
            <a:ext cx="11304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4960" y="3511440"/>
            <a:ext cx="11304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7440" y="3892680"/>
            <a:ext cx="1206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7440" y="4654440"/>
            <a:ext cx="12826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7440" y="5340240"/>
            <a:ext cx="12826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7440" y="6178680"/>
            <a:ext cx="12826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7760" y="6102360"/>
            <a:ext cx="11304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5440" y="4578480"/>
            <a:ext cx="11304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5440" y="5264280"/>
            <a:ext cx="11304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5440" y="6178680"/>
            <a:ext cx="11304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09680" y="1967040"/>
            <a:ext cx="12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ão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6560" y="2805120"/>
            <a:ext cx="12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ão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2960" y="3994200"/>
            <a:ext cx="1251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I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3680" y="475632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V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73680" y="544212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V.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3680" y="6197760"/>
            <a:ext cx="137160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V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43560" y="6157800"/>
            <a:ext cx="97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F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5520" y="3567240"/>
            <a:ext cx="112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57920" y="2805120"/>
            <a:ext cx="77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3120" y="460368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B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3120" y="528948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3 B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480" y="220968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27672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2096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2760" y="6197760"/>
            <a:ext cx="1060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4 B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510552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57913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2767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181480"/>
            <a:ext cx="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5867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400" y="34290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86400" y="30481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30481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04812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819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19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486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197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562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57150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5715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6400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733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3733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cesso de criação de um novo usuário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terminar o nome do usuário ( username ), o UID ( identificação numérica do usuário ) e o grupo primário a qual ele vai perte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car estas informações em /etc/passwd e /etc/group ( eventualmente em outros arquivos também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terminar uma senha para este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9144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justar outros parâmetros da conta ( data de expiração, período de troca de senha, privilégios e limite de uso de recurso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iar um diretóri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hom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locar arquivos de inicialização neste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ar chown e chgrp neste diretório para que o usuário seja 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own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seus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justar os sistemas de quotas, de mail e de impr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star a nova co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O arquivo passw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lano: Afdk8sdfj8l!4 :1001:2000:Fulano da Silva:/home/fulano:/bin/c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lano: nome do usuário / use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fdk8sdfj8l!4 : senha / password criptograf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001: identificação numérica do usuário ( U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000: identificação numérica do grupo a qual o usuário per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lano:Afdk8sdfj8l!4:1001:2000:Fulano da Silva:/home/fulano:/bin/c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lano da Silva: nome completo do usuário. Em alguns sistemas outras informações são armazenadas ( telefone,departamento ) e conhecidas por campos GECOS ou G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home/fulano: diretório HOME d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/bin/csh: shell do usuário. /bin/csh ; /bin/sh ;  /bin/k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passw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ot:dljJwtjUjoQM6:0:1:Operator:/:/bin/c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body:*:65534:65534::/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emon:*:1:1::/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ys:*:2:2::/:/bin/c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n:*:3:3::/b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ucp:*:4:8::/var/spool/uucp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ws:*:6:6::/var/spool/news:/bin/c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gres:*:7:7::/usr/ingres:/bin/c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dit:*:9:9::/etc/security/audit:/bin/c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::0:0: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eterminando senhas para os usuá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os usuários DEVEM ter senh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 passwd / yppass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nha de root / mudanças periód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nhas devem ser fáceis de serem lembradas e difíceis de serem descobe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usuários devem ser alertados sobre uma boa escolha de s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enhas que não devem ser usada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quer parte nome do usuário ou de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úmeros significativos ( CI/CPF/telefon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 de coisas significativas para o usuário ( hobby,tim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avras em inglê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s de pessoas fam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has publicadas como ex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gras para criar uma boa senh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ir caracteres espe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dar a ort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car letras maiúsc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tenar palavras em uma 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r as primeiras letras de uma f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Shadow password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nha não fica disponível no /etc/pass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ermissões do /etc/pass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 ls -l /etc/passs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rw-r--r--  1  root   system     4096  Apr  1  1995   /etc/pass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ermissoes do /etc/sha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ls -l /etc/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rw-------  1  root   system     4096  Apr  1  1995   /etc/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ssword 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movendo usuári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dar a senha ( ou desabilita-la com *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rminar todos os processos rodando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mover o usuário de todos os grupos associados a 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mover o arquivo de E-mail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mover algum alias de E-mail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zer um backup do diretório HOME e depois remove-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lataformas diferentes 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nOS / Solar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keley / System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ystem V com algumas características de OSF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 Hat / Slack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ystem V /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Grupos Unix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canismo para que vários usuários possam compartilhar arquivos de uso co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 implícito: aquele determinado pelo GID em /etc/passwd ( grupo primár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 explícito: aquele(s) determinados por entradas em /etc/group ( grupo(s) secundário(s)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/etc/grou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m:*:100:fulano,sicrano,belt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m: nome do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*: campo utilizado por versões antigas de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00: número identificador do grupo ( GI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lano,sicrano,beltrano: usuários que tem acesso a este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ais sobre grup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id=2000 (fulano) gid=100 (ad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m qui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newgrp qui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$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id=2000 (fulano) gid=134 (qui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Usuários padrõ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on,mail,news,use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Grupos padrõ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tem,root,wheel ( em algumas implementações pode restringir o uso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os usuários pertencentes a este grup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mem,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on,mail,uucp,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r,users,other,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istemas de arquivos e dis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refas relacionadas a administração de file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rnar arquivos locais e remotos disponíveis para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itorar e gerenciar o espaço em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rantir a segurança através da limitação d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figurar e instalar novos discos ríg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ópi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ntando e desmontando file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lação disco &lt;-&gt; 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icionando discos/CDROM/flo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ontando e desmontando filesystem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ntar é o processo que torna o conteúdo do disco disponível para o sistema, inserindo-o na árvore de dire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montar é o processo inverso. O diretório raiz não pode ser desmo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existe nenhuma relação entre diretórios e filesystems ( um filesystem pode ser montado em qualquer diretór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venções para nome de disco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IX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/dev/h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P-UX 10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dsk/c0t2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nOS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sd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laris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dsk/c0t1d2s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 OSF/1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rz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RIX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dsk/dks0d2s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ux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sda1 ou /dev/hda1 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CO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/dev/hd1 ou /dev/dsk/1s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mount / umou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ão os comandos para montar e desmontar sistemas de arquivos ( filesystem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 mkdir /users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 mount /dev/dsk/c1d1s8 /users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# umount /users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17:36:36Z</dcterms:created>
  <dc:creator>benso</dc:creator>
  <dc:description/>
  <dc:language>en-US</dc:language>
  <cp:lastModifiedBy>fgb</cp:lastModifiedBy>
  <dcterms:modified xsi:type="dcterms:W3CDTF">1999-04-14T01:40:57Z</dcterms:modified>
  <cp:revision>13</cp:revision>
  <dc:subject/>
  <dc:title>Administração de Sistemas Unix</dc:title>
</cp:coreProperties>
</file>