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6E4-9600-4774-93FC-C1F57C91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5F5-29AA-4E6E-94F8-DC1E15E5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16F-3851-4EEF-9D6E-7D98A62A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C61-5BFC-4885-BA55-2FB5392A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511-8B4D-471E-9ED2-AB95B53A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DF7-2FF5-4794-ACB5-0A9DE514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1E0-BDA6-4394-B92A-56B69C01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7B0-CEEE-4911-BEA9-556263B1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BE6-6A0B-4087-BBF3-11216B76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2E6-D3CB-4BFB-96F7-EABB46FE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9A3-2CF7-459C-8CB2-7DF8A0CF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8AF-DBF6-4DA7-BF1F-58915CFF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93C9-F0D4-4E7A-B3F7-4B4AD7C673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Administração Linu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Startup and Shutdow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tar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erifica hardware devices para encontrar o dispositivo de 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rrega e incia o programa de boot armazenado no MBR (master boot record) e passa o controle ao programade 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INUX: BIOS encontra o MBR que contém o LILO, por exemp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LO procura pelo /etc/lilo.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LO executa o segundo estágio do boot carregando o /boot/boot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Startup and Shutdow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imagem do kernel contém um pequeno e não comprimido programa que descomprime a porção do kernel e a ex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Kernel procura pelas informações do sistema , incluindo tipo da CPU e veloc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s  drivers procuram por outros tipos de hardware e os config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kernel então monta o root filesystem no modo read-only e executa o fs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kernel executa o processo init executando /sbin/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/etc/lilo.conf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lobal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-Image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28195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9480" y="1752480"/>
            <a:ext cx="2853720" cy="30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oot=/dev/h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p=/boot/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stall=/boot/boot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m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imeout=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ssage=/boot/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fault=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133720"/>
            <a:ext cx="990720" cy="380880"/>
          </a:xfrm>
          <a:custGeom>
            <a:avLst/>
            <a:gdLst>
              <a:gd name="textAreaLeft" fmla="*/ 154800 w 990720"/>
              <a:gd name="textAreaRight" fmla="*/ 866880 w 9907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9200" y="4495680"/>
            <a:ext cx="33019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mage=/boot/vmlinuz-2.2.16-22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abel=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ad-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oot=/dev/hd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ther=/dev/hd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abel=ms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1980720" y="3733560"/>
            <a:ext cx="838080" cy="38124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Lil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cutando o LI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sbin/l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cura pelo arquivo /etc/lilo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sbin/lilo –r /mnt/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roca o diretório root para o diretório ind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sbin/lilo –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move o lilo do M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LOADLI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ando o LOAD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cutável DOS para inicialização do boot do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:\ loadlin c:\vmlinuz root=/dev/hdb1 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ando uma RAM disk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:\ loadlin c:\vmlinuz root=/dev/ram rw initrd=c:\rootdsk.g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ando um floppy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:\ loadlin c:\image root=/dev/fd0 rw ramdisk=14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TCP/IP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figurando o TCP/IP man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# hostname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&lt;nome&gt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BS: no reboot o nome será pa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qu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/etc/ho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/etc/sysconfig/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/etc/h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ivando uma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# ifconfig interface [options] [addres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TCP/IP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Times New Roman"/>
              </a:rPr>
              <a:t>3)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bela de Rote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oute [add | del] [target] [gw gatewa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Times New Roman"/>
              </a:rPr>
              <a:t>4)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st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Revisã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rganização de Diretó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/, /etc, /dev, /usr, /lib,  /bin, /root, /boot, /usr/lib, /usr/bin, /usr/local, /usr/sbin, /sbin, /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ipos de File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t2fs, ext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elhorar desempenho, robustez e flexibil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porta nome s de arquivos de 255 caracteres e um file system de 4 G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blemas procedurais permaneceram, pelo tipo de organização dos diretórios e arqu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Filesyste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lução: padronização do FSSTDN – padrão de hierarquia para um filesystem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SSTDN aplica-se ao LINUX e não pode ser usado em redes com diferentes sistemas operacion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ilesystem Hierarchy Standars (FHS), inicado em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formidade a uam estrutura hierarqu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rata arquivos de dados consiste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clui mecanismos de proteçã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Filesyste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t3fs, ext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ilesystem Nativo: 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“Traditional”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“Journal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Tradition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rivados de tecnologias dos anos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ecessidade de executar a verificação extensiva dos filesystem se a máquina não for desligada de forma “norm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“fsck” é utilizado para verificar as inconsistências ocorridas pela “desmontagens” impróp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Journal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discos grandes o fsck levará muito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Journal: é uma lsita de oeprações pen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Filesyste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lterações do disco são documentadas n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lterações consistentes fazem com que 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seja apa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casos de operaçõe imcompletas o sistema conhece quais estruturas srão afetadas, pois estão regist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ext3 é um ext2 filesystem com a adição d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inimizar o tempo do fs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Particionament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onamento do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inux – Red 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ceita 4 partições – 4a. Partição = exten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a partição extendida podem ser criadas partições 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iretórios que devem ficar na mesma part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/, /usr/, /etc, /lib, /bin, /dev, /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Área de Sw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comendação SUN, 2x e ½ a 3x o tamanho da 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pende do tamanho das aplic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om senso para estações com muita mem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Particionament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elh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tenha o esquema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tenha daos relacionados j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pare sistemas operacioanis em discos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sole dados cr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loque o Linux Kernel em cilindros abaixo do 10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linux não consegue executar o boot se o kernel estiver acima do cilindro 102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lução: criar uma pequena partição de 5 a 20 Mb para o /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ersões mais recentes não tem este problema (RH 7.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Particionament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dis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: fdisk /dev/h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ções prim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ceita criação de partições 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umeradas de 1 a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tições lógicas são numeradas a partir do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iando um file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kfs [-t fsname] [oprtions] device [siz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Adição e Troca de disco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riando um FAT filesystem em um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flop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kfs.msdos /dev/f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kformat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icionando um disco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ocando um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 não podem ser adicioanados novos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sconetar CD-ROM ou ZIP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pie os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ltere /etc/fs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rie um disco com DOS boot e coloque o Linux Kernel e o LOADLIN.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oot com o disquete e digite LOADLIN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MLINUX root=/device 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dite o /etc/lilo.co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3:03:15Z</dcterms:created>
  <dc:creator>fgb</dc:creator>
  <dc:description/>
  <dc:language>en-US</dc:language>
  <cp:lastModifiedBy>fgb</cp:lastModifiedBy>
  <dcterms:modified xsi:type="dcterms:W3CDTF">2002-04-08T15:05:13Z</dcterms:modified>
  <cp:revision>5</cp:revision>
  <dc:subject/>
  <dc:title>Administração Linux</dc:title>
</cp:coreProperties>
</file>