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A0BE-515C-44F2-B032-3536D06E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FF0AF-97C2-4E80-89EA-2C1D181A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83D2F-9E86-445A-9574-E0F809D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BFC8-FD8A-40CD-8541-3AA3FD27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7800-DCC1-44D8-9D55-D073930C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BE8D-D39F-4A34-B6A1-AE92A09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B14F9-99A1-499F-95DC-1BCE908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4A9D3-E2BE-4117-88EF-A6BA51D4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382E-EA40-4B5F-AA6B-40ED407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8EA8B-E011-4C69-A1DE-6330B8E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05E0B-9C30-4D19-A704-71CB63CF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35A7-FD59-48B0-9B3E-F4C5846A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Verdana"/>
              </a:rPr>
              <a:t>Gerência de Redes                          Profa. Ana Ben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F2D8-C95A-499C-97D0-8AE22E04835B}" type="slidenum"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DNS</a:t>
            </a:r>
            <a:br>
              <a:rPr sz="4400"/>
            </a:br>
            <a:r>
              <a:rPr b="0" i="1" lang="pt-BR" sz="4400" spc="-1" strike="noStrike">
                <a:solidFill>
                  <a:srgbClr val="f8f8f8"/>
                </a:solidFill>
                <a:latin typeface="Times New Roman"/>
              </a:rPr>
              <a:t>Domain Name Syste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4266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iplina: Gerência de R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a. Ana Cristina Benso da Si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 byte – con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 máximo de um label: 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 g e m i n i 3 t u c 4 n o a o 3 e d u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A, A, NS, CNAME, PTR, HINFO, MX, AX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y class (1 – Internet Ad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19320" y="4191120"/>
            <a:ext cx="5105160" cy="380880"/>
            <a:chOff x="1219320" y="4191120"/>
            <a:chExt cx="5105160" cy="380880"/>
          </a:xfrm>
        </p:grpSpPr>
        <p:sp>
          <p:nvSpPr>
            <p:cNvPr id="209" name=""/>
            <p:cNvSpPr/>
            <p:nvPr/>
          </p:nvSpPr>
          <p:spPr>
            <a:xfrm>
              <a:off x="1219320" y="41911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95480" y="41911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9880" y="41911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41911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5880" y="41911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Resource Records – Response Messag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mai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formato utilizado na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1 (Internet Add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 de dias que pode ficar na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ource leng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ourc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Implementação e Configuração - UNIX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med  (dea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s de Configur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.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.rev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.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etc/resolv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91360" y="6080040"/>
            <a:ext cx="609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harvolant.org/~doug/network/html/node10.html#SECTION0006423000000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roblemas do DN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nd passa a implementar criptografia e autenticaç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caramento de ser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ga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Round-Robin para distribuição das consultas loc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ros de Configu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mer:  “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server is listed in the NS records for some domain and in fact it is not a server for that dom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ndo arquivo ppt sobre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ágina da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dns.net/dns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ferências aos livros mais recomen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ietf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FC´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dnssec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icann.org/committees/security/dns-security-update-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etf.org/internet-drafts/draft-ietf-dnsext-dns-threats-06.txt (02/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ans.org/r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cer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do em redes TCP/IP para mapear nomes simbólicos em endereços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e de dados distribu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aplicação tem acesso ao DNS através d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esol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hostby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hostby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FC´s: 1034, 1035, 17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ceitos Básic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057400"/>
            <a:ext cx="60984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520" y="1828800"/>
            <a:ext cx="3962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00200" y="1828800"/>
            <a:ext cx="2819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38280" y="1828800"/>
            <a:ext cx="198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76720" y="182880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266720" y="1752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828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8288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82880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82880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828800"/>
            <a:ext cx="4190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1430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1722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49568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6576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05740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81952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-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71240" y="2743200"/>
            <a:ext cx="457560" cy="228600"/>
            <a:chOff x="1371240" y="2743200"/>
            <a:chExt cx="457560" cy="228600"/>
          </a:xfrm>
        </p:grpSpPr>
        <p:sp>
          <p:nvSpPr>
            <p:cNvPr id="136" name=""/>
            <p:cNvSpPr/>
            <p:nvPr/>
          </p:nvSpPr>
          <p:spPr>
            <a:xfrm flipH="1">
              <a:off x="137124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360" y="2743200"/>
            <a:ext cx="457560" cy="228600"/>
            <a:chOff x="2133360" y="2743200"/>
            <a:chExt cx="457560" cy="228600"/>
          </a:xfrm>
        </p:grpSpPr>
        <p:sp>
          <p:nvSpPr>
            <p:cNvPr id="140" name=""/>
            <p:cNvSpPr/>
            <p:nvPr/>
          </p:nvSpPr>
          <p:spPr>
            <a:xfrm flipH="1">
              <a:off x="213336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23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047760" y="2743200"/>
            <a:ext cx="457560" cy="228600"/>
            <a:chOff x="3047760" y="2743200"/>
            <a:chExt cx="457560" cy="228600"/>
          </a:xfrm>
        </p:grpSpPr>
        <p:sp>
          <p:nvSpPr>
            <p:cNvPr id="144" name=""/>
            <p:cNvSpPr/>
            <p:nvPr/>
          </p:nvSpPr>
          <p:spPr>
            <a:xfrm flipH="1">
              <a:off x="304776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62160" y="2743200"/>
            <a:ext cx="457560" cy="228600"/>
            <a:chOff x="3962160" y="2743200"/>
            <a:chExt cx="457560" cy="228600"/>
          </a:xfrm>
        </p:grpSpPr>
        <p:sp>
          <p:nvSpPr>
            <p:cNvPr id="148" name=""/>
            <p:cNvSpPr/>
            <p:nvPr/>
          </p:nvSpPr>
          <p:spPr>
            <a:xfrm flipH="1">
              <a:off x="396216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240" y="2743200"/>
            <a:ext cx="457560" cy="228600"/>
            <a:chOff x="4800240" y="2743200"/>
            <a:chExt cx="457560" cy="228600"/>
          </a:xfrm>
        </p:grpSpPr>
        <p:sp>
          <p:nvSpPr>
            <p:cNvPr id="152" name=""/>
            <p:cNvSpPr/>
            <p:nvPr/>
          </p:nvSpPr>
          <p:spPr>
            <a:xfrm flipH="1">
              <a:off x="480024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920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638320" y="2743200"/>
            <a:ext cx="457560" cy="228600"/>
            <a:chOff x="5638320" y="2743200"/>
            <a:chExt cx="457560" cy="228600"/>
          </a:xfrm>
        </p:grpSpPr>
        <p:sp>
          <p:nvSpPr>
            <p:cNvPr id="156" name=""/>
            <p:cNvSpPr/>
            <p:nvPr/>
          </p:nvSpPr>
          <p:spPr>
            <a:xfrm flipH="1">
              <a:off x="56383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6728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629040" y="2743200"/>
            <a:ext cx="457560" cy="228600"/>
            <a:chOff x="6629040" y="2743200"/>
            <a:chExt cx="457560" cy="228600"/>
          </a:xfrm>
        </p:grpSpPr>
        <p:sp>
          <p:nvSpPr>
            <p:cNvPr id="160" name=""/>
            <p:cNvSpPr/>
            <p:nvPr/>
          </p:nvSpPr>
          <p:spPr>
            <a:xfrm flipH="1">
              <a:off x="662904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67120" y="2743200"/>
            <a:ext cx="457560" cy="228600"/>
            <a:chOff x="7467120" y="2743200"/>
            <a:chExt cx="457560" cy="228600"/>
          </a:xfrm>
        </p:grpSpPr>
        <p:sp>
          <p:nvSpPr>
            <p:cNvPr id="164" name=""/>
            <p:cNvSpPr/>
            <p:nvPr/>
          </p:nvSpPr>
          <p:spPr>
            <a:xfrm flipH="1">
              <a:off x="74671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8305560" y="2743200"/>
            <a:ext cx="457560" cy="228600"/>
            <a:chOff x="8305560" y="2743200"/>
            <a:chExt cx="457560" cy="228600"/>
          </a:xfrm>
        </p:grpSpPr>
        <p:sp>
          <p:nvSpPr>
            <p:cNvPr id="168" name=""/>
            <p:cNvSpPr/>
            <p:nvPr/>
          </p:nvSpPr>
          <p:spPr>
            <a:xfrm flipH="1">
              <a:off x="830556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45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4520" y="27432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534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45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53280" y="396252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53280" y="3124080"/>
            <a:ext cx="68580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u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37000" y="1219320"/>
            <a:ext cx="3125520" cy="459720"/>
            <a:chOff x="837000" y="1219320"/>
            <a:chExt cx="3125520" cy="459720"/>
          </a:xfrm>
        </p:grpSpPr>
        <p:sp>
          <p:nvSpPr>
            <p:cNvPr id="177" name=""/>
            <p:cNvSpPr/>
            <p:nvPr/>
          </p:nvSpPr>
          <p:spPr>
            <a:xfrm>
              <a:off x="837000" y="1219320"/>
              <a:ext cx="229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33"/>
                  </a:solidFill>
                  <a:latin typeface="Times New Roman"/>
                </a:rPr>
                <a:t>Raíz – sem 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1295280"/>
              <a:ext cx="838440" cy="304920"/>
            </a:xfrm>
            <a:prstGeom prst="rightArrow">
              <a:avLst>
                <a:gd name="adj1" fmla="val 50000"/>
                <a:gd name="adj2" fmla="val 68743"/>
              </a:avLst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19320" y="3123720"/>
            <a:ext cx="7086600" cy="688680"/>
            <a:chOff x="1219320" y="3123720"/>
            <a:chExt cx="7086600" cy="688680"/>
          </a:xfrm>
        </p:grpSpPr>
        <p:sp>
          <p:nvSpPr>
            <p:cNvPr id="180" name=""/>
            <p:cNvSpPr/>
            <p:nvPr/>
          </p:nvSpPr>
          <p:spPr>
            <a:xfrm>
              <a:off x="4084560" y="33526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66"/>
                  </a:solidFill>
                  <a:latin typeface="Times New Roman"/>
                </a:rPr>
                <a:t>1o. ní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610160" y="-266760"/>
              <a:ext cx="304920" cy="70866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84680 h 7086600"/>
                <a:gd name="textAreaBottom" fmla="*/ 6901920 h 70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14400" y="3124080"/>
            <a:ext cx="5245920" cy="3505320"/>
            <a:chOff x="914400" y="3124080"/>
            <a:chExt cx="5245920" cy="3505320"/>
          </a:xfrm>
        </p:grpSpPr>
        <p:sp>
          <p:nvSpPr>
            <p:cNvPr id="183" name=""/>
            <p:cNvSpPr/>
            <p:nvPr/>
          </p:nvSpPr>
          <p:spPr>
            <a:xfrm>
              <a:off x="2590200" y="4876920"/>
              <a:ext cx="35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6699"/>
                  </a:solidFill>
                  <a:latin typeface="Times New Roman"/>
                </a:rPr>
                <a:t>33.13.252.140.in-addr.ar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1600" y="495288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3124080"/>
              <a:ext cx="380880" cy="35053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41960" y="3352680"/>
            <a:ext cx="1935360" cy="459720"/>
            <a:chOff x="6141960" y="3352680"/>
            <a:chExt cx="1935360" cy="459720"/>
          </a:xfrm>
        </p:grpSpPr>
        <p:sp>
          <p:nvSpPr>
            <p:cNvPr id="187" name=""/>
            <p:cNvSpPr/>
            <p:nvPr/>
          </p:nvSpPr>
          <p:spPr>
            <a:xfrm>
              <a:off x="6141960" y="33526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50021"/>
                  </a:solidFill>
                  <a:latin typeface="Times New Roman"/>
                </a:rPr>
                <a:t>2o. ní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35053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Zon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zona é uma subárvore de um domínio administrada separa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utoridade de uma 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ar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condar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tenção de infor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Zone Transfer – secundário obtém informaçõe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do servidor pri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ões perió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rvidor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ar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itário (Author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condar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Autoritário (Nonauthor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c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ame 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ém nomes recentemente res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e tráfego (custo para r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7400" y="571500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ualização das Inform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DNS Cach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ormações em cache são marcadas com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onauthori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reqüência de alterações de nomes é ba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alizações periód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permanência de uma informação na cache é determinada pelo TTL atribuído pelo servidor pri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dor descarta informações v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 no servidor Primário informações no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01520" y="6200640"/>
            <a:ext cx="476172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d7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Grande Timeout x Pequeno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sult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ulta distribuída auto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olve a re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: mascaramento de serv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ulta distribuída não é auto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olve endereço de servidores que podem re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Formato da Mensage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tion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ags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ber of questions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ber of answers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ber of authority RRs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nber of additional RRs (16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477120" y="1828800"/>
            <a:ext cx="2054160" cy="2590920"/>
            <a:chOff x="6477120" y="1828800"/>
            <a:chExt cx="2054160" cy="2590920"/>
          </a:xfrm>
        </p:grpSpPr>
        <p:sp>
          <p:nvSpPr>
            <p:cNvPr id="202" name=""/>
            <p:cNvSpPr/>
            <p:nvPr/>
          </p:nvSpPr>
          <p:spPr>
            <a:xfrm>
              <a:off x="7152840" y="289548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50021"/>
                  </a:solidFill>
                  <a:latin typeface="Verdana"/>
                </a:rPr>
                <a:t>12 by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1828800"/>
              <a:ext cx="380880" cy="2590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7320 h 2590920"/>
                <a:gd name="textAreaBottom" fmla="*/ 252360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Flag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R (0 – query, 1 -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A (authoritative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C (trun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D (recursion des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 (recursion avai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Zero (3 b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code (return code) (error, nam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00:50Z</dcterms:created>
  <dc:creator>fgb</dc:creator>
  <dc:description/>
  <dc:language>en-US</dc:language>
  <cp:lastModifiedBy>CPSE</cp:lastModifiedBy>
  <dcterms:modified xsi:type="dcterms:W3CDTF">2004-03-25T17:53:36Z</dcterms:modified>
  <cp:revision>18</cp:revision>
  <dc:subject/>
  <dc:title>DNS Domain Name System</dc:title>
</cp:coreProperties>
</file>