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2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CE1-7010-456B-A6D4-164F9737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996-3834-4B35-9C7C-279A0DE4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85F8-185B-44B2-9AD3-F9787B44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CEAC-F4F2-46E3-B27D-04BD6BFD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B2DE-A364-44AF-94FC-8219B67E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930C-9BCD-46E6-8B5E-9F829595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D733-051C-4AF6-9003-EF716439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9907-5C35-4FCE-B2A7-F6A246B4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FA89-3624-4C73-94C3-25DB05C6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3432-C67F-485E-9555-492DE8F5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D999-2E1D-4A0E-BD0C-CF139BFA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C8F-4AF3-4D02-9C2B-A320276C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191D-3075-4C17-AA08-C7E121C6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8555-AD2C-4218-A066-06014051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F075-E207-4311-BAF2-B3D964A6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D254-A328-4F96-B3D9-A6DF2169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20B8-8C78-4670-90AE-4B9B60B5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BCA9-C78D-4ACD-8819-8D4AB97F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7CA-7424-4BBE-A9A7-CE7CAC7C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198-9044-4A85-BA6D-C1622D58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860-B7D0-4252-ADC9-FA8FD446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A9DE-8792-452A-B930-0769BC2E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A1EA-A9F1-468D-AA64-7E9D5048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6A3-3776-4727-93F4-2E4A2BC9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5340-17F6-4B14-B881-E1C5A92A7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56D3-A9E1-4B0A-AC64-AD6A7943E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rência de Redes de Computado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 Cristina Benso da Si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ificulda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iculdade de obtenção de informações relev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o de informações básicas (contadores e indicadores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r e correlacionar os dad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791320" y="4267080"/>
            <a:ext cx="265752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triz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rixD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tAddress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urceAddress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ex 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lt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ção de pacotes selecionados através de testes de padr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ro de dados e de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89280" y="3733920"/>
            <a:ext cx="592092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ataoffset          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ktData                 = 00 00 00 00 00 A5 00 00 00 00 00 B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ktDataMask        = FF FF FF FF FF FF FF FF FF FF FF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ktDataNotMask  = 00 00  00  00 00 00 FF FF FF FF FF F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iltro de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cote &gt; 1.1518 (0), pacote &lt; 64 (1), CRC ou alinhamento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79560" y="3352680"/>
            <a:ext cx="1576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tro de d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lt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lte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ex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hannel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ta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kt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ktData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ktDataNot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kt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ktStatus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ktStatusNot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lt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annel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ex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f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cept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ta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urnOnEvent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urnOffEvent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vent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vent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emplos de  Consulta (Filtro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ra os pacotes que tenham como um destino o host A e não se originam no 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ra os pacotes IPX que possuem e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ra os pacotes destinados ao servidor R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ptura de Paco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sibilita armazenar pacotes de um determinado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fferControl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762120" y="3352680"/>
          <a:ext cx="6924600" cy="404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352680"/>
                    <a:ext cx="692460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ptura de Paco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tureBuffe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Index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ex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ck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cket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cket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cket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cket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ven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evento é disparado por uma condição configurada em outro grupo. Tal evento pode gerar um TRAP e/ou um registro de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ent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ex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stTim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ven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g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ventIndex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ex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MON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upo de trabalho instituído pelo IETF em dezembro de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vas e ampliadas funcion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ibilidade de selecionar pacotes tanto por seu endereço Ethernet quanto pelo endereço 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acidade de filtro aume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abilidade para rastrear protocolos (com campos de comprimento variá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ibilidade de efetuar decodificação nas 7 cam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usas das Dificulda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úmero crescente de equip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itos fornecedores com diferentes protoco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itos níveis de pessoal envolv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as formas de controle e monitoração usadas nos diversos equipamentos com ferramentas próp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ta de acesso direto a todos os componentes da rede para inspecionar e monito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MON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e RMON2 implementa a MIB II, RMON e outros grupos que permitem a monitoração em todas as cam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elas de controle para controlar as operações do agente R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elas com os resultados das monito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MON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ada de aplicação significa uma classe de protocolos não limitada aos níveis MAC e de rede, podendo incluir protocolos de transporte, sessão, apresentação e apl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 diretório de protocolos contém um registro de protocolos que o agente é capaz de reconhecer e monito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os reconhecidos são os definidos em tempo de imple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ilidade limitada: decodificação do próximo nível baseada em tabe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MON2 - Grup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tocol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toco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dress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twork layer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twork layer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plication layer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plication layer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er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gramação SNM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I CMU (Carnegie Mellow Univers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836000" y="2743200"/>
            <a:ext cx="442260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truct snmp_session *snmp_open (sess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truct snmp_session *sess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truct snmp_sess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har *communit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t community_l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t retri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ong time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har *peer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hort remote_por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hort local_por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t (*callback)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gramação SNM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oid snmp_read (fds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d_set *fd_s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t callback (operation, session, reqid, pd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t oper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truct snmp_session *sess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t reqi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truct snmp_pdu *pd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truct snmp_pdu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pAddress addre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t comma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ong reqid, errstat, errinde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ID *enterpri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t enterprise_l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pAddress agent_add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t trap_type, specific_tra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ong timr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truct variable_list *variabl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gramação SNM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truct variable_lis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truct variable_list *next_variab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ID *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t name_l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har typ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n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ong *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har *st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ID *objI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} v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t val_l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nmp_send (session, pd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nmp_create_pdu(comm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nmp_add_null (pdu, name, name_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nmp_fix_pdu (pdu, comm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nmp_synch_response (session, pdu, respon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nmp_close (ses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gramação SNM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NMP-Capable GAWK (4BSD/ISODE SN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284840" y="2590920"/>
            <a:ext cx="190368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EGIN {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ttern { actions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D { 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gramação SNM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EGI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 sysDesc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or (i in ipRouteDes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ïpRoutingTable: to %s via %s\n”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pRouteDest, ipRouteNextHo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or (i in ipRouteDes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“Route: to %s via %s on %s\n”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pRouteDest, ipRouteNextHop, ifDescr[ipRouteIfIndex]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Variáveis especiais: AGENT, RETRIES, TIMEOUT,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gramação SNM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163520" y="2825640"/>
            <a:ext cx="9018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735520" y="3054240"/>
            <a:ext cx="9018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30760" y="3435480"/>
            <a:ext cx="9014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763720" y="2368440"/>
            <a:ext cx="9018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481880" y="2216160"/>
            <a:ext cx="0" cy="257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649920" y="32767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1697040" y="2584440"/>
            <a:ext cx="10540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78120" y="2673360"/>
            <a:ext cx="52092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745160" y="3346200"/>
            <a:ext cx="97776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371240" y="28954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71440" y="24382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038480" y="350532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19560" y="31240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611440" y="4883040"/>
            <a:ext cx="173988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896200" y="487692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20720" y="3359160"/>
            <a:ext cx="1206720" cy="1511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513240" y="3968640"/>
            <a:ext cx="774720" cy="90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138480" y="290196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3983040" y="3574800"/>
            <a:ext cx="2197080" cy="1307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403848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160" y="3657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57600" y="41148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105160" y="380988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44520" y="2362320"/>
            <a:ext cx="1252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3.65.1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gramação SNM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EGI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“de %s para %s \n”, AGENT, DE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umhop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hile (numhop != 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op = ipRouteNextHop [DEST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f (hop =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“nao existe rota de %s para %s”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GENT, DE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“maquina: %s”, hop; numhop = ipRouteMetric1[DEST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GENT = ho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dentificando o Probl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mentos críticos são inspecio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ng (packet internet grop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ce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opo do problema precisa ser determi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quipamentos de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v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plementação de Novos Agen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peamento para a estrutura de informação (S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odo de acesso ao re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tif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le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plementação de Novos Agen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378080" y="3054240"/>
            <a:ext cx="120636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035680" y="2292480"/>
            <a:ext cx="2882880" cy="364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64280" y="2597040"/>
            <a:ext cx="24256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264280" y="3816360"/>
            <a:ext cx="24256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264280" y="4959360"/>
            <a:ext cx="24256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358640" y="1981080"/>
            <a:ext cx="15102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pecific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 M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53240" y="2819520"/>
            <a:ext cx="81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549760" y="3962520"/>
            <a:ext cx="1859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ação 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97120" y="5181480"/>
            <a:ext cx="204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ções de a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828800" y="2521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359000" y="3124080"/>
            <a:ext cx="1272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il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N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53600" y="1905120"/>
            <a:ext cx="833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97040" y="3664080"/>
            <a:ext cx="265428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erramentas de gerência de re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peção dos objetos gerenc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tar filtros e limi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mazenamento /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s, </a:t>
            </a:r>
            <a:r>
              <a:rPr b="0" lang="pt-BR" sz="2400" spc="-1" strike="noStrike">
                <a:solidFill>
                  <a:srgbClr val="990033"/>
                </a:solidFill>
                <a:latin typeface="Arial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9900"/>
                </a:solidFill>
                <a:latin typeface="Arial"/>
              </a:rPr>
              <a:t>r</a:t>
            </a:r>
            <a:r>
              <a:rPr b="0" lang="pt-BR" sz="2400" spc="-1" strike="noStrike">
                <a:solidFill>
                  <a:srgbClr val="ff00ff"/>
                </a:solidFill>
                <a:latin typeface="Arial"/>
              </a:rPr>
              <a:t>e</a:t>
            </a:r>
            <a:r>
              <a:rPr b="0" lang="pt-BR" sz="2400" spc="-1" strike="noStrike">
                <a:solidFill>
                  <a:srgbClr val="00279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ns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posta auto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ouble ticketing system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pretação / explicação / sugest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6672240" y="2724120"/>
            <a:ext cx="170964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rência Pró-Ativ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cipar problemas que provocarão determinado impacto na redes, principalmente em seu desempenh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e de evitar a ocorrência desses problemas ou minimizar seu 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os que contribuem para que a gerência pró-ativa de redes de computadores seja mais confi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especial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s remo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es procur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s de simul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ificulda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iculdade de obtenção de informações relev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o de informações básicas (contadores e indicadores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r e correlacionar os dad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6172200" y="4419720"/>
            <a:ext cx="242892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gregando Inteligência à Gerência Pró-ativ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r a causa de um problema a partir de síndromes reconhecidas nos dados obtidos da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dados podem ser obtidos por monitoração ou por captura remota (agentes SNMP ou agentes R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 o estado de um sistema, recomenda o que fazer a seguir com base no conhecimento acumulado aplicável à esta situ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2514600" y="4800600"/>
            <a:ext cx="1981080" cy="154152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4532400" y="5754600"/>
            <a:ext cx="1258920" cy="7794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 flipV="1">
            <a:off x="5748480" y="5068440"/>
            <a:ext cx="1712880" cy="11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523280" y="4711680"/>
            <a:ext cx="471240" cy="235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620120" y="5153040"/>
            <a:ext cx="1440" cy="78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078760" y="4970520"/>
            <a:ext cx="67788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513640" y="5397480"/>
            <a:ext cx="471600" cy="235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446960" y="6006960"/>
            <a:ext cx="471600" cy="235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7988400" y="5725800"/>
            <a:ext cx="53964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gregando Inteligência à Gerência Pró-ativ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s especialistas   ou   consultores inteli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ar o conhecimento e a experiência de um ou mais especia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écnicas de representação do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ras de prod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-En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stemas especialistas aplicados à gerência de re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ados a diagnó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ras de produção para representar o 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todo de inferência de encadeamento para f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drão de compa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strução dos módulos inteligen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693396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Que tipo de conhecimento é envolvid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Como pode o conhecimento ser representad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Quanto conhecimento é necessári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Qual é exatamente o conhecimento necessári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emplo de regra: Nível de broadcas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a taxa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roadcas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um intervalo de 1 hora é maior que 8% Ent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erificar se o horário da ocorrência está dentro do horário útil (7:00-22:00 horas), do  contrário, ignorar a ocorrê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r o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ost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os níveis mais altos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roadcas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cript broad_nivel.p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ost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identificados, analisar a configuração do software de comunicação, para saber quais são as razões pelas quais ess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ost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stão transmitindo um número tão alto de pacot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roadcast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o de Diagnó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ção de falhas percebidas pelo usuário ou por sistema de monitor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óstico e manutenção de equipamentos e/ou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nfiguração da rede e/ou dos sistemas com eventual aumento de capa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emplo de regra: Nível de broadcas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r máscara da rede. Uma máscara errada pode provocar tormenta de pacote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oadc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r que na rede sendo monitorada não estejam estações com versões do UNIX incompatí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escoberta de novos proble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 dados da rede sistematicamente e comparar com limiares determinados dinamicamente em função de parâmetros definidos pelo ger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janela de amostr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toler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ção de rajadas (problemas relacionados com causa já registrada anteriorm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onsulta à base de dados de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escoberta de novos proble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r severidade d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omponentes envolv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car rotina de diagnó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r registro de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licações de gerenciame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tamento inteligente dos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ção de raj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ência pró-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ção dinâmica de limi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nhecimento de padr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e de tendê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o sel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219320" y="5410080"/>
            <a:ext cx="2539800" cy="1092240"/>
          </a:xfrm>
          <a:prstGeom prst="rect">
            <a:avLst/>
          </a:prstGeom>
          <a:solidFill>
            <a:srgbClr val="ffff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cei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876920" y="5410080"/>
            <a:ext cx="2539800" cy="1092240"/>
          </a:xfrm>
          <a:prstGeom prst="rect">
            <a:avLst/>
          </a:prstGeom>
          <a:solidFill>
            <a:srgbClr val="ffff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envolvi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óp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gumas Referênc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RISA - Gerenciamento de Redes - Uma abordagem de Sistemas Abertos - Makron Books -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twork Management - A practical perspective - Allan Leinwand &amp; Karen Fang - Addison-Wesley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NMP, SNMPv2 and CMIP - The practical Guide to Network-Management Standards - William Stallings - Addison-Wesley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ult Management Tools for a Cooperative and Decebtralized Network Operations Environment - Ewerton Madruga &amp; Liane Tarouco - IEEE Journal on Selected Areas in Communications, August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ttp://penta.ufrgs.br/Repositório de documentos do Grupo de Re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eiro Nív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lato d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ef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ar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ste para determinação da ca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solução imedi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osta ao usu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istro para fins  estatís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experi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istro de Ocorrência de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âmetros, dados sobre equipamentos envolv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gundo Nív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olve a atuação de programadores e analistas de su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ionamento dos sistemas  e software bá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e de tendê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ção de sint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4724280"/>
            <a:ext cx="7696080" cy="1557000"/>
          </a:xfrm>
          <a:prstGeom prst="rect">
            <a:avLst/>
          </a:prstGeom>
          <a:gradFill rotWithShape="0">
            <a:gsLst>
              <a:gs pos="0">
                <a:srgbClr val="fed292"/>
              </a:gs>
              <a:gs pos="100000">
                <a:srgbClr val="ff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a auxiliar neste nível do processo de diagnóstico é necessário entre outras ferramentas, poder contar com a possibilidade de aprender pelas experiências pas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gundo  Nív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canismo de pesquisa “full-text” sobre todos os registros de problemas pas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tomas e hipóteses de cau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rição de diagnó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ções corretivas desencadeadas bem como a indicação do que foi feito para corrigir 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emplos de Proble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xa de erro al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fego alto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face up/down repetid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lace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ificar se os modems envolvidos apresentam histórico de congel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xa de repasse de um roteador dimin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tas descartadas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mória esgotada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anho da fila de pacotes esgotada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de retransmissão de transporte pequeno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emplos de Proble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o de pacotes com o CRC incor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isar o gerente da sub-rede e ativar a captura de pacotes(RMON) para detectar a máquina origem d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tas do Gerenciame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ar os recursos d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ompanhar evolução da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morar o serviç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ar neces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zir tempo de indisponi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ar cu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tuação Vigen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redes e a informação que elas permitem acessar passaram a tornar-se imprescindíveis e sua indisponibilidade, mesmo que momentânea,  pode ter um efeito devas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er uma rede funcional e operando, implica em lidar com uma quantidade imensa e heterogênea de equip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00560" y="4267080"/>
            <a:ext cx="3943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stemas de Gerenciamento de Re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da rede integ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com operador ú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amentos ext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ar necessidade de hardware 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veitar características dos equip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ntes da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ções de gerenc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m os dados passíveis de obtenção 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de Gerenciamento da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rquitetura Genér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 Gerente-A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89840" y="2849400"/>
            <a:ext cx="1009440" cy="730440"/>
          </a:xfrm>
          <a:prstGeom prst="rect">
            <a:avLst/>
          </a:prstGeom>
          <a:gradFill rotWithShape="0">
            <a:gsLst>
              <a:gs pos="0">
                <a:srgbClr val="edf5fe"/>
              </a:gs>
              <a:gs pos="100000">
                <a:srgbClr val="99ccff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1520" y="2620800"/>
            <a:ext cx="2030400" cy="887400"/>
          </a:xfrm>
          <a:prstGeom prst="rect">
            <a:avLst/>
          </a:prstGeom>
          <a:gradFill rotWithShape="0">
            <a:gsLst>
              <a:gs pos="0">
                <a:srgbClr val="fef3de"/>
              </a:gs>
              <a:gs pos="100000">
                <a:srgbClr val="ffcc66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e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99320" y="4602240"/>
            <a:ext cx="1009440" cy="730080"/>
          </a:xfrm>
          <a:prstGeom prst="rect">
            <a:avLst/>
          </a:prstGeom>
          <a:gradFill rotWithShape="0">
            <a:gsLst>
              <a:gs pos="0">
                <a:srgbClr val="e4f1fe"/>
              </a:gs>
              <a:gs pos="100000">
                <a:srgbClr val="99ccff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86800" y="2820960"/>
            <a:ext cx="1237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6080" y="4040280"/>
            <a:ext cx="230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eta inform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99000" y="5945040"/>
            <a:ext cx="27432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ito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assam inform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75240" y="323064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75240" y="3535200"/>
            <a:ext cx="2971800" cy="106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22600" y="3687840"/>
            <a:ext cx="1447920" cy="1523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52920" y="5442120"/>
            <a:ext cx="1009800" cy="730080"/>
          </a:xfrm>
          <a:prstGeom prst="rect">
            <a:avLst/>
          </a:prstGeom>
          <a:gradFill rotWithShape="0">
            <a:gsLst>
              <a:gs pos="0">
                <a:srgbClr val="e4f1fe"/>
              </a:gs>
              <a:gs pos="100000">
                <a:srgbClr val="99ccff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gente PROX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733920" y="1905120"/>
            <a:ext cx="4398480" cy="4289400"/>
            <a:chOff x="3733920" y="1905120"/>
            <a:chExt cx="4398480" cy="4289400"/>
          </a:xfrm>
        </p:grpSpPr>
        <p:sp>
          <p:nvSpPr>
            <p:cNvPr id="239" name=""/>
            <p:cNvSpPr/>
            <p:nvPr/>
          </p:nvSpPr>
          <p:spPr>
            <a:xfrm>
              <a:off x="3733920" y="1905120"/>
              <a:ext cx="2030400" cy="887400"/>
            </a:xfrm>
            <a:prstGeom prst="rect">
              <a:avLst/>
            </a:prstGeom>
            <a:gradFill rotWithShape="0">
              <a:gsLst>
                <a:gs pos="0">
                  <a:srgbClr val="fef3de"/>
                </a:gs>
                <a:gs pos="100000">
                  <a:srgbClr val="ffcc66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Geren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33920" y="3581640"/>
              <a:ext cx="2030400" cy="887400"/>
            </a:xfrm>
            <a:prstGeom prst="rect">
              <a:avLst/>
            </a:prstGeom>
            <a:gradFill rotWithShape="0">
              <a:gsLst>
                <a:gs pos="0">
                  <a:srgbClr val="dcede4"/>
                </a:gs>
                <a:gs pos="100000">
                  <a:srgbClr val="339966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Prox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45000" y="2944800"/>
              <a:ext cx="380880" cy="53352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82880" y="5307120"/>
              <a:ext cx="2030400" cy="887400"/>
            </a:xfrm>
            <a:prstGeom prst="rect">
              <a:avLst/>
            </a:prstGeom>
            <a:gradFill rotWithShape="0">
              <a:gsLst>
                <a:gs pos="0">
                  <a:srgbClr val="dfee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Agen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21320" y="4621320"/>
              <a:ext cx="380880" cy="53352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65560" y="294480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SN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28280" y="4697640"/>
              <a:ext cx="290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Protocolo Proprietá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rquitetura Gerente-Agen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ência de redes é uma aplicação distribuída que envolve trocas de dados entre os processos gerente e a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te: envia requisições de operações ao agente e recebe as respostas, bem como recebe notificações assíncronas do a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e: responde ao gerente através do acesso as informações sobre os recursos gerenciados, bem como envia notificações ao g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IB - Management Base Inform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 de objetos/variáveis que modelam os recursos gerenc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600200" y="3836880"/>
            <a:ext cx="7086600" cy="1497240"/>
            <a:chOff x="1600200" y="3836880"/>
            <a:chExt cx="7086600" cy="1497240"/>
          </a:xfrm>
        </p:grpSpPr>
        <p:sp>
          <p:nvSpPr>
            <p:cNvPr id="251" name=""/>
            <p:cNvSpPr/>
            <p:nvPr/>
          </p:nvSpPr>
          <p:spPr>
            <a:xfrm>
              <a:off x="1600200" y="3836880"/>
              <a:ext cx="2030400" cy="887400"/>
            </a:xfrm>
            <a:prstGeom prst="rect">
              <a:avLst/>
            </a:prstGeom>
            <a:gradFill rotWithShape="0">
              <a:gsLst>
                <a:gs pos="0">
                  <a:srgbClr val="fef3de"/>
                </a:gs>
                <a:gs pos="100000">
                  <a:srgbClr val="ffcc66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Geren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86400" y="3886200"/>
              <a:ext cx="2030400" cy="887400"/>
            </a:xfrm>
            <a:prstGeom prst="rect">
              <a:avLst/>
            </a:prstGeom>
            <a:gradFill rotWithShape="0">
              <a:gsLst>
                <a:gs pos="0">
                  <a:srgbClr val="e2f0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Agen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09880" y="4191120"/>
              <a:ext cx="1523880" cy="304560"/>
            </a:xfrm>
            <a:prstGeom prst="leftRightArrow">
              <a:avLst>
                <a:gd name="adj1" fmla="val 50000"/>
                <a:gd name="adj2" fmla="val 99608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62560" y="4495680"/>
              <a:ext cx="1524240" cy="8384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Times New Roman"/>
                </a:rPr>
                <a:t>M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IB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o gerenciado: representação do que está sendo geren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ecificação em ASN.1 (Abstract Syntax Notation 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ecificação compil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os genéricos (padroniza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os específicos (definidos por fornecedores de produ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rquiteturas de Gerênc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tocolo CMIP (camada de aplic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entado a 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oiado pelo pilha OSI 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s de objetos gerenc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tocolo SNMP (aplicação sobre U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entado 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oll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simples em muitos equip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tegorias simplificadas de objetos gerenc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Áreas Funcionai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mento de fal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mento de config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mento d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mento de 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mento de contabi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renciamento de Falh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r exatamente onde está localizado 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r o resto da rede do segmento com problemas de modo que ela possa continuar funcion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nfigurar ou modificar a rede de modo a minimizar o impacto da operação sem o componente com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tar ou substituir o componente com problemas para restaurar a rede a seu estado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renciamento de Configur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sitivos podem ser configurados para atuar de diferentes maneiras, usando diferentes protoco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âmetros de configuração precisam ser inicializados e eventualmente alte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os componentes podem ser adicionados e seu registro precisa ser mantido atu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igações entre os componentes (físicas e lógicas) necessitam ser mantidas atualiz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rência de Proble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obrir os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r, diagnost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30320" y="3886200"/>
            <a:ext cx="5003640" cy="2525040"/>
            <a:chOff x="1930320" y="3886200"/>
            <a:chExt cx="5003640" cy="2525040"/>
          </a:xfrm>
        </p:grpSpPr>
        <p:grpSp>
          <p:nvGrpSpPr>
            <p:cNvPr id="136" name=""/>
            <p:cNvGrpSpPr/>
            <p:nvPr/>
          </p:nvGrpSpPr>
          <p:grpSpPr>
            <a:xfrm>
              <a:off x="1930320" y="5143320"/>
              <a:ext cx="3240000" cy="1267920"/>
              <a:chOff x="1930320" y="5143320"/>
              <a:chExt cx="3240000" cy="1267920"/>
            </a:xfrm>
          </p:grpSpPr>
          <p:sp>
            <p:nvSpPr>
              <p:cNvPr id="137" name=""/>
              <p:cNvSpPr/>
              <p:nvPr/>
            </p:nvSpPr>
            <p:spPr>
              <a:xfrm>
                <a:off x="3155760" y="5884560"/>
                <a:ext cx="0" cy="26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786480" y="6053040"/>
                <a:ext cx="0" cy="35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64200" y="5798160"/>
                <a:ext cx="0" cy="42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006520" y="5906160"/>
                <a:ext cx="0" cy="37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94320" y="5300280"/>
                <a:ext cx="0" cy="23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58400" y="5220720"/>
                <a:ext cx="10440" cy="457560"/>
              </a:xfrm>
              <a:custGeom>
                <a:avLst/>
                <a:gdLst/>
                <a:ahLst/>
                <a:rect l="l" t="t" r="r" b="b"/>
                <a:pathLst>
                  <a:path w="7" h="318">
                    <a:moveTo>
                      <a:pt x="0" y="0"/>
                    </a:moveTo>
                    <a:lnTo>
                      <a:pt x="0" y="311"/>
                    </a:lnTo>
                    <a:lnTo>
                      <a:pt x="6" y="3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30320" y="5726160"/>
                <a:ext cx="0" cy="47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132720" y="5870160"/>
                <a:ext cx="1583640" cy="371160"/>
              </a:xfrm>
              <a:custGeom>
                <a:avLst/>
                <a:gdLst/>
                <a:ahLst/>
                <a:rect l="l" t="t" r="r" b="b"/>
                <a:pathLst>
                  <a:path w="1022" h="258">
                    <a:moveTo>
                      <a:pt x="0" y="213"/>
                    </a:moveTo>
                    <a:lnTo>
                      <a:pt x="401" y="0"/>
                    </a:lnTo>
                    <a:lnTo>
                      <a:pt x="1021" y="150"/>
                    </a:lnTo>
                    <a:lnTo>
                      <a:pt x="886" y="237"/>
                    </a:lnTo>
                    <a:lnTo>
                      <a:pt x="419" y="117"/>
                    </a:lnTo>
                    <a:lnTo>
                      <a:pt x="179" y="257"/>
                    </a:lnTo>
                    <a:lnTo>
                      <a:pt x="0" y="213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948680" y="5143320"/>
                <a:ext cx="3221640" cy="758520"/>
              </a:xfrm>
              <a:custGeom>
                <a:avLst/>
                <a:gdLst/>
                <a:ahLst/>
                <a:rect l="l" t="t" r="r" b="b"/>
                <a:pathLst>
                  <a:path w="2079" h="527">
                    <a:moveTo>
                      <a:pt x="1964" y="526"/>
                    </a:moveTo>
                    <a:lnTo>
                      <a:pt x="2078" y="449"/>
                    </a:lnTo>
                    <a:lnTo>
                      <a:pt x="1335" y="281"/>
                    </a:lnTo>
                    <a:lnTo>
                      <a:pt x="1707" y="102"/>
                    </a:lnTo>
                    <a:lnTo>
                      <a:pt x="1575" y="78"/>
                    </a:lnTo>
                    <a:lnTo>
                      <a:pt x="1198" y="251"/>
                    </a:lnTo>
                    <a:lnTo>
                      <a:pt x="138" y="0"/>
                    </a:lnTo>
                    <a:lnTo>
                      <a:pt x="0" y="54"/>
                    </a:lnTo>
                    <a:lnTo>
                      <a:pt x="1964" y="52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930320" y="5642640"/>
                <a:ext cx="1227240" cy="646200"/>
              </a:xfrm>
              <a:custGeom>
                <a:avLst/>
                <a:gdLst/>
                <a:ahLst/>
                <a:rect l="l" t="t" r="r" b="b"/>
                <a:pathLst>
                  <a:path w="792" h="449">
                    <a:moveTo>
                      <a:pt x="126" y="0"/>
                    </a:moveTo>
                    <a:lnTo>
                      <a:pt x="791" y="161"/>
                    </a:lnTo>
                    <a:lnTo>
                      <a:pt x="281" y="448"/>
                    </a:lnTo>
                    <a:lnTo>
                      <a:pt x="132" y="412"/>
                    </a:lnTo>
                    <a:lnTo>
                      <a:pt x="539" y="185"/>
                    </a:lnTo>
                    <a:lnTo>
                      <a:pt x="0" y="54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299200" y="4480560"/>
              <a:ext cx="1634760" cy="1706400"/>
              <a:chOff x="5299200" y="4480560"/>
              <a:chExt cx="1634760" cy="1706400"/>
            </a:xfrm>
          </p:grpSpPr>
          <p:sp>
            <p:nvSpPr>
              <p:cNvPr id="148" name=""/>
              <p:cNvSpPr/>
              <p:nvPr/>
            </p:nvSpPr>
            <p:spPr>
              <a:xfrm>
                <a:off x="5568480" y="4548240"/>
                <a:ext cx="257040" cy="479160"/>
              </a:xfrm>
              <a:custGeom>
                <a:avLst/>
                <a:gdLst/>
                <a:ahLst/>
                <a:rect l="l" t="t" r="r" b="b"/>
                <a:pathLst>
                  <a:path w="166" h="333">
                    <a:moveTo>
                      <a:pt x="0" y="0"/>
                    </a:moveTo>
                    <a:lnTo>
                      <a:pt x="0" y="305"/>
                    </a:lnTo>
                    <a:lnTo>
                      <a:pt x="165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22640" y="5003280"/>
                <a:ext cx="0" cy="36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99200" y="5414760"/>
                <a:ext cx="0" cy="38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583680" y="4689360"/>
                <a:ext cx="0" cy="27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65120" y="5031720"/>
                <a:ext cx="0" cy="38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299200" y="4480560"/>
                <a:ext cx="1634760" cy="1706400"/>
              </a:xfrm>
              <a:custGeom>
                <a:avLst/>
                <a:gdLst/>
                <a:ahLst/>
                <a:rect l="l" t="t" r="r" b="b"/>
                <a:pathLst>
                  <a:path w="1055" h="1185">
                    <a:moveTo>
                      <a:pt x="1054" y="113"/>
                    </a:moveTo>
                    <a:lnTo>
                      <a:pt x="257" y="0"/>
                    </a:lnTo>
                    <a:lnTo>
                      <a:pt x="168" y="41"/>
                    </a:lnTo>
                    <a:lnTo>
                      <a:pt x="719" y="119"/>
                    </a:lnTo>
                    <a:lnTo>
                      <a:pt x="335" y="358"/>
                    </a:lnTo>
                    <a:lnTo>
                      <a:pt x="743" y="424"/>
                    </a:lnTo>
                    <a:lnTo>
                      <a:pt x="461" y="651"/>
                    </a:lnTo>
                    <a:lnTo>
                      <a:pt x="96" y="574"/>
                    </a:lnTo>
                    <a:lnTo>
                      <a:pt x="0" y="639"/>
                    </a:lnTo>
                    <a:lnTo>
                      <a:pt x="808" y="819"/>
                    </a:lnTo>
                    <a:lnTo>
                      <a:pt x="515" y="1148"/>
                    </a:lnTo>
                    <a:lnTo>
                      <a:pt x="653" y="1184"/>
                    </a:lnTo>
                    <a:lnTo>
                      <a:pt x="988" y="771"/>
                    </a:lnTo>
                    <a:lnTo>
                      <a:pt x="593" y="687"/>
                    </a:lnTo>
                    <a:lnTo>
                      <a:pt x="946" y="376"/>
                    </a:lnTo>
                    <a:lnTo>
                      <a:pt x="563" y="311"/>
                    </a:lnTo>
                    <a:lnTo>
                      <a:pt x="826" y="137"/>
                    </a:lnTo>
                    <a:lnTo>
                      <a:pt x="970" y="161"/>
                    </a:lnTo>
                    <a:lnTo>
                      <a:pt x="1054" y="113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139720" y="3920760"/>
              <a:ext cx="1756800" cy="613080"/>
              <a:chOff x="5139720" y="3920760"/>
              <a:chExt cx="1756800" cy="613080"/>
            </a:xfrm>
          </p:grpSpPr>
          <p:sp>
            <p:nvSpPr>
              <p:cNvPr id="155" name=""/>
              <p:cNvSpPr/>
              <p:nvPr/>
            </p:nvSpPr>
            <p:spPr>
              <a:xfrm>
                <a:off x="6078240" y="4001400"/>
                <a:ext cx="0" cy="14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522040" y="4132080"/>
                <a:ext cx="0" cy="40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139720" y="3920760"/>
                <a:ext cx="1756800" cy="345240"/>
              </a:xfrm>
              <a:custGeom>
                <a:avLst/>
                <a:gdLst/>
                <a:ahLst/>
                <a:rect l="l" t="t" r="r" b="b"/>
                <a:pathLst>
                  <a:path w="1134" h="240">
                    <a:moveTo>
                      <a:pt x="0" y="15"/>
                    </a:moveTo>
                    <a:lnTo>
                      <a:pt x="453" y="67"/>
                    </a:lnTo>
                    <a:lnTo>
                      <a:pt x="251" y="142"/>
                    </a:lnTo>
                    <a:lnTo>
                      <a:pt x="1055" y="239"/>
                    </a:lnTo>
                    <a:lnTo>
                      <a:pt x="1133" y="197"/>
                    </a:lnTo>
                    <a:lnTo>
                      <a:pt x="425" y="118"/>
                    </a:lnTo>
                    <a:lnTo>
                      <a:pt x="606" y="48"/>
                    </a:lnTo>
                    <a:lnTo>
                      <a:pt x="127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2134800" y="3886200"/>
              <a:ext cx="3165480" cy="1396080"/>
              <a:chOff x="2134800" y="3886200"/>
              <a:chExt cx="3165480" cy="13960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2134800" y="3886200"/>
                <a:ext cx="3165480" cy="1396080"/>
                <a:chOff x="2134800" y="3886200"/>
                <a:chExt cx="3165480" cy="13960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723760" y="4704120"/>
                  <a:ext cx="0" cy="100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890800" y="4651920"/>
                  <a:ext cx="0" cy="9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423960" y="4489560"/>
                  <a:ext cx="0" cy="9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" name=""/>
                <p:cNvGrpSpPr/>
                <p:nvPr/>
              </p:nvGrpSpPr>
              <p:grpSpPr>
                <a:xfrm>
                  <a:off x="2134800" y="3886200"/>
                  <a:ext cx="3165480" cy="1396080"/>
                  <a:chOff x="2134800" y="3886200"/>
                  <a:chExt cx="3165480" cy="1396080"/>
                </a:xfrm>
              </p:grpSpPr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2134800" y="3886200"/>
                    <a:ext cx="3165120" cy="1396080"/>
                    <a:chOff x="2134800" y="3886200"/>
                    <a:chExt cx="3165120" cy="1396080"/>
                  </a:xfrm>
                </p:grpSpPr>
                <p:grpSp>
                  <p:nvGrpSpPr>
                    <p:cNvPr id="165" name=""/>
                    <p:cNvGrpSpPr/>
                    <p:nvPr/>
                  </p:nvGrpSpPr>
                  <p:grpSpPr>
                    <a:xfrm>
                      <a:off x="2153160" y="3929400"/>
                      <a:ext cx="3146760" cy="1352880"/>
                      <a:chOff x="2153160" y="3929400"/>
                      <a:chExt cx="3146760" cy="1352880"/>
                    </a:xfrm>
                  </p:grpSpPr>
                  <p:sp>
                    <p:nvSpPr>
                      <p:cNvPr id="166" name=""/>
                      <p:cNvSpPr/>
                      <p:nvPr/>
                    </p:nvSpPr>
                    <p:spPr>
                      <a:xfrm>
                        <a:off x="3525840" y="4304520"/>
                        <a:ext cx="1774080" cy="873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5" h="607">
                            <a:moveTo>
                              <a:pt x="0" y="592"/>
                            </a:moveTo>
                            <a:lnTo>
                              <a:pt x="189" y="510"/>
                            </a:lnTo>
                            <a:lnTo>
                              <a:pt x="554" y="606"/>
                            </a:lnTo>
                            <a:lnTo>
                              <a:pt x="1144" y="302"/>
                            </a:lnTo>
                            <a:lnTo>
                              <a:pt x="1144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" name=""/>
                      <p:cNvSpPr/>
                      <p:nvPr/>
                    </p:nvSpPr>
                    <p:spPr>
                      <a:xfrm>
                        <a:off x="3812760" y="4562640"/>
                        <a:ext cx="0" cy="4734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4367520" y="4672080"/>
                        <a:ext cx="0" cy="4950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3302640" y="4149360"/>
                        <a:ext cx="0" cy="418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3118320" y="4792680"/>
                        <a:ext cx="0" cy="4896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" name=""/>
                      <p:cNvSpPr/>
                      <p:nvPr/>
                    </p:nvSpPr>
                    <p:spPr>
                      <a:xfrm>
                        <a:off x="3520080" y="4782600"/>
                        <a:ext cx="0" cy="479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" name=""/>
                      <p:cNvSpPr/>
                      <p:nvPr/>
                    </p:nvSpPr>
                    <p:spPr>
                      <a:xfrm>
                        <a:off x="2644200" y="4843440"/>
                        <a:ext cx="1440" cy="3582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2153160" y="4588560"/>
                        <a:ext cx="0" cy="342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" name=""/>
                      <p:cNvSpPr/>
                      <p:nvPr/>
                    </p:nvSpPr>
                    <p:spPr>
                      <a:xfrm>
                        <a:off x="5222880" y="4111920"/>
                        <a:ext cx="0" cy="1710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3165120" y="4348080"/>
                        <a:ext cx="0" cy="310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2486160" y="4041360"/>
                        <a:ext cx="0" cy="1944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2360520" y="4277520"/>
                        <a:ext cx="0" cy="225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4063680" y="4350960"/>
                        <a:ext cx="0" cy="1594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4342680" y="4251600"/>
                        <a:ext cx="0" cy="3153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4491360" y="4204080"/>
                        <a:ext cx="0" cy="310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4705200" y="4071600"/>
                        <a:ext cx="0" cy="146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5052240" y="3976560"/>
                        <a:ext cx="0" cy="125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3" name=""/>
                      <p:cNvSpPr/>
                      <p:nvPr/>
                    </p:nvSpPr>
                    <p:spPr>
                      <a:xfrm>
                        <a:off x="3233160" y="3929400"/>
                        <a:ext cx="0" cy="122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2134800" y="3886200"/>
                      <a:ext cx="2914920" cy="81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81" h="563">
                          <a:moveTo>
                            <a:pt x="491" y="526"/>
                          </a:moveTo>
                          <a:lnTo>
                            <a:pt x="377" y="562"/>
                          </a:lnTo>
                          <a:lnTo>
                            <a:pt x="0" y="478"/>
                          </a:lnTo>
                          <a:lnTo>
                            <a:pt x="491" y="335"/>
                          </a:lnTo>
                          <a:lnTo>
                            <a:pt x="147" y="266"/>
                          </a:lnTo>
                          <a:lnTo>
                            <a:pt x="669" y="150"/>
                          </a:lnTo>
                          <a:lnTo>
                            <a:pt x="229" y="100"/>
                          </a:lnTo>
                          <a:lnTo>
                            <a:pt x="706" y="0"/>
                          </a:lnTo>
                          <a:lnTo>
                            <a:pt x="1641" y="87"/>
                          </a:lnTo>
                          <a:lnTo>
                            <a:pt x="1763" y="54"/>
                          </a:lnTo>
                          <a:lnTo>
                            <a:pt x="1880" y="60"/>
                          </a:lnTo>
                          <a:lnTo>
                            <a:pt x="1656" y="126"/>
                          </a:lnTo>
                          <a:lnTo>
                            <a:pt x="703" y="27"/>
                          </a:lnTo>
                          <a:lnTo>
                            <a:pt x="401" y="90"/>
                          </a:lnTo>
                          <a:lnTo>
                            <a:pt x="1515" y="215"/>
                          </a:lnTo>
                          <a:lnTo>
                            <a:pt x="1425" y="251"/>
                          </a:lnTo>
                          <a:lnTo>
                            <a:pt x="760" y="167"/>
                          </a:lnTo>
                          <a:lnTo>
                            <a:pt x="369" y="258"/>
                          </a:lnTo>
                          <a:lnTo>
                            <a:pt x="666" y="316"/>
                          </a:lnTo>
                          <a:lnTo>
                            <a:pt x="161" y="466"/>
                          </a:lnTo>
                          <a:lnTo>
                            <a:pt x="491" y="526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5" name=""/>
                  <p:cNvSpPr/>
                  <p:nvPr/>
                </p:nvSpPr>
                <p:spPr>
                  <a:xfrm>
                    <a:off x="2644560" y="4092120"/>
                    <a:ext cx="2655720" cy="78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14" h="546">
                        <a:moveTo>
                          <a:pt x="0" y="515"/>
                        </a:moveTo>
                        <a:lnTo>
                          <a:pt x="677" y="293"/>
                        </a:lnTo>
                        <a:lnTo>
                          <a:pt x="503" y="270"/>
                        </a:lnTo>
                        <a:lnTo>
                          <a:pt x="827" y="162"/>
                        </a:lnTo>
                        <a:lnTo>
                          <a:pt x="916" y="174"/>
                        </a:lnTo>
                        <a:lnTo>
                          <a:pt x="689" y="252"/>
                        </a:lnTo>
                        <a:lnTo>
                          <a:pt x="1102" y="335"/>
                        </a:lnTo>
                        <a:lnTo>
                          <a:pt x="1555" y="157"/>
                        </a:lnTo>
                        <a:lnTo>
                          <a:pt x="1270" y="120"/>
                        </a:lnTo>
                        <a:lnTo>
                          <a:pt x="1581" y="0"/>
                        </a:lnTo>
                        <a:lnTo>
                          <a:pt x="1665" y="6"/>
                        </a:lnTo>
                        <a:lnTo>
                          <a:pt x="1408" y="111"/>
                        </a:lnTo>
                        <a:lnTo>
                          <a:pt x="1713" y="150"/>
                        </a:lnTo>
                        <a:lnTo>
                          <a:pt x="1114" y="401"/>
                        </a:lnTo>
                        <a:lnTo>
                          <a:pt x="755" y="323"/>
                        </a:lnTo>
                        <a:lnTo>
                          <a:pt x="377" y="443"/>
                        </a:lnTo>
                        <a:lnTo>
                          <a:pt x="563" y="473"/>
                        </a:lnTo>
                        <a:lnTo>
                          <a:pt x="443" y="509"/>
                        </a:lnTo>
                        <a:lnTo>
                          <a:pt x="306" y="479"/>
                        </a:lnTo>
                        <a:lnTo>
                          <a:pt x="102" y="545"/>
                        </a:lnTo>
                        <a:lnTo>
                          <a:pt x="0" y="515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6" name=""/>
              <p:cNvSpPr/>
              <p:nvPr/>
            </p:nvSpPr>
            <p:spPr>
              <a:xfrm>
                <a:off x="4615560" y="4261680"/>
                <a:ext cx="1440" cy="20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renciamento de Performa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nitorar e contr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belecer padrão de norm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ar limites de capacidade de uti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fil de tráf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rga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 de 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renciamento de Seguranç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nitorar e controlar o acesso aos recursos da rede e às inform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letar, armazenar e examinar registros de auditoria e logs de 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ivar e desativar procedimentos de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renciamento de Contabiliz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 usuário ou grupo de usuários pode estar abusando de seus privilégios e sobrecarregando a rede, em prejuízo dos dem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ários podem estar fazendo uso ineficiente da rede e o gerente da rede pode auxiliar a alterar procedimentos que melhorem a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erência da rede tem mais condições de planejar o crescimento da rede se conhece a atividade dos usuários com suficiente detalh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rquitetura de gerenciamento OS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06640" y="1397160"/>
            <a:ext cx="5283000" cy="7110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Processos aplicativos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gerenciamento de 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30320" y="2768760"/>
            <a:ext cx="1549440" cy="3911400"/>
          </a:xfrm>
          <a:custGeom>
            <a:avLst/>
            <a:gdLst>
              <a:gd name="textAreaLeft" fmla="*/ 56520 w 1549440"/>
              <a:gd name="textAreaRight" fmla="*/ 1492920 w 1549440"/>
              <a:gd name="textAreaTop" fmla="*/ 56520 h 3911400"/>
              <a:gd name="textAreaBottom" fmla="*/ 3854880 h 3911400"/>
            </a:gdLst>
            <a:ahLst/>
            <a:rect l="textAreaLeft" t="textAreaTop" r="textAreaRight" b="textAreaBottom"/>
            <a:pathLst>
              <a:path w="21600" h="54519">
                <a:moveTo>
                  <a:pt x="2699" y="0"/>
                </a:moveTo>
                <a:arcTo wR="2699" hR="2699" stAng="16200000" swAng="-5400000"/>
                <a:lnTo>
                  <a:pt x="0" y="51820"/>
                </a:lnTo>
                <a:arcTo wR="2699" hR="2699" stAng="10800000" swAng="-5400000"/>
                <a:lnTo>
                  <a:pt x="18901" y="5451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21240" y="2844720"/>
            <a:ext cx="2692440" cy="3683160"/>
          </a:xfrm>
          <a:prstGeom prst="rect">
            <a:avLst/>
          </a:prstGeom>
          <a:solidFill>
            <a:srgbClr val="fcfeb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Verdana"/>
              </a:rPr>
              <a:t>LME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3366"/>
                </a:solidFill>
                <a:latin typeface="Verdana"/>
              </a:rPr>
              <a:t>System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Verdana"/>
              </a:rPr>
              <a:t>                </a:t>
            </a:r>
            <a:r>
              <a:rPr b="0" lang="pt-BR" sz="1200" spc="-1" strike="noStrike">
                <a:solidFill>
                  <a:srgbClr val="003366"/>
                </a:solidFill>
                <a:latin typeface="Verdana"/>
              </a:rPr>
              <a:t>Application 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Verdana"/>
              </a:rPr>
              <a:t>LME</a:t>
            </a: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3366"/>
                </a:solidFill>
                <a:latin typeface="Verdana"/>
              </a:rPr>
              <a:t>Camada de Apresent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Verdana"/>
              </a:rPr>
              <a:t>LME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pt-BR" sz="1200" spc="-1" strike="noStrike">
                <a:solidFill>
                  <a:srgbClr val="003366"/>
                </a:solidFill>
                <a:latin typeface="Verdana"/>
              </a:rPr>
              <a:t>Camada de ses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Verdana"/>
              </a:rPr>
              <a:t>LME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pt-BR" sz="1200" spc="-1" strike="noStrike">
                <a:solidFill>
                  <a:srgbClr val="003366"/>
                </a:solidFill>
                <a:latin typeface="Verdana"/>
              </a:rPr>
              <a:t>Camada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Verdana"/>
              </a:rPr>
              <a:t>LME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pt-BR" sz="1200" spc="-1" strike="noStrike">
                <a:solidFill>
                  <a:srgbClr val="003366"/>
                </a:solidFill>
                <a:latin typeface="Verdana"/>
              </a:rPr>
              <a:t>Camada de re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Verdana"/>
              </a:rPr>
              <a:t>LME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pt-BR" sz="1200" spc="-1" strike="noStrike">
                <a:solidFill>
                  <a:srgbClr val="003366"/>
                </a:solidFill>
                <a:latin typeface="Verdana"/>
              </a:rPr>
              <a:t>Camada de en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Verdana"/>
              </a:rPr>
              <a:t>LME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pt-BR" sz="1200" spc="-1" strike="noStrike">
                <a:solidFill>
                  <a:srgbClr val="003366"/>
                </a:solidFill>
                <a:latin typeface="Verdana"/>
              </a:rPr>
              <a:t>Camada fís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57800" y="281952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02160" y="350532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02160" y="388620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02160" y="441972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02160" y="495288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02160" y="556272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02160" y="601992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139840"/>
            <a:ext cx="0" cy="59688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43600" y="2139840"/>
            <a:ext cx="0" cy="67320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17920" y="3200400"/>
            <a:ext cx="96516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17920" y="3733920"/>
            <a:ext cx="96516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17920" y="4191120"/>
            <a:ext cx="96516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17920" y="4724280"/>
            <a:ext cx="96516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17920" y="5257800"/>
            <a:ext cx="96516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17920" y="5867280"/>
            <a:ext cx="96516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17920" y="6400800"/>
            <a:ext cx="96516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51840" y="3124080"/>
            <a:ext cx="135864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60800" y="2720880"/>
            <a:ext cx="77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CM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066680" y="289512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MISE-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mmon Management Information Servic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SE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cess Control Service El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belecer e desfazer associ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SE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mote Operations Service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vocação de operação em um sistema rem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cação da ope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ód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rgu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ostas  :  resul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je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06640" y="533520"/>
            <a:ext cx="5613480" cy="218412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11760" y="774720"/>
            <a:ext cx="1701720" cy="558720"/>
          </a:xfrm>
          <a:prstGeom prst="rect">
            <a:avLst/>
          </a:prstGeom>
          <a:solidFill>
            <a:srgbClr val="ffffff"/>
          </a:solidFill>
          <a:ln w="32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57000" y="811080"/>
            <a:ext cx="112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44720" y="1689120"/>
            <a:ext cx="1701720" cy="558720"/>
          </a:xfrm>
          <a:prstGeom prst="rect">
            <a:avLst/>
          </a:prstGeom>
          <a:solidFill>
            <a:srgbClr val="ffffff"/>
          </a:solidFill>
          <a:ln w="936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AC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54760" y="1689120"/>
            <a:ext cx="1701720" cy="558720"/>
          </a:xfrm>
          <a:prstGeom prst="rect">
            <a:avLst/>
          </a:prstGeom>
          <a:solidFill>
            <a:srgbClr val="ffffff"/>
          </a:solidFill>
          <a:ln w="32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R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renciamento TCP/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NMP -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imple Network Managemen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FC1155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tructure and Identification of Management Information for TCP/IP-based inter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FC 1156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anagement Information Base Network Management of TCP/IP-based inter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FC 1157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 Simple Network Managemen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FC 1213 - 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anagement Information Base Network Management of TCP/IP-based internets: MIB-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MON -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emote Network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FC1271 e depois RFC 17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renciamento TCP/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NMP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FC1442 Structure of Management Information for Version 2 of SN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FC1448 Protocol Operations for Version 2 of SN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NMPv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ncipal característica: Seguranç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tocolo SNM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ple Network Management Protoc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rutura de Informação de Gerência (SMI) - ASN.1 (Abstract Syntax Notation One) / Macro OBJECT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tocolo - ASN.1 / BER (Basic Enconding Rules) via UD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N.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guagem formal para definição de sintaxe de abstrata (I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NMP usa um subconjunto de tipos ASN.1, bem como a macro OBJECT-TYPE para a especificação da M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ctet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play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ct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quen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ras que geram a sintaxe de trans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 codificados em três campos: rótulo, tipo e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29680" y="3254400"/>
            <a:ext cx="31838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ex::= sequenc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nome OCTET STR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idade 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96880" y="386388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63640" y="4245120"/>
            <a:ext cx="1431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{ adao, 45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61920" y="5504040"/>
            <a:ext cx="5757840" cy="363240"/>
          </a:xfrm>
          <a:prstGeom prst="rect">
            <a:avLst/>
          </a:prstGeom>
          <a:gradFill rotWithShape="0">
            <a:gsLst>
              <a:gs pos="0">
                <a:srgbClr val="fef0d4"/>
              </a:gs>
              <a:gs pos="100000">
                <a:srgbClr val="ffcc66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ados codificados: 30 07 02 04 04 A D A O 02 01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solando o Probl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m repor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 esta conec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es intermedi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724280" y="1523880"/>
          <a:ext cx="4038840" cy="36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523880"/>
                    <a:ext cx="4038840" cy="36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toco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84560" y="1981080"/>
            <a:ext cx="3597120" cy="38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PROTOCOLO SN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-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-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95800" y="4114800"/>
            <a:ext cx="2502000" cy="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33880" y="4495680"/>
            <a:ext cx="166392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5800" y="4876920"/>
            <a:ext cx="250200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859360" y="5257800"/>
            <a:ext cx="85104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183200" y="5638680"/>
            <a:ext cx="252720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62480" y="6083280"/>
            <a:ext cx="6725520" cy="393840"/>
          </a:xfrm>
          <a:prstGeom prst="rect">
            <a:avLst/>
          </a:prstGeom>
          <a:gradFill rotWithShape="0">
            <a:gsLst>
              <a:gs pos="0">
                <a:srgbClr val="fef1d8"/>
              </a:gs>
              <a:gs pos="100000">
                <a:srgbClr val="ffcc66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protocolo SNMP é transportado pelo protocolo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93680" y="2438280"/>
            <a:ext cx="2030400" cy="887400"/>
          </a:xfrm>
          <a:prstGeom prst="rect">
            <a:avLst/>
          </a:prstGeom>
          <a:gradFill rotWithShape="0">
            <a:gsLst>
              <a:gs pos="0">
                <a:srgbClr val="fef3de"/>
              </a:gs>
              <a:gs pos="100000">
                <a:srgbClr val="ffcc66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e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2438280"/>
            <a:ext cx="2030400" cy="887400"/>
          </a:xfrm>
          <a:prstGeom prst="rect">
            <a:avLst/>
          </a:prstGeom>
          <a:gradFill rotWithShape="0">
            <a:gsLst>
              <a:gs pos="0">
                <a:srgbClr val="e2f0fe"/>
              </a:gs>
              <a:gs pos="100000">
                <a:srgbClr val="99ccff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2743200"/>
            <a:ext cx="3124080" cy="457200"/>
          </a:xfrm>
          <a:prstGeom prst="leftRightArrow">
            <a:avLst>
              <a:gd name="adj1" fmla="val 50000"/>
              <a:gd name="adj2" fmla="val 136029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NMP over UD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523880" y="1433520"/>
          <a:ext cx="7086600" cy="52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433520"/>
                    <a:ext cx="7086600" cy="524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AP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sagens não solicitadas geradas por um agente SN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295280" y="2941560"/>
            <a:ext cx="7108920" cy="3304440"/>
            <a:chOff x="1295280" y="2941560"/>
            <a:chExt cx="7108920" cy="3304440"/>
          </a:xfrm>
        </p:grpSpPr>
        <p:sp>
          <p:nvSpPr>
            <p:cNvPr id="330" name=""/>
            <p:cNvSpPr/>
            <p:nvPr/>
          </p:nvSpPr>
          <p:spPr>
            <a:xfrm>
              <a:off x="2049840" y="4236840"/>
              <a:ext cx="592704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LDS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RM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K D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AILURE OF AUTHENT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TERIOR GATEWAY PROTOCOL NEIGHBOR LO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ERPRISE-SPECIF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02440" y="2941560"/>
              <a:ext cx="83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Verdana"/>
                </a:rPr>
                <a:t>TR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95280" y="3170160"/>
              <a:ext cx="2030400" cy="887400"/>
            </a:xfrm>
            <a:prstGeom prst="rect">
              <a:avLst/>
            </a:prstGeom>
            <a:gradFill rotWithShape="0">
              <a:gsLst>
                <a:gs pos="0">
                  <a:srgbClr val="fef3de"/>
                </a:gs>
                <a:gs pos="100000">
                  <a:srgbClr val="ffcc66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Geren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73800" y="3197160"/>
              <a:ext cx="2030400" cy="887400"/>
            </a:xfrm>
            <a:prstGeom prst="rect">
              <a:avLst/>
            </a:prstGeom>
            <a:gradFill rotWithShape="0">
              <a:gsLst>
                <a:gs pos="0">
                  <a:srgbClr val="e2f0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Agen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54280" y="3551040"/>
              <a:ext cx="2514600" cy="304920"/>
            </a:xfrm>
            <a:prstGeom prst="leftArrow">
              <a:avLst>
                <a:gd name="adj1" fmla="val 50000"/>
                <a:gd name="adj2" fmla="val 206169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DU´s SNM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447920" y="1581120"/>
          <a:ext cx="6858000" cy="49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81120"/>
                    <a:ext cx="6858000" cy="4984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Get, Get-Next, Set, Get-Respon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990720" y="2219400"/>
          <a:ext cx="7924680" cy="34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19400"/>
                    <a:ext cx="7924680" cy="3443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rr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os retornados por agentes SN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0 (noErr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 (tooB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 (noSuch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 (bad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4 (read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5 (genErr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Índice do E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ica a qual variável se refere o e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rap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960480" y="1828800"/>
          <a:ext cx="803124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1828800"/>
                    <a:ext cx="8031240" cy="313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strutura de MIB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905120" y="1447920"/>
            <a:ext cx="6095880" cy="5181480"/>
            <a:chOff x="1905120" y="1447920"/>
            <a:chExt cx="6095880" cy="5181480"/>
          </a:xfrm>
        </p:grpSpPr>
        <p:sp>
          <p:nvSpPr>
            <p:cNvPr id="348" name=""/>
            <p:cNvSpPr/>
            <p:nvPr/>
          </p:nvSpPr>
          <p:spPr>
            <a:xfrm>
              <a:off x="1905120" y="1447920"/>
              <a:ext cx="6095880" cy="5181480"/>
            </a:xfrm>
            <a:prstGeom prst="rect">
              <a:avLst/>
            </a:prstGeom>
            <a:gradFill rotWithShape="0">
              <a:gsLst>
                <a:gs pos="0">
                  <a:srgbClr val="fef9f1"/>
                </a:gs>
                <a:gs pos="100000">
                  <a:srgbClr val="ffcc66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157640" y="1523880"/>
              <a:ext cx="10029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54480" y="1523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60960" y="1523880"/>
              <a:ext cx="105372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918320" y="1952640"/>
              <a:ext cx="794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Verdana"/>
                </a:rPr>
                <a:t>iso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54480" y="228600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917240" y="2486160"/>
              <a:ext cx="858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Verdana"/>
                </a:rPr>
                <a:t>org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54480" y="281952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19760" y="3019320"/>
              <a:ext cx="89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3366"/>
                  </a:solidFill>
                  <a:latin typeface="Verdana"/>
                </a:rPr>
                <a:t>dod(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54480" y="33526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88000" y="3629160"/>
              <a:ext cx="141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Verdana"/>
                </a:rPr>
                <a:t>internet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547800" y="3962520"/>
              <a:ext cx="161280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4462200" y="3962520"/>
              <a:ext cx="6984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60960" y="3962520"/>
              <a:ext cx="44388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27840" y="4314960"/>
              <a:ext cx="500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Verdana"/>
                </a:rPr>
                <a:t>d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00120" y="4314960"/>
              <a:ext cx="3395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3366"/>
                  </a:solidFill>
                  <a:latin typeface="Verdana"/>
                </a:rPr>
                <a:t>mgmt(1)</a:t>
              </a:r>
              <a:r>
                <a:rPr b="1" lang="pt-BR" sz="1800" spc="-1" strike="noStrike">
                  <a:solidFill>
                    <a:srgbClr val="003366"/>
                  </a:solidFill>
                  <a:latin typeface="Arial"/>
                </a:rPr>
                <a:t>    </a:t>
              </a:r>
              <a:r>
                <a:rPr b="1" lang="pt-BR" sz="1800" spc="-1" strike="noStrike">
                  <a:solidFill>
                    <a:srgbClr val="003366"/>
                  </a:solidFill>
                  <a:latin typeface="Verdana"/>
                </a:rPr>
                <a:t> exp  </a:t>
              </a:r>
              <a:r>
                <a:rPr b="1" lang="pt-BR" sz="1800" spc="-1" strike="noStrike">
                  <a:solidFill>
                    <a:srgbClr val="003366"/>
                  </a:solidFill>
                  <a:latin typeface="Arial"/>
                </a:rPr>
                <a:t>       </a:t>
              </a:r>
              <a:r>
                <a:rPr b="1" lang="pt-BR" sz="1800" spc="-1" strike="noStrike">
                  <a:solidFill>
                    <a:srgbClr val="003366"/>
                  </a:solidFill>
                  <a:latin typeface="Verdana"/>
                </a:rPr>
                <a:t>private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60960" y="3962520"/>
              <a:ext cx="158688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92360" y="464832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70080" y="4818240"/>
              <a:ext cx="1037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Verdana"/>
                </a:rPr>
                <a:t>mib2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090240" y="5105520"/>
              <a:ext cx="1307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92360" y="51055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98840" y="5105520"/>
              <a:ext cx="14346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45120" y="6172200"/>
              <a:ext cx="2901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3366"/>
                  </a:solidFill>
                  <a:latin typeface="Verdana"/>
                </a:rPr>
                <a:t>sysDescr (1.3.6.1.1.1.1.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12000" y="5562720"/>
              <a:ext cx="998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Verdana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514240" y="5867280"/>
              <a:ext cx="380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2889360"/>
          </a:xfrm>
          <a:prstGeom prst="rect">
            <a:avLst/>
          </a:prstGeom>
          <a:gradFill rotWithShape="0">
            <a:gsLst>
              <a:gs pos="0">
                <a:srgbClr val="d9ebe2"/>
              </a:gs>
              <a:gs pos="100000">
                <a:srgbClr val="339966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sysLocation OBJECT-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cro OBJECT-TYP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632320" y="2438280"/>
            <a:ext cx="49651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SYNTAX   Display String (size (0 .. 255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ACCESS   read-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STATUS    mand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DESCRIPTION “ ------ 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::= { system 6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cro OBJECT-TYP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6522840" cy="4876920"/>
          </a:xfrm>
          <a:prstGeom prst="rect">
            <a:avLst/>
          </a:prstGeom>
          <a:gradFill rotWithShape="0">
            <a:gsLst>
              <a:gs pos="0">
                <a:srgbClr val="cce5d8"/>
              </a:gs>
              <a:gs pos="100000">
                <a:srgbClr val="339966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Verdana"/>
              </a:rPr>
              <a:t>ipRoutingTable OBJECT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Verdana"/>
              </a:rPr>
              <a:t>          </a:t>
            </a:r>
            <a:r>
              <a:rPr b="1" lang="pt-BR" sz="2400" spc="-1" strike="noStrike">
                <a:solidFill>
                  <a:srgbClr val="003366"/>
                </a:solidFill>
                <a:latin typeface="Verdana"/>
              </a:rPr>
              <a:t>SYNTAX Sequence of IpRoute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Verdana"/>
              </a:rPr>
              <a:t>          </a:t>
            </a:r>
            <a:r>
              <a:rPr b="1" lang="pt-BR" sz="2400" spc="-1" strike="noStrike">
                <a:solidFill>
                  <a:srgbClr val="003366"/>
                </a:solidFill>
                <a:latin typeface="Verdana"/>
              </a:rPr>
              <a:t>ACCESS read-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Verdana"/>
              </a:rPr>
              <a:t>          </a:t>
            </a:r>
            <a:r>
              <a:rPr b="1" lang="pt-BR" sz="2400" spc="-1" strike="noStrike">
                <a:solidFill>
                  <a:srgbClr val="003366"/>
                </a:solidFill>
                <a:latin typeface="Verdana"/>
              </a:rPr>
              <a:t>STATUS mand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Verdana"/>
              </a:rPr>
              <a:t>          </a:t>
            </a:r>
            <a:r>
              <a:rPr b="1" lang="pt-BR" sz="2400" spc="-1" strike="noStrike">
                <a:solidFill>
                  <a:srgbClr val="003366"/>
                </a:solidFill>
                <a:latin typeface="Verdana"/>
              </a:rPr>
              <a:t>::= { ipRoutingTable 1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Verdana"/>
              </a:rPr>
              <a:t>ipRouteEntry OBJECT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Verdana"/>
              </a:rPr>
              <a:t>         </a:t>
            </a:r>
            <a:r>
              <a:rPr b="1" lang="pt-BR" sz="2400" spc="-1" strike="noStrike">
                <a:solidFill>
                  <a:srgbClr val="003366"/>
                </a:solidFill>
                <a:latin typeface="Verdana"/>
              </a:rPr>
              <a:t>SYNTAX IpRoute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Verdana"/>
              </a:rPr>
              <a:t>         </a:t>
            </a:r>
            <a:r>
              <a:rPr b="1" lang="pt-BR" sz="2400" spc="-1" strike="noStrike">
                <a:solidFill>
                  <a:srgbClr val="003366"/>
                </a:solidFill>
                <a:latin typeface="Verdana"/>
              </a:rPr>
              <a:t>ACCESS read-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Verdana"/>
              </a:rPr>
              <a:t>         </a:t>
            </a:r>
            <a:r>
              <a:rPr b="1" lang="pt-BR" sz="2400" spc="-1" strike="noStrike">
                <a:solidFill>
                  <a:srgbClr val="003366"/>
                </a:solidFill>
                <a:latin typeface="Verdana"/>
              </a:rPr>
              <a:t>STATUS mand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Verdana"/>
              </a:rPr>
              <a:t>         </a:t>
            </a:r>
            <a:r>
              <a:rPr b="1" lang="pt-BR" sz="2400" spc="-1" strike="noStrike">
                <a:solidFill>
                  <a:srgbClr val="003366"/>
                </a:solidFill>
                <a:latin typeface="Verdana"/>
              </a:rPr>
              <a:t>::= { ipRoutingTable 1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solamento e Teste dos Proble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isolamento e teste dos problemas das redes tornaram-se muito difíceis devido a duas causas princip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itos níveis de pessoal envolvid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écnicos de manuten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dores controladores de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tes de sistemas de informações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te de comunic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rganização da MIB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33720" y="1600200"/>
            <a:ext cx="5715000" cy="4876920"/>
          </a:xfrm>
          <a:prstGeom prst="rect">
            <a:avLst/>
          </a:prstGeom>
          <a:gradFill rotWithShape="0">
            <a:gsLst>
              <a:gs pos="0">
                <a:srgbClr val="fef9f0"/>
              </a:gs>
              <a:gs pos="100000">
                <a:srgbClr val="ffcc66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43240" y="1981080"/>
            <a:ext cx="605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Verdana"/>
              </a:rPr>
              <a:t>raí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903040" y="2314440"/>
            <a:ext cx="146052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7800" y="23144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63920" y="2314440"/>
            <a:ext cx="151128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34560" y="2895480"/>
            <a:ext cx="4118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grupo1           grupo2        grupo3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284640" y="3305160"/>
            <a:ext cx="107928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7800" y="33051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63920" y="3305160"/>
            <a:ext cx="120672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73320" y="3809880"/>
            <a:ext cx="289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obj1         obj2        tab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76760" y="40672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01720" y="4495680"/>
            <a:ext cx="1092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122360" y="4829040"/>
            <a:ext cx="146052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76760" y="48290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83240" y="4829040"/>
            <a:ext cx="143496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91520" y="5656320"/>
            <a:ext cx="3427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obj1               obj2               obj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IB II - Grupos de Obje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utras MIB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vidor Nov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i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U e LUs S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ções distribuí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feteiras, torradeiras 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peração SNM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 do obejto + ID da inst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os folha (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GET sysDescr.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T 1.3.6.1.1.1.1.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os como campo de uma tabelas (.ch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GET ipRouteNextHop.143.54.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T 1.3.6.1.1.1.5.7.143.54.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tos Relevantes ao Gerenciamento de Falh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33"/>
                </a:solidFill>
                <a:latin typeface="Arial"/>
              </a:rPr>
              <a:t>Grupo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ysDescr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rição d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ysLocation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calização física d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ysContact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ssoa responsável pel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ysName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me d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tos Relevantes ao Gerenciamento de Falh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33"/>
                </a:solidFill>
                <a:latin typeface="Arial"/>
              </a:rPr>
              <a:t>GRUPO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os sobre cada interface específico do dispos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33"/>
                </a:solidFill>
                <a:latin typeface="Arial"/>
              </a:rPr>
              <a:t>ifTable</a:t>
            </a:r>
            <a:r>
              <a:rPr b="0" lang="pt-BR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bela com informações sob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os os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33"/>
                </a:solidFill>
                <a:latin typeface="Arial"/>
              </a:rPr>
              <a:t>ifEntr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ha com informações sobre 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33"/>
                </a:solidFill>
                <a:latin typeface="Arial"/>
              </a:rPr>
              <a:t>ifNumb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número de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tos Relevantes ao Gerenciamento  de Configur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33"/>
                </a:solidFill>
                <a:latin typeface="Arial"/>
              </a:rPr>
              <a:t>Grupo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33"/>
                </a:solidFill>
                <a:latin typeface="Arial"/>
              </a:rPr>
              <a:t>ifDescr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me do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33"/>
                </a:solidFill>
                <a:latin typeface="Arial"/>
              </a:rPr>
              <a:t>ifType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do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33"/>
                </a:solidFill>
                <a:latin typeface="Arial"/>
              </a:rPr>
              <a:t>ifMTU</a:t>
            </a:r>
            <a:r>
              <a:rPr b="0" lang="pt-BR" sz="2400" spc="-1" strike="noStrike">
                <a:solidFill>
                  <a:srgbClr val="99ccff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áximo tamanho de data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33"/>
                </a:solidFill>
                <a:latin typeface="Arial"/>
              </a:rPr>
              <a:t>ifSpeed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elocidade do interface  (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33"/>
                </a:solidFill>
                <a:latin typeface="Arial"/>
              </a:rPr>
              <a:t>ifAdminStatu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p/down/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tos Relevantes ao Gerenciamento de Performa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33"/>
                </a:solidFill>
                <a:latin typeface="Arial"/>
              </a:rPr>
              <a:t>ifInDiscards</a:t>
            </a:r>
            <a:r>
              <a:rPr b="0" lang="pt-BR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a de entradas descart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33"/>
                </a:solidFill>
                <a:latin typeface="Arial"/>
              </a:rPr>
              <a:t>ifOutDiscards</a:t>
            </a:r>
            <a:r>
              <a:rPr b="0" lang="pt-BR" sz="20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a de transmissões descart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33"/>
                </a:solidFill>
                <a:latin typeface="Arial"/>
              </a:rPr>
              <a:t>ifInErrors</a:t>
            </a:r>
            <a:r>
              <a:rPr b="0" lang="pt-BR" sz="2000" spc="-1" strike="noStrike">
                <a:solidFill>
                  <a:srgbClr val="99cc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a de erros de e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33"/>
                </a:solidFill>
                <a:latin typeface="Arial"/>
              </a:rPr>
              <a:t>ifOutErrors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a de erros em transmis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33"/>
                </a:solidFill>
                <a:latin typeface="Arial"/>
              </a:rPr>
              <a:t>ifInOctet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a de bytes receb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33"/>
                </a:solidFill>
                <a:latin typeface="Arial"/>
              </a:rPr>
              <a:t>ifInUcastPkt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a de pacotes unidireci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eb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33"/>
                </a:solidFill>
                <a:latin typeface="Arial"/>
              </a:rPr>
              <a:t>ifOutUcastPkts </a:t>
            </a:r>
            <a:r>
              <a:rPr b="0" lang="pt-BR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a de pacotes unidirecionados envi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33"/>
                </a:solidFill>
                <a:latin typeface="Arial"/>
              </a:rPr>
              <a:t>ifInNUcastPkt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a de pacotes multirecionados receb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33"/>
                </a:solidFill>
                <a:latin typeface="Arial"/>
              </a:rPr>
              <a:t>ifOutNUcastPkts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a de pacotes multirecionados envi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33"/>
                </a:solidFill>
                <a:latin typeface="Arial"/>
              </a:rPr>
              <a:t>ifInUnknownProto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a de pacotes recebidos com protoc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conhe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33"/>
                </a:solidFill>
                <a:latin typeface="Arial"/>
              </a:rPr>
              <a:t>ifOutQLe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tal de pacotes na fila de sa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emp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nta% snmpi -a rout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nmpi&gt; bulk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nmpi: 3 rows retrieved in 0.643473 seconds during 8 it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nmpi: threads:  at most 2 active, total of 6 created, and 5 did 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nmpi: messages: 9 requests sent,  along with 0 re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nmpi:           9 responses rcvd, along with 0 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nmpi: timeouts: min=0.082 fin=0.082 max=2.000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tial results only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w    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0     "ROUTCV  DEC WANrouter 500 V1.0.7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0     1.3.6.1.4.1.36.2.15.4.2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0     3 days, 14 hours, 2 minutes, 42 seconds (30976200 timeti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emp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26440" y="1523880"/>
            <a:ext cx="72406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enta% snmpi -a tchepoa.ufrgs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nmpi&gt; get sysDescr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ysDescr.0="GS Software (GS3-BFX), Version 9.0(2),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pyright (c) 1986-1992 by cisco System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mpiled Thu 03-Sep-92 11:13 by mlw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30760" y="3352680"/>
            <a:ext cx="417888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nmpi&gt; get ifNumber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fNumber.0=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nmpi&gt; get ifDescr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fDescr.4="Serial1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nmpi&gt; get ifOperStatus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fOperStatus.4=up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nmpi&gt; get ipRouteNextHop.0.0.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pRouteNextHop.0.0.0.0=143.54.1.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solamento e Testes dos Proble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dade de formas de controle e monitoração: embora os produtos envolvidos na rede tornem-se gradativamente mais complexos, cada fornecedor oferece ferramentas de controle de redes próprias, para monitorar seus prod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emp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nmpi&gt; bulk ifDescr, if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nmpi: 13 rows retrieved in 0.337115 seconds during 9 i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nmpi: threads:  at most 4 active, total of 10 created, and 6 did no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nmpi: messages: 23 requests sent,  along with 0 re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nmpi:           23 responses rcvd, along with 0 duplic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nmpi: timeouts: min=0.057 fin=0.070 max=2.000 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ow     ifDescr if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       "Ethernet0"     ethernet-csmacd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       "Serial0"         propPointToPointSerial(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3       "Ethernet1"     ethernet-csmacd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4       "Serial1"         propPointToPointSerial(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2      "Serial9"        ppp(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5       "Serial2"         propPointToPointSerial(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3      "Serial10"      propPointToPointSerial(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       "Serial3"         propPointToPointSerial(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7       "Serial4"         rfc877-x25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6      "Serial13"      propPointToPointSerial(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4      "Serial11"      propPointToPointSerial(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0      "Serial7"        propPointToPointSerial(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8       "Serial5"         propPointToPointSerial(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nmp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NMPv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enciar recursos arbitrários e não apenas recursos de rede (aplicações, sistemas e comunicação gerente-a-ge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inua simples e ráp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orpora 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ciona sobre TCP/IP, OSI e outros protoco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opera com plataformas SN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enciamento hierárqu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NMPv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11280" y="1523880"/>
            <a:ext cx="1825560" cy="6908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çã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ência SN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53240" y="1523880"/>
            <a:ext cx="1825560" cy="6908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çã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ência SN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81480" y="1835280"/>
            <a:ext cx="242712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47440" y="1882800"/>
            <a:ext cx="2185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un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ente-a-Ge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47920" y="3193920"/>
            <a:ext cx="1492200" cy="62244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ente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ível mé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43000" y="4952880"/>
            <a:ext cx="1600200" cy="676440"/>
          </a:xfrm>
          <a:prstGeom prst="ellipse">
            <a:avLst/>
          </a:prstGeom>
          <a:solidFill>
            <a:srgbClr val="00dfca"/>
          </a:soli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oken-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1935000" y="2259000"/>
            <a:ext cx="511200" cy="2692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43360" y="2617920"/>
            <a:ext cx="127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ex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t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14720" y="2259000"/>
            <a:ext cx="824040" cy="890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027320" y="3860640"/>
            <a:ext cx="1800" cy="2092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46360" y="5975280"/>
            <a:ext cx="202716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892600" y="5997600"/>
            <a:ext cx="1440" cy="155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59160" y="5997600"/>
            <a:ext cx="1440" cy="155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60920" y="5997600"/>
            <a:ext cx="1440" cy="155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94080" y="5997600"/>
            <a:ext cx="1800" cy="155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46440" y="6356520"/>
            <a:ext cx="1108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4720" y="4595760"/>
            <a:ext cx="3730680" cy="1881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gente mes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gente 1        Agente 2    Agent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stema         Software     Aplica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peracional  Comun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65840" y="2259000"/>
            <a:ext cx="1800" cy="2225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1480" y="50292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81480" y="5562720"/>
            <a:ext cx="373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629400" y="5029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924680" y="5029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79680" y="6494400"/>
            <a:ext cx="308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(WS, servidor, etc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perações SNMPv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t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tNext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t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tBulk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NMPv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NMPv2 : utilização do protocolo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anager-to-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armes e 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arty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canismo de autent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vacidade (criptograf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le de acesso (por tipo de ace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NMPv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elo do SNMP é a sua simpli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junt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oposed Standard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Janeiro de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95280" y="3260880"/>
            <a:ext cx="7239240" cy="3448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FC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imes New Roman"/>
              </a:rPr>
              <a:t>2271</a:t>
            </a:r>
            <a:r>
              <a:rPr b="0" lang="pt-BR" sz="2000" spc="-1" strike="noStrike">
                <a:solidFill>
                  <a:srgbClr val="3366cc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3366cc"/>
                </a:solidFill>
                <a:latin typeface="Times New Roman"/>
              </a:rPr>
              <a:t>An Architecture for Describing SNM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cc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3366cc"/>
                </a:solidFill>
                <a:latin typeface="Times New Roman"/>
              </a:rPr>
              <a:t>Management Frame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2272</a:t>
            </a:r>
            <a:r>
              <a:rPr b="0" lang="pt-BR" sz="2000" spc="-1" strike="noStrike">
                <a:solidFill>
                  <a:srgbClr val="990033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Message Processing and Dispatching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33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the Simple</a:t>
            </a:r>
            <a:r>
              <a:rPr b="0" lang="pt-BR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Network Management Protoc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33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(SN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2273</a:t>
            </a:r>
            <a:r>
              <a:rPr b="0" lang="pt-BR" sz="2000" spc="-1" strike="noStrike">
                <a:solidFill>
                  <a:srgbClr val="0099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SNMPv3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2274</a:t>
            </a: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User-Based Security Model for SNMP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27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-Based Access Control Model (VACM)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N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egurança no SNMPv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is características do SNMPv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tenticação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ptografia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828800" y="3255840"/>
            <a:ext cx="579132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Arquitetura SNMPv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219320" y="1647720"/>
            <a:ext cx="76197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19508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DU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NMPv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2819520" y="38160"/>
            <a:ext cx="6781680" cy="67435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114800" y="76320"/>
            <a:ext cx="4800600" cy="1828800"/>
          </a:xfrm>
          <a:prstGeom prst="rect">
            <a:avLst/>
          </a:pr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User-Based Security Model (USM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do na RFC 22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tenticação: provê integridade de dados e autenticação da ori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D5 ou SHA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imelines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protege contra atrasos e/ou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vacidade: provê criptografia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BC (Chiper Block Chai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to da Mensagem: define o formato dos parâmetros de segurança da P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iscover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obtenção de informações sobe outras SNMP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Key Managemen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define os procedimentos para geração de cha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uscando uma Solu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o de Operações de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dor controlador de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 a rede e os sistemas que através dela prestam servi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ém-se ao par das suas cond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balhando com vistas a efetuar o diagnóstico sobre os problemas que sur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USM – Entidade Autoritativ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missores ou Receptores são definidos como entidades autoritativas, de acordo com as seguintes reg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uma mensagem SNMP contém u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ayloa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e espera por uma reposta, o receptor desta mensagem é autorit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t, Get-nest, GetBulk, Set e In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uma mensagem SNMP contém um Quando uma mensagem SNMP contém u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ayloa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e não espera por uma reposta, a entdade origem da PDU é autorit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p, Respose e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USM - 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esignação de autoridade serve a dois propó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imelines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a mensagem é determinado com respeito a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loc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antido pel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ngin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utoritativa. Assim a entidade não autoritativa pode sincronizar seu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loc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m a entidade autorit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ocesso de localização de chaves habilita o armazenamento das chaves em uma únic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odos de Crip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have compartilh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 ch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uth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riv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3200400" y="236520"/>
            <a:ext cx="6400800" cy="636444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271296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arâmetros do US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1828800"/>
            <a:ext cx="4724640" cy="19051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riptografia de Dad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 o C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hav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rivKe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16 byt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tiliza-se os 8 primeiros bytes para o DES, pois ele necessita de 56 b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tor de Inicialização de 6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8 bytes restantes d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rivke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ão usados para o pre-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garantir que dois IV diferentes são utilizados dois “textos” diferentes, codificados com a mesma chave, é produzido um valor “salteado” de 8 by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cuta-se um XOR entre o valor salteado e o pre-IV para gerar o novo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View Access Control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modelo tem duas característic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termina se o acesso a um objeto gerenciado de uma MIB Local é permit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z uso da MIB que define a política de controle de acesso para um ag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ecurit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IB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ccess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lemen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Zero ou mais tup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&lt;securityModel, security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o nome de um subconjunto de instâncias de objeto da MIB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ceito relacionado a controle de a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instância de objeto  ou objeto pode estar associado a mais de um con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identificar uma instância individualmente deve-se usar 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ntextNam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ntextEngin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ntexto - Exemp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99840" y="2133720"/>
            <a:ext cx="1384920" cy="4597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ridge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440" y="2133720"/>
            <a:ext cx="1384920" cy="4597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ridge2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7960" y="2133720"/>
            <a:ext cx="1581120" cy="4597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“ ”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defau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295280" y="3886200"/>
            <a:ext cx="1981440" cy="1859400"/>
            <a:chOff x="1295280" y="3886200"/>
            <a:chExt cx="1981440" cy="1859400"/>
          </a:xfrm>
        </p:grpSpPr>
        <p:sp>
          <p:nvSpPr>
            <p:cNvPr id="478" name=""/>
            <p:cNvSpPr/>
            <p:nvPr/>
          </p:nvSpPr>
          <p:spPr>
            <a:xfrm>
              <a:off x="1295280" y="3886200"/>
              <a:ext cx="1981440" cy="1859400"/>
            </a:xfrm>
            <a:prstGeom prst="rect">
              <a:avLst/>
            </a:prstGeom>
            <a:gradFill rotWithShape="0">
              <a:gsLst>
                <a:gs pos="0">
                  <a:srgbClr val="fef8ef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Context      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67720" y="4640400"/>
              <a:ext cx="1593360" cy="398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Verdana"/>
                </a:rPr>
                <a:t>Bridge M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962520" y="3886200"/>
            <a:ext cx="1981080" cy="1859400"/>
            <a:chOff x="3962520" y="3886200"/>
            <a:chExt cx="1981080" cy="1859400"/>
          </a:xfrm>
        </p:grpSpPr>
        <p:sp>
          <p:nvSpPr>
            <p:cNvPr id="481" name=""/>
            <p:cNvSpPr/>
            <p:nvPr/>
          </p:nvSpPr>
          <p:spPr>
            <a:xfrm>
              <a:off x="3962520" y="3886200"/>
              <a:ext cx="1981080" cy="1859400"/>
            </a:xfrm>
            <a:prstGeom prst="rect">
              <a:avLst/>
            </a:prstGeom>
            <a:gradFill rotWithShape="0">
              <a:gsLst>
                <a:gs pos="0">
                  <a:srgbClr val="fef8ef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Context      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34600" y="4640400"/>
              <a:ext cx="1593360" cy="398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Verdana"/>
                </a:rPr>
                <a:t>Bridge M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6553080" y="3886200"/>
            <a:ext cx="1981440" cy="1859400"/>
          </a:xfrm>
          <a:prstGeom prst="rect">
            <a:avLst/>
          </a:prstGeom>
          <a:gradFill rotWithShape="0">
            <a:gsLst>
              <a:gs pos="0">
                <a:srgbClr val="fef8ef"/>
              </a:gs>
              <a:gs pos="100000">
                <a:srgbClr val="ff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text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77720" y="4419720"/>
            <a:ext cx="150516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ome  M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99680" y="5029200"/>
            <a:ext cx="150192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ther M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133720" y="281952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24280" y="2819520"/>
            <a:ext cx="381240" cy="914400"/>
          </a:xfrm>
          <a:prstGeom prst="downArrow">
            <a:avLst>
              <a:gd name="adj1" fmla="val 50000"/>
              <a:gd name="adj2" fmla="val 59962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315200" y="281952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Flux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685800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3200400" y="236520"/>
            <a:ext cx="6400800" cy="6364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271296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arâmetros do VAC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14800" y="3581280"/>
            <a:ext cx="4724280" cy="9144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MON - Remote Monitoring MIB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 procu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B definida inicialmente para informações Ethernet e FDDI, que permite coleta e algum nível de tratamento local de dados, por um dispositivo diretamente conectado a uma rede lo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implementada num HUB, num analisador de rede ou mesmo numa estação da rede (mesmo num 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oper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ff-lin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coletando dados para posterior envio ao g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e Distribuí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ção cooperativa da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um é responsável por um segmento da mesma (um sistema em particular ou uma sub-red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am poder inspecionar os demais segmentos para poder  resolver proble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entários sobre RM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sadores de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ente 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 SNMP para reportar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ões proprietá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5327640"/>
            <a:ext cx="2844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56480" y="5353200"/>
            <a:ext cx="0" cy="101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442280" y="5353200"/>
            <a:ext cx="0" cy="177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051760" y="5353200"/>
            <a:ext cx="0" cy="177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661240" y="5353200"/>
            <a:ext cx="0" cy="177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934320" y="4743360"/>
            <a:ext cx="863640" cy="330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19920" y="4591080"/>
            <a:ext cx="482400" cy="4064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99280" y="5048280"/>
            <a:ext cx="0" cy="253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89640" y="5124600"/>
            <a:ext cx="0" cy="177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86200" y="4794120"/>
            <a:ext cx="2082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8120" y="4438800"/>
            <a:ext cx="939600" cy="7873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te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616120" y="47941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565360" y="4133880"/>
            <a:ext cx="0" cy="2387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717480" y="4946760"/>
            <a:ext cx="1390680" cy="112392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1905120" y="5784840"/>
            <a:ext cx="6350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9880" y="6219720"/>
            <a:ext cx="2034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çã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ência da re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tas do RM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ff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leta dados e acumula estatísti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uperação pos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tificação em caso de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nitoração pró-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gramas de diagnó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g da performance da r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tificar em caso de exceção e prover dados para diagnó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tas do RM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cção e relato de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onhecer condições de erro ( log ou notific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os de valor adicio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terminar quem transmite mais ou gera mais er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últiplos ge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838080" y="0"/>
          <a:ext cx="83059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8305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MON - Grup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957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t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a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ostTo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l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tura de Pac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MON - Grupo Estatístic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cotes, octetos, broadcasts, multicasts, coli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cotes descartados pelo a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der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ra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C/Al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ver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mento local, reduz tráfego gerente-agente e carga de processamento no g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MON - Grupo Estatístic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NMP é usado para recuperar a tabela int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hernet e Token-ring e futuramente outros interfaces, tal como FD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statístic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ga, erros, tamanho de pac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herStat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685800" y="2994120"/>
          <a:ext cx="6080040" cy="386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94120"/>
                    <a:ext cx="6080040" cy="38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statístic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herStatsTable (continu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kts64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kts65to127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kts128to255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kts256to511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kts512to1023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kts1024to1518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mazena amostras das estat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istoryControl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ex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taS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uckets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ucketsGr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ificulda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 de diagnóstico difí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dores não detém o conhecimento necessário para efetuar o diagnóstico apropr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idade de dispor de um ambiente que contenha mecanismos que apoiem este processo de diagnó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herHistory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609480" y="2133720"/>
          <a:ext cx="6099120" cy="406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6099120" cy="40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ar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ção de alarmes a partir de limites estabele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arm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066680" y="3124080"/>
          <a:ext cx="6080400" cy="39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124080"/>
                    <a:ext cx="608040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ar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52520" y="1905120"/>
            <a:ext cx="0" cy="27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59000" y="4648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71600" y="2514600"/>
            <a:ext cx="5067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3809880"/>
            <a:ext cx="5067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63560" y="2292480"/>
            <a:ext cx="444600" cy="19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120760" y="2279160"/>
            <a:ext cx="596880" cy="199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730600" y="2292480"/>
            <a:ext cx="36828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111480" y="2126880"/>
            <a:ext cx="520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45000" y="2139840"/>
            <a:ext cx="74916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406760" y="3422520"/>
            <a:ext cx="13968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59400" y="3435480"/>
            <a:ext cx="67284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245200" y="2127240"/>
            <a:ext cx="596880" cy="20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643040" y="1981080"/>
            <a:ext cx="33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72360" y="4343400"/>
            <a:ext cx="45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1840" y="1981080"/>
            <a:ext cx="45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58360" y="4343400"/>
            <a:ext cx="45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757840" y="1905120"/>
            <a:ext cx="33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s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tísticas concernentes aos hosts das sub-redes monito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ostControl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ex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ta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ble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stDelete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s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ost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ostTime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ationOrder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ex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1143000" y="2514600"/>
          <a:ext cx="6081840" cy="399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608184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HostTop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mazena tabelas de hosts ordenados segundo os objetos: inPkts, outPkts, inOctets, outOctets, outErrors, outBroadcast e out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ostTopNControl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838080" y="3809880"/>
          <a:ext cx="6208920" cy="40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9880"/>
                    <a:ext cx="6208920" cy="40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HostTop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ostTop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stTopNRe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stTopNIndex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stTopN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stTopN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triz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 dados sobre o tráfego entre pares de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895480" y="2825640"/>
            <a:ext cx="0" cy="234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454040" y="3206880"/>
            <a:ext cx="673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54040" y="4121280"/>
            <a:ext cx="673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87760" y="3206880"/>
            <a:ext cx="673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39840" y="342900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139840" y="434340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2889360" y="3429000"/>
            <a:ext cx="69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585800" y="320040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85800" y="411480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719160" y="327672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0600" y="5334120"/>
            <a:ext cx="5462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a dados sobre: A-&gt;B, B-&gt;A, B-&gt;C, C-&gt;B, A-&gt;C, C-&gt;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triz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rixCotrol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ex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ta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ble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stDelete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triz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rixSD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urceAddress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tAddress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ex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Dpk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D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D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6T16:59:28Z</dcterms:created>
  <dc:creator>Mars</dc:creator>
  <dc:description/>
  <dc:language>en-US</dc:language>
  <cp:lastModifiedBy>CPSE</cp:lastModifiedBy>
  <dcterms:modified xsi:type="dcterms:W3CDTF">2005-03-03T14:24:25Z</dcterms:modified>
  <cp:revision>41</cp:revision>
  <dc:subject/>
  <dc:title>Gerência de Redes de Computadores</dc:title>
</cp:coreProperties>
</file>