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7B8-C6B9-4AB7-9D03-C26F395D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376-DE99-49AE-A335-58E30177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59E-CFA8-40B2-B095-DD49A9CE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0BE-642D-4CC3-8AB0-4E9EE306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E8AA-24C7-433D-9450-84A77D9D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CC26-898B-48A6-9E8D-9FFAC3ED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A698-4E53-43AE-82E7-BF97BE8F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0ED7-0FE6-4A49-8114-4EBBD4CA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8DD3-F47F-4010-B80F-C5EFC5BA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9930-17E0-41A0-B476-09AAFA1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771-02AA-4F58-930E-5661D585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6FB-7024-47F6-B585-4F665787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2352-4481-4F3C-8496-EEB6423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B4A6-DDA6-4EA5-9DF1-8AC39D97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EA84-A744-43B1-9BB3-3B0DCFC2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6270-19AB-4821-A6BF-C0DC4DF7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CD72-91DE-4795-A04C-D2136BD8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A7F-6598-4FBE-8B36-535B229A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CB1-4258-4C98-85A8-D3768581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996-0B3C-4072-8524-8FDD54AC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61D-4AF8-4AB6-9FA8-502A40FE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A16-5FDB-4F5C-9CDF-98E766F4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8DB-A7F1-493C-A2D2-8407C7B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FF9-A1C2-4313-9C88-4DA802D5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27F-5A73-4A2B-94CF-7F34953FEA5D}" type="slidenum">
              <a:rPr b="0" lang="en-US" sz="1400" spc="-1" strike="noStrike">
                <a:solidFill>
                  <a:srgbClr val="f8f8f8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2B35-156C-4B50-8C6E-0C33E09C608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GERENCIAMENTO HIERÁRQUIC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na Cristina Benso da Sil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Arquitetura Centralizad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rgalo: interface de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 que recebe e trata as solicit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ção da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 de agentes cres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o do número de cálculos de alt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Solu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ir as requisições e cálculos em várias máqu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 o gargalo na interface d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ir gerentes de forma a minimizar gargalos de banda e falhas da 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ge que exista uma coordenação dos processos distribuí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Arquitetura Hierárquic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conjunto de gerentes subordinados são coordenados por um gerente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tes subordinados assumem parte das responsabilidades do gerente 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43000" y="4038480"/>
            <a:ext cx="6629400" cy="1905120"/>
            <a:chOff x="1143000" y="4038480"/>
            <a:chExt cx="6629400" cy="190512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3857760" y="4038480"/>
              <a:ext cx="9428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143000" y="4800600"/>
              <a:ext cx="2209680" cy="1143000"/>
            </a:xfrm>
            <a:prstGeom prst="cloudCallout">
              <a:avLst>
                <a:gd name="adj1" fmla="val 11064"/>
                <a:gd name="adj2" fmla="val -1236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4876920"/>
              <a:ext cx="685800" cy="533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2362320" y="4952880"/>
              <a:ext cx="7156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62720" y="4800600"/>
              <a:ext cx="2209680" cy="1143000"/>
            </a:xfrm>
            <a:prstGeom prst="cloudCallout">
              <a:avLst>
                <a:gd name="adj1" fmla="val 11064"/>
                <a:gd name="adj2" fmla="val -1236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4876920"/>
              <a:ext cx="685800" cy="533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6781680" y="4952880"/>
              <a:ext cx="71604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 flipV="1">
              <a:off x="2209680" y="457164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00600" y="457200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3040" y="434340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icitaç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09680" y="4343400"/>
              <a:ext cx="128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tificaç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Arquitetura Hierárquic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imina garga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lace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z o tráfego de gerenc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lerância a falh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s distribuídos mantém as atividades, armazenando os valores em um 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SNMPv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anager of Manager (M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 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icita informações aos gerentes de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ntes de domí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sáveis pelo gerenciamento de seu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tua ou recebe informações de outros domí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ste comunicação entr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SNMPv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anager-to-Manag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MI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um conjunto de variáveis que descrevem o comportamento de uma entidade SNMPv2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ndo como gerente em uma arquitetura hierárqu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st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los grupos Alarm e Even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upo Alar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a descrição e configuração de alarmes (Threshold Alarm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upo Event permite a definição de eventos configuração de notificações geradas em resposta à ocorrência de ev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SNMPv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943200" cy="952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905120" y="3733920"/>
            <a:ext cx="685800" cy="5331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715680" cy="723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400800" y="3733920"/>
            <a:ext cx="685800" cy="5331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7160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>
            <a:off x="2438280" y="2666880"/>
            <a:ext cx="13240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259092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666880" y="28195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4676400" y="2819520"/>
            <a:ext cx="1266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41400" y="281952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form-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26600" y="281952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form-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74520" y="35812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Get-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41560" y="32004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Get-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09480" y="5562720"/>
            <a:ext cx="762120" cy="7524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2666880" y="5562720"/>
            <a:ext cx="762120" cy="752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105520" y="5562720"/>
            <a:ext cx="761760" cy="7524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7848720" y="5486400"/>
            <a:ext cx="761760" cy="752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H="1">
            <a:off x="685800" y="434340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990720" y="441936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209680" y="4495680"/>
            <a:ext cx="6098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4495680"/>
            <a:ext cx="6098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333760" y="434340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562720" y="441936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0280" y="434340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7162920" y="42670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4960" y="6248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8680" y="6248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8360" y="61722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26480" y="6248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0" y="46483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t-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8880" y="510552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t-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47160" y="47242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t-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9640" y="48769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t-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23160" y="502920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t-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4080" y="44956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t-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Gerenciamento por Delega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legação de tarefas para entidade subordin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s intermedi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bilidade de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vio de código como parâmetro para ent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 recebe um ponteiro para o repositório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Gerenciamento por Delega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ção de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ção do tráfego gerado po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ff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nomia de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exibilidade para extensão das fun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Gerenciamento por Delega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anagement by Delegation (M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ermán Goldszmitmidt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942840" cy="9507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5181480"/>
            <a:ext cx="942840" cy="9511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962520" y="4495680"/>
            <a:ext cx="1218960" cy="68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3124080"/>
            <a:ext cx="1218960" cy="6858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5867280"/>
            <a:ext cx="1219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9720" y="46483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ente M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3040" y="60958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nte 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828800" y="3428640"/>
            <a:ext cx="20574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752480" y="4800240"/>
            <a:ext cx="20574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1640" y="3200400"/>
            <a:ext cx="191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gação Rem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A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4267080"/>
            <a:ext cx="1447920" cy="914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osi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335268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562720" y="45716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6680" y="533412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citaçã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o de Gerência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o de Gerência Hierárqu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NMP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Abord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anagement by Delegation (Mb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ET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MbD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essamento 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st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te Delegation Serv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enviar agentes para um processo elástico re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vocá-los com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head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controlar sua exec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quitetura runtime que sup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biente de execuç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ultith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gação” dinâ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rança baseada em autent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remoto dos a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legation Backplane Middl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MbD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s de segurança da rede podem minar a segurança de aplicações distribuí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s da segu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ru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cep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ca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MbD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lu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ent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DS devem ser autenticados para poder delegar e executar agentes remo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natura digital - MD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ecção de alterações em uma solici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rantir a integridade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ir que não aconteça duplicação, modificação ou resenqu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Data Encryption Stand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IETF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istributed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ência hierárqu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733920" y="5410080"/>
            <a:ext cx="1676160" cy="914400"/>
            <a:chOff x="3733920" y="5410080"/>
            <a:chExt cx="1676160" cy="914400"/>
          </a:xfrm>
        </p:grpSpPr>
        <p:sp>
          <p:nvSpPr>
            <p:cNvPr id="363" name=""/>
            <p:cNvSpPr/>
            <p:nvPr/>
          </p:nvSpPr>
          <p:spPr>
            <a:xfrm>
              <a:off x="4038480" y="5714640"/>
              <a:ext cx="1371600" cy="6098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6200" y="5562360"/>
              <a:ext cx="1371600" cy="6094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5410080"/>
              <a:ext cx="1371600" cy="6094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992880" y="3429000"/>
            <a:ext cx="1092600" cy="1282680"/>
            <a:chOff x="992880" y="3429000"/>
            <a:chExt cx="1092600" cy="128268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1142640" y="3429000"/>
              <a:ext cx="9428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992880" y="43434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572000" y="3429000"/>
            <a:ext cx="2743200" cy="990360"/>
            <a:chOff x="4572000" y="3429000"/>
            <a:chExt cx="2743200" cy="990360"/>
          </a:xfrm>
        </p:grpSpPr>
        <p:sp>
          <p:nvSpPr>
            <p:cNvPr id="370" name=""/>
            <p:cNvSpPr/>
            <p:nvPr/>
          </p:nvSpPr>
          <p:spPr>
            <a:xfrm>
              <a:off x="4876920" y="3733560"/>
              <a:ext cx="2438280" cy="685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 Intermedi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24280" y="3581280"/>
              <a:ext cx="2438640" cy="685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 Intermedi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3429000"/>
              <a:ext cx="2438280" cy="685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 Distribuí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724280" y="4572000"/>
            <a:ext cx="304920" cy="762120"/>
          </a:xfrm>
          <a:prstGeom prst="upDownArrow">
            <a:avLst>
              <a:gd name="adj1" fmla="val 50000"/>
              <a:gd name="adj2" fmla="val 49757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2200" y="4267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88000" y="48006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867280" y="5410080"/>
            <a:ext cx="2743200" cy="990360"/>
            <a:chOff x="5867280" y="5410080"/>
            <a:chExt cx="2743200" cy="990360"/>
          </a:xfrm>
        </p:grpSpPr>
        <p:sp>
          <p:nvSpPr>
            <p:cNvPr id="377" name=""/>
            <p:cNvSpPr/>
            <p:nvPr/>
          </p:nvSpPr>
          <p:spPr>
            <a:xfrm>
              <a:off x="6172200" y="5714640"/>
              <a:ext cx="2438280" cy="685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 Intermedi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19560" y="5562360"/>
              <a:ext cx="2438640" cy="685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 Intermedi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67280" y="5410080"/>
              <a:ext cx="2438280" cy="685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 Distribuí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629400" y="4572000"/>
            <a:ext cx="304920" cy="762120"/>
          </a:xfrm>
          <a:prstGeom prst="upDownArrow">
            <a:avLst>
              <a:gd name="adj1" fmla="val 50000"/>
              <a:gd name="adj2" fmla="val 49757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6120" y="48006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3657600"/>
            <a:ext cx="1981080" cy="304920"/>
          </a:xfrm>
          <a:prstGeom prst="leftRightArrow">
            <a:avLst>
              <a:gd name="adj1" fmla="val 50000"/>
              <a:gd name="adj2" fmla="val 129339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Distributed Management Framework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ramework cons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ões de gerência para monitoração e controle de objetos geren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eshold 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istorical data 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v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eção de serviços que suportam o ambiente run-time para aplicações distribuí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Framework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conhe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vê uma lista de todos os sistemas sobre os quais a gerência distribuída tem conhecimento e está preparada para executar seu ger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mínios de gerê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conjunto de de sistemas conhe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cript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 em script para deleg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Framework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inos de Operação de G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de sistemas conhecidos em um conjunto de domínios que satisfazem um determinado critério para a execução de um processo de gerenci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ção de Creden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delegar credenciais de um usuário do sistema de gerencia a uma aplicação distribuída para execução das funções de forma seg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Framework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role de aces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o em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o em visões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a identificação do usuário que interage com o sistema e do usuário utilizado pelos gerentes distribuídos para interação com 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6248520"/>
            <a:ext cx="137160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992880" y="4572000"/>
            <a:ext cx="1092600" cy="1282680"/>
            <a:chOff x="992880" y="4572000"/>
            <a:chExt cx="1092600" cy="128268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1142640" y="4572000"/>
              <a:ext cx="9428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992880" y="54864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733920" y="4572000"/>
            <a:ext cx="2438280" cy="5335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nte Distribuí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5181480"/>
            <a:ext cx="304920" cy="990720"/>
          </a:xfrm>
          <a:prstGeom prst="upDownArrow">
            <a:avLst>
              <a:gd name="adj1" fmla="val 50000"/>
              <a:gd name="adj2" fmla="val 64681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74840" y="533412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2743200" y="4266720"/>
            <a:ext cx="304920" cy="1219320"/>
          </a:xfrm>
          <a:prstGeom prst="upDownArrow">
            <a:avLst>
              <a:gd name="adj1" fmla="val 50000"/>
              <a:gd name="adj2" fmla="val 79606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1160" y="51055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7238880" y="5410080"/>
            <a:ext cx="1676160" cy="914400"/>
            <a:chOff x="7238880" y="5410080"/>
            <a:chExt cx="1676160" cy="914400"/>
          </a:xfrm>
        </p:grpSpPr>
        <p:sp>
          <p:nvSpPr>
            <p:cNvPr id="401" name=""/>
            <p:cNvSpPr/>
            <p:nvPr/>
          </p:nvSpPr>
          <p:spPr>
            <a:xfrm>
              <a:off x="7543440" y="5714640"/>
              <a:ext cx="1371600" cy="6098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91160" y="5562360"/>
              <a:ext cx="1371600" cy="6094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38880" y="5410080"/>
              <a:ext cx="1371600" cy="6094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IETF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en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motivação é a possibilidade de extender a MIB do agente dinamic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3040" y="5257800"/>
            <a:ext cx="1093320" cy="1282680"/>
            <a:chOff x="383040" y="5257800"/>
            <a:chExt cx="1093320" cy="12826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533160" y="5257800"/>
              <a:ext cx="9432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83040" y="61722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657600" y="5410080"/>
            <a:ext cx="1752480" cy="6858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ente 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5562720"/>
            <a:ext cx="1524240" cy="304560"/>
          </a:xfrm>
          <a:prstGeom prst="leftRightArrow">
            <a:avLst>
              <a:gd name="adj1" fmla="val 50000"/>
              <a:gd name="adj2" fmla="val 99631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5638680"/>
            <a:ext cx="1524240" cy="304920"/>
          </a:xfrm>
          <a:prstGeom prst="leftRightArrow">
            <a:avLst>
              <a:gd name="adj1" fmla="val 50000"/>
              <a:gd name="adj2" fmla="val 99513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592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5760" y="58672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en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AgentX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ent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xy entre gerentes SNMP e os sub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tem acesso às informações de g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plexar mensagens SNM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subagentes contém a instru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ita solicitações de conexão dos sub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ita o registro da MIB dos sub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via e aceita mensagens 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via e recebe mensagens do Agen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enciamento de 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ação d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 d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1892520" cy="20336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4572000" y="4952880"/>
            <a:ext cx="2819160" cy="1230480"/>
            <a:chOff x="4572000" y="4952880"/>
            <a:chExt cx="2819160" cy="1230480"/>
          </a:xfrm>
        </p:grpSpPr>
        <p:grpSp>
          <p:nvGrpSpPr>
            <p:cNvPr id="108" name=""/>
            <p:cNvGrpSpPr/>
            <p:nvPr/>
          </p:nvGrpSpPr>
          <p:grpSpPr>
            <a:xfrm>
              <a:off x="4572000" y="5565240"/>
              <a:ext cx="1825920" cy="618120"/>
              <a:chOff x="4572000" y="5565240"/>
              <a:chExt cx="1825920" cy="61812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2480" y="5926680"/>
                <a:ext cx="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18160" y="6008760"/>
                <a:ext cx="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94320" y="5884200"/>
                <a:ext cx="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05400" y="5937120"/>
                <a:ext cx="0" cy="18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73200" y="5641560"/>
                <a:ext cx="0" cy="11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7840" y="5603040"/>
                <a:ext cx="5760" cy="222840"/>
              </a:xfrm>
              <a:custGeom>
                <a:avLst/>
                <a:gdLst/>
                <a:ahLst/>
                <a:rect l="l" t="t" r="r" b="b"/>
                <a:pathLst>
                  <a:path w="7" h="318">
                    <a:moveTo>
                      <a:pt x="0" y="0"/>
                    </a:moveTo>
                    <a:lnTo>
                      <a:pt x="0" y="311"/>
                    </a:lnTo>
                    <a:lnTo>
                      <a:pt x="6" y="3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0" y="5849280"/>
                <a:ext cx="0" cy="22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49520" y="5919480"/>
                <a:ext cx="892440" cy="181080"/>
              </a:xfrm>
              <a:custGeom>
                <a:avLst/>
                <a:gdLst/>
                <a:ahLst/>
                <a:rect l="l" t="t" r="r" b="b"/>
                <a:pathLst>
                  <a:path w="1022" h="258">
                    <a:moveTo>
                      <a:pt x="0" y="213"/>
                    </a:moveTo>
                    <a:lnTo>
                      <a:pt x="401" y="0"/>
                    </a:lnTo>
                    <a:lnTo>
                      <a:pt x="1021" y="150"/>
                    </a:lnTo>
                    <a:lnTo>
                      <a:pt x="886" y="237"/>
                    </a:lnTo>
                    <a:lnTo>
                      <a:pt x="419" y="117"/>
                    </a:lnTo>
                    <a:lnTo>
                      <a:pt x="179" y="257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82440" y="5565240"/>
                <a:ext cx="1815480" cy="369720"/>
              </a:xfrm>
              <a:custGeom>
                <a:avLst/>
                <a:gdLst/>
                <a:ahLst/>
                <a:rect l="l" t="t" r="r" b="b"/>
                <a:pathLst>
                  <a:path w="2079" h="527">
                    <a:moveTo>
                      <a:pt x="1964" y="526"/>
                    </a:moveTo>
                    <a:lnTo>
                      <a:pt x="2078" y="449"/>
                    </a:lnTo>
                    <a:lnTo>
                      <a:pt x="1335" y="281"/>
                    </a:lnTo>
                    <a:lnTo>
                      <a:pt x="1707" y="102"/>
                    </a:lnTo>
                    <a:lnTo>
                      <a:pt x="1575" y="78"/>
                    </a:lnTo>
                    <a:lnTo>
                      <a:pt x="1198" y="251"/>
                    </a:lnTo>
                    <a:lnTo>
                      <a:pt x="138" y="0"/>
                    </a:lnTo>
                    <a:lnTo>
                      <a:pt x="0" y="54"/>
                    </a:lnTo>
                    <a:lnTo>
                      <a:pt x="1964" y="52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72000" y="5808600"/>
                <a:ext cx="691560" cy="315000"/>
              </a:xfrm>
              <a:custGeom>
                <a:avLst/>
                <a:gdLst/>
                <a:ahLst/>
                <a:rect l="l" t="t" r="r" b="b"/>
                <a:pathLst>
                  <a:path w="792" h="449">
                    <a:moveTo>
                      <a:pt x="126" y="0"/>
                    </a:moveTo>
                    <a:lnTo>
                      <a:pt x="791" y="161"/>
                    </a:lnTo>
                    <a:lnTo>
                      <a:pt x="281" y="448"/>
                    </a:lnTo>
                    <a:lnTo>
                      <a:pt x="132" y="412"/>
                    </a:lnTo>
                    <a:lnTo>
                      <a:pt x="539" y="185"/>
                    </a:lnTo>
                    <a:lnTo>
                      <a:pt x="0" y="54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70280" y="5242320"/>
              <a:ext cx="920880" cy="831240"/>
              <a:chOff x="6470280" y="5242320"/>
              <a:chExt cx="920880" cy="831240"/>
            </a:xfrm>
          </p:grpSpPr>
          <p:sp>
            <p:nvSpPr>
              <p:cNvPr id="120" name=""/>
              <p:cNvSpPr/>
              <p:nvPr/>
            </p:nvSpPr>
            <p:spPr>
              <a:xfrm>
                <a:off x="6621840" y="5275080"/>
                <a:ext cx="144720" cy="233280"/>
              </a:xfrm>
              <a:custGeom>
                <a:avLst/>
                <a:gdLst/>
                <a:ahLst/>
                <a:rect l="l" t="t" r="r" b="b"/>
                <a:pathLst>
                  <a:path w="166" h="333">
                    <a:moveTo>
                      <a:pt x="0" y="0"/>
                    </a:moveTo>
                    <a:lnTo>
                      <a:pt x="0" y="305"/>
                    </a:lnTo>
                    <a:lnTo>
                      <a:pt x="165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65120" y="5496840"/>
                <a:ext cx="0" cy="18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70280" y="5697360"/>
                <a:ext cx="0" cy="18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193880" y="5343840"/>
                <a:ext cx="0" cy="13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96120" y="55108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70280" y="5242320"/>
                <a:ext cx="920880" cy="831240"/>
              </a:xfrm>
              <a:custGeom>
                <a:avLst/>
                <a:gdLst/>
                <a:ahLst/>
                <a:rect l="l" t="t" r="r" b="b"/>
                <a:pathLst>
                  <a:path w="1055" h="1185">
                    <a:moveTo>
                      <a:pt x="1054" y="113"/>
                    </a:moveTo>
                    <a:lnTo>
                      <a:pt x="257" y="0"/>
                    </a:lnTo>
                    <a:lnTo>
                      <a:pt x="168" y="41"/>
                    </a:lnTo>
                    <a:lnTo>
                      <a:pt x="719" y="119"/>
                    </a:lnTo>
                    <a:lnTo>
                      <a:pt x="335" y="358"/>
                    </a:lnTo>
                    <a:lnTo>
                      <a:pt x="743" y="424"/>
                    </a:lnTo>
                    <a:lnTo>
                      <a:pt x="461" y="651"/>
                    </a:lnTo>
                    <a:lnTo>
                      <a:pt x="96" y="574"/>
                    </a:lnTo>
                    <a:lnTo>
                      <a:pt x="0" y="639"/>
                    </a:lnTo>
                    <a:lnTo>
                      <a:pt x="808" y="819"/>
                    </a:lnTo>
                    <a:lnTo>
                      <a:pt x="515" y="1148"/>
                    </a:lnTo>
                    <a:lnTo>
                      <a:pt x="653" y="1184"/>
                    </a:lnTo>
                    <a:lnTo>
                      <a:pt x="988" y="771"/>
                    </a:lnTo>
                    <a:lnTo>
                      <a:pt x="593" y="687"/>
                    </a:lnTo>
                    <a:lnTo>
                      <a:pt x="946" y="376"/>
                    </a:lnTo>
                    <a:lnTo>
                      <a:pt x="563" y="311"/>
                    </a:lnTo>
                    <a:lnTo>
                      <a:pt x="826" y="137"/>
                    </a:lnTo>
                    <a:lnTo>
                      <a:pt x="970" y="161"/>
                    </a:lnTo>
                    <a:lnTo>
                      <a:pt x="1054" y="1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380280" y="4969440"/>
              <a:ext cx="990000" cy="298800"/>
              <a:chOff x="6380280" y="4969440"/>
              <a:chExt cx="990000" cy="298800"/>
            </a:xfrm>
          </p:grpSpPr>
          <p:sp>
            <p:nvSpPr>
              <p:cNvPr id="127" name=""/>
              <p:cNvSpPr/>
              <p:nvPr/>
            </p:nvSpPr>
            <p:spPr>
              <a:xfrm>
                <a:off x="6909120" y="5008680"/>
                <a:ext cx="0" cy="6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95920" y="5072400"/>
                <a:ext cx="0" cy="19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80280" y="4969440"/>
                <a:ext cx="990000" cy="168120"/>
              </a:xfrm>
              <a:custGeom>
                <a:avLst/>
                <a:gdLst/>
                <a:ahLst/>
                <a:rect l="l" t="t" r="r" b="b"/>
                <a:pathLst>
                  <a:path w="1134" h="240">
                    <a:moveTo>
                      <a:pt x="0" y="15"/>
                    </a:moveTo>
                    <a:lnTo>
                      <a:pt x="453" y="67"/>
                    </a:lnTo>
                    <a:lnTo>
                      <a:pt x="251" y="142"/>
                    </a:lnTo>
                    <a:lnTo>
                      <a:pt x="1055" y="239"/>
                    </a:lnTo>
                    <a:lnTo>
                      <a:pt x="1133" y="197"/>
                    </a:lnTo>
                    <a:lnTo>
                      <a:pt x="425" y="118"/>
                    </a:lnTo>
                    <a:lnTo>
                      <a:pt x="606" y="48"/>
                    </a:lnTo>
                    <a:lnTo>
                      <a:pt x="127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687200" y="4952880"/>
              <a:ext cx="1783800" cy="679680"/>
              <a:chOff x="4687200" y="4952880"/>
              <a:chExt cx="1783800" cy="67968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4687200" y="4952880"/>
                <a:ext cx="1783800" cy="679680"/>
                <a:chOff x="4687200" y="4952880"/>
                <a:chExt cx="1783800" cy="6796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18760" y="53514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113080" y="532584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413680" y="5246640"/>
                  <a:ext cx="0" cy="4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4687200" y="4952880"/>
                  <a:ext cx="1783800" cy="679680"/>
                  <a:chOff x="4687200" y="4952880"/>
                  <a:chExt cx="1783800" cy="679680"/>
                </a:xfrm>
              </p:grpSpPr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4687200" y="4952880"/>
                    <a:ext cx="1783800" cy="679680"/>
                    <a:chOff x="4687200" y="4952880"/>
                    <a:chExt cx="1783800" cy="679680"/>
                  </a:xfrm>
                </p:grpSpPr>
                <p:grpSp>
                  <p:nvGrpSpPr>
                    <p:cNvPr id="137" name=""/>
                    <p:cNvGrpSpPr/>
                    <p:nvPr/>
                  </p:nvGrpSpPr>
                  <p:grpSpPr>
                    <a:xfrm>
                      <a:off x="4697640" y="4973760"/>
                      <a:ext cx="1773360" cy="658800"/>
                      <a:chOff x="4697640" y="4973760"/>
                      <a:chExt cx="1773360" cy="658800"/>
                    </a:xfrm>
                  </p:grpSpPr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5471280" y="5156640"/>
                        <a:ext cx="999720" cy="42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5" h="607">
                            <a:moveTo>
                              <a:pt x="0" y="592"/>
                            </a:moveTo>
                            <a:lnTo>
                              <a:pt x="189" y="510"/>
                            </a:lnTo>
                            <a:lnTo>
                              <a:pt x="554" y="606"/>
                            </a:lnTo>
                            <a:lnTo>
                              <a:pt x="1144" y="302"/>
                            </a:lnTo>
                            <a:lnTo>
                              <a:pt x="1144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5632560" y="5282280"/>
                        <a:ext cx="0" cy="23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5945400" y="5335560"/>
                        <a:ext cx="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5345280" y="5080680"/>
                        <a:ext cx="0" cy="203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5241600" y="5394240"/>
                        <a:ext cx="0" cy="2383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5467680" y="5389560"/>
                        <a:ext cx="0" cy="233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4974480" y="5419080"/>
                        <a:ext cx="720" cy="174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4697640" y="5294880"/>
                        <a:ext cx="0" cy="166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6427440" y="5062680"/>
                        <a:ext cx="0" cy="83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5267880" y="5177520"/>
                        <a:ext cx="0" cy="151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4885200" y="5028120"/>
                        <a:ext cx="0" cy="94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4814640" y="5143320"/>
                        <a:ext cx="0" cy="10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5774040" y="5178960"/>
                        <a:ext cx="0" cy="77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960" bIns="30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5931360" y="5130720"/>
                        <a:ext cx="0" cy="153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015240" y="5107680"/>
                        <a:ext cx="0" cy="151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6135840" y="5042880"/>
                        <a:ext cx="0" cy="71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6331320" y="4996800"/>
                        <a:ext cx="0" cy="60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5306040" y="4973760"/>
                        <a:ext cx="0" cy="59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687200" y="4952880"/>
                      <a:ext cx="1642320" cy="39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81" h="563">
                          <a:moveTo>
                            <a:pt x="491" y="526"/>
                          </a:moveTo>
                          <a:lnTo>
                            <a:pt x="377" y="562"/>
                          </a:lnTo>
                          <a:lnTo>
                            <a:pt x="0" y="478"/>
                          </a:lnTo>
                          <a:lnTo>
                            <a:pt x="491" y="335"/>
                          </a:lnTo>
                          <a:lnTo>
                            <a:pt x="147" y="266"/>
                          </a:lnTo>
                          <a:lnTo>
                            <a:pt x="669" y="150"/>
                          </a:lnTo>
                          <a:lnTo>
                            <a:pt x="229" y="100"/>
                          </a:lnTo>
                          <a:lnTo>
                            <a:pt x="706" y="0"/>
                          </a:lnTo>
                          <a:lnTo>
                            <a:pt x="1641" y="87"/>
                          </a:lnTo>
                          <a:lnTo>
                            <a:pt x="1763" y="54"/>
                          </a:lnTo>
                          <a:lnTo>
                            <a:pt x="1880" y="60"/>
                          </a:lnTo>
                          <a:lnTo>
                            <a:pt x="1656" y="126"/>
                          </a:lnTo>
                          <a:lnTo>
                            <a:pt x="703" y="27"/>
                          </a:lnTo>
                          <a:lnTo>
                            <a:pt x="401" y="90"/>
                          </a:lnTo>
                          <a:lnTo>
                            <a:pt x="1515" y="215"/>
                          </a:lnTo>
                          <a:lnTo>
                            <a:pt x="1425" y="251"/>
                          </a:lnTo>
                          <a:lnTo>
                            <a:pt x="760" y="167"/>
                          </a:lnTo>
                          <a:lnTo>
                            <a:pt x="369" y="258"/>
                          </a:lnTo>
                          <a:lnTo>
                            <a:pt x="666" y="316"/>
                          </a:lnTo>
                          <a:lnTo>
                            <a:pt x="161" y="466"/>
                          </a:lnTo>
                          <a:lnTo>
                            <a:pt x="491" y="526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7" name=""/>
                  <p:cNvSpPr/>
                  <p:nvPr/>
                </p:nvSpPr>
                <p:spPr>
                  <a:xfrm>
                    <a:off x="4974480" y="5052960"/>
                    <a:ext cx="14965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14" h="546">
                        <a:moveTo>
                          <a:pt x="0" y="515"/>
                        </a:moveTo>
                        <a:lnTo>
                          <a:pt x="677" y="293"/>
                        </a:lnTo>
                        <a:lnTo>
                          <a:pt x="503" y="270"/>
                        </a:lnTo>
                        <a:lnTo>
                          <a:pt x="827" y="162"/>
                        </a:lnTo>
                        <a:lnTo>
                          <a:pt x="916" y="174"/>
                        </a:lnTo>
                        <a:lnTo>
                          <a:pt x="689" y="252"/>
                        </a:lnTo>
                        <a:lnTo>
                          <a:pt x="1102" y="335"/>
                        </a:lnTo>
                        <a:lnTo>
                          <a:pt x="1555" y="157"/>
                        </a:lnTo>
                        <a:lnTo>
                          <a:pt x="1270" y="120"/>
                        </a:lnTo>
                        <a:lnTo>
                          <a:pt x="1581" y="0"/>
                        </a:lnTo>
                        <a:lnTo>
                          <a:pt x="1665" y="6"/>
                        </a:lnTo>
                        <a:lnTo>
                          <a:pt x="1408" y="111"/>
                        </a:lnTo>
                        <a:lnTo>
                          <a:pt x="1713" y="150"/>
                        </a:lnTo>
                        <a:lnTo>
                          <a:pt x="1114" y="401"/>
                        </a:lnTo>
                        <a:lnTo>
                          <a:pt x="755" y="323"/>
                        </a:lnTo>
                        <a:lnTo>
                          <a:pt x="377" y="443"/>
                        </a:lnTo>
                        <a:lnTo>
                          <a:pt x="563" y="473"/>
                        </a:lnTo>
                        <a:lnTo>
                          <a:pt x="443" y="509"/>
                        </a:lnTo>
                        <a:lnTo>
                          <a:pt x="306" y="479"/>
                        </a:lnTo>
                        <a:lnTo>
                          <a:pt x="102" y="545"/>
                        </a:lnTo>
                        <a:lnTo>
                          <a:pt x="0" y="51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8" name=""/>
              <p:cNvSpPr/>
              <p:nvPr/>
            </p:nvSpPr>
            <p:spPr>
              <a:xfrm>
                <a:off x="6085080" y="5135760"/>
                <a:ext cx="72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AgentX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 sessão com o agente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a regiões da MIB no agentes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ância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a OID das regiões da MIB a variáveis re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a as operações de g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 notif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Arquitetura Distribuíd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es compartilham a responsabilidade de gerenc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es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es Inteli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ção mais comple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ran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to de interação com usuário através de uma interface de ger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Tecnologias para Implementa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teturas de Objetos Distribuídos e Mobilidade de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riet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y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abilidade de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idades reais de gerenc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ço do paradigma de dis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ção 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turas para suporte a programação orientada a objetos distribuídos e código mó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rança (SNMPv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ERMAN, Andy, GREENE, Maria, STWEART, Bob, WALDBUSSER, Steve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ributed Management Framework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net Draft. IETF, Agosto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UMENTHAL, U. &amp; WIJNEN, B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er Based Security Model (USM) for version 3 of the Simple Network Management Protocol (SNMPv3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Request for Comments 2274. Janeiro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E, Jeffrey, FEDOR, Mark, SCHOFFSTALL, Martin, and DAVIN, James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Simple Network Management Protocol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squest for Comments 1157, DDN Network Information Center, SRI International, Maio,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E, J., McCLOGHRIE, K., ROSE, M., WALDBUSSER, S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Operations for Version 2 of the Simple Network Management Protocol (SNMPv2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Request for Comments 1905. Janeiro, 1996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NIELE, M., WIJNEN, B., FRANCISCO, D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ent Extensibility Protocolo (Agent X)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FC 2257. IETF, Janeiro, 1998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OLDSZMITMIDT, Germán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ributed Management by Deleg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Tese de Doutorado. Columbia University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VI, David, SCHOENWAELDER, Juergen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ributed Mangement Script Delegation MIB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net Draft. IETF, Agosto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AR, Nelson, KRAMER, Kwindla, MAES, Pattie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perating Mobile Agents for Mapping Network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Proceedings of Cooperative Information Agents. Fevereiro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EGL, Manfred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ierarchical Network Management - A Concept and its Prototype in SNMPv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http://www.researchinde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HAI,Akhil et. all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trolog: A Distributed and Dynamic Environment for Network and System Managemen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http://www.researchinde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pas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ção e análise do estado d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ção de infor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ção de falhas e determinação de suas cau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ções para remediar a fal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stas pró-ativas para minimizar a ocorrência de fa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ção de valores de variáveis de vários componentes d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ção de ações pré-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 de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ivação/desativação de ele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Arquiteturas de Gerenciament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árqu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Arquitetura Centralizad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único gerente controla o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e consulta os agentes periodica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ientado 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tribuição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838080" y="4191120"/>
            <a:ext cx="6858000" cy="1981080"/>
            <a:chOff x="838080" y="4191120"/>
            <a:chExt cx="6858000" cy="1981080"/>
          </a:xfrm>
        </p:grpSpPr>
        <p:sp>
          <p:nvSpPr>
            <p:cNvPr id="168" name=""/>
            <p:cNvSpPr/>
            <p:nvPr/>
          </p:nvSpPr>
          <p:spPr>
            <a:xfrm>
              <a:off x="838080" y="4800600"/>
              <a:ext cx="1676520" cy="459720"/>
            </a:xfrm>
            <a:prstGeom prst="rect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Ger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91320" y="4800600"/>
              <a:ext cx="1676160" cy="459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A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0120" y="4191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0480" y="548640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4724640"/>
              <a:ext cx="2209680" cy="304560"/>
            </a:xfrm>
            <a:prstGeom prst="rightArrow">
              <a:avLst>
                <a:gd name="adj1" fmla="val 50000"/>
                <a:gd name="adj2" fmla="val 1813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048120" y="5104800"/>
              <a:ext cx="2209680" cy="304920"/>
            </a:xfrm>
            <a:prstGeom prst="rightArrow">
              <a:avLst>
                <a:gd name="adj1" fmla="val 50000"/>
                <a:gd name="adj2" fmla="val 18116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5720" y="5639040"/>
              <a:ext cx="990360" cy="53316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86600" y="5257800"/>
              <a:ext cx="228600" cy="533520"/>
            </a:xfrm>
            <a:prstGeom prst="upDownArrow">
              <a:avLst>
                <a:gd name="adj1" fmla="val 50000"/>
                <a:gd name="adj2" fmla="val 4646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Arquitetura Centralizad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6720" y="4460760"/>
            <a:ext cx="125568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9000" y="2013120"/>
            <a:ext cx="2958840" cy="1134720"/>
            <a:chOff x="189000" y="2013120"/>
            <a:chExt cx="2958840" cy="1134720"/>
          </a:xfrm>
        </p:grpSpPr>
        <p:sp>
          <p:nvSpPr>
            <p:cNvPr id="179" name=""/>
            <p:cNvSpPr/>
            <p:nvPr/>
          </p:nvSpPr>
          <p:spPr>
            <a:xfrm>
              <a:off x="189000" y="2013120"/>
              <a:ext cx="2958840" cy="1134720"/>
            </a:xfrm>
            <a:prstGeom prst="cloudCallout">
              <a:avLst>
                <a:gd name="adj1" fmla="val 6652"/>
                <a:gd name="adj2" fmla="val -50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3760" y="2206440"/>
              <a:ext cx="114336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62240" y="2193120"/>
              <a:ext cx="183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1888560" y="2138400"/>
            <a:ext cx="292320" cy="43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8560" y="2138400"/>
                      <a:ext cx="292320" cy="43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818280" y="2326680"/>
              <a:ext cx="755280" cy="56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573920" y="2326320"/>
              <a:ext cx="31464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944280" y="2892600"/>
            <a:ext cx="18900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54120" y="4022640"/>
            <a:ext cx="188928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3332160"/>
            <a:ext cx="3147840" cy="1380960"/>
            <a:chOff x="0" y="3332160"/>
            <a:chExt cx="3147840" cy="1380960"/>
          </a:xfrm>
        </p:grpSpPr>
        <p:grpSp>
          <p:nvGrpSpPr>
            <p:cNvPr id="189" name=""/>
            <p:cNvGrpSpPr/>
            <p:nvPr/>
          </p:nvGrpSpPr>
          <p:grpSpPr>
            <a:xfrm>
              <a:off x="536400" y="3867120"/>
              <a:ext cx="1002960" cy="381240"/>
              <a:chOff x="536400" y="3867120"/>
              <a:chExt cx="1002960" cy="381240"/>
            </a:xfrm>
          </p:grpSpPr>
          <p:sp>
            <p:nvSpPr>
              <p:cNvPr id="190" name=""/>
              <p:cNvSpPr/>
              <p:nvPr/>
            </p:nvSpPr>
            <p:spPr>
              <a:xfrm>
                <a:off x="536400" y="3867120"/>
                <a:ext cx="100296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6400" y="3867120"/>
                <a:ext cx="1002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6400" y="4172040"/>
                <a:ext cx="10029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72400" y="3867120"/>
                <a:ext cx="66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71000" y="3867120"/>
                <a:ext cx="6696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4560" y="3867120"/>
                <a:ext cx="6696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37960" y="3867120"/>
                <a:ext cx="6660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37960" y="4172040"/>
                <a:ext cx="6660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0" y="3332160"/>
              <a:ext cx="3147840" cy="1380960"/>
            </a:xfrm>
            <a:prstGeom prst="cloudCallout">
              <a:avLst>
                <a:gd name="adj1" fmla="val 6652"/>
                <a:gd name="adj2" fmla="val -50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43400" y="3567600"/>
              <a:ext cx="12171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73600" y="3395880"/>
              <a:ext cx="1832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2920" y="3771360"/>
              <a:ext cx="692280" cy="50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FR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10920" y="402228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40120" y="3708360"/>
            <a:ext cx="3021120" cy="1255680"/>
          </a:xfrm>
          <a:prstGeom prst="cloudCallout">
            <a:avLst>
              <a:gd name="adj1" fmla="val 5467"/>
              <a:gd name="adj2" fmla="val -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84880" y="3902040"/>
            <a:ext cx="1143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41880" y="37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02320" y="4148280"/>
            <a:ext cx="692280" cy="50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88040" y="4335480"/>
            <a:ext cx="31428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028760" y="2639880"/>
            <a:ext cx="1825560" cy="15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3480" y="1371600"/>
            <a:ext cx="3355920" cy="1897200"/>
          </a:xfrm>
          <a:prstGeom prst="cloudCallout">
            <a:avLst>
              <a:gd name="adj1" fmla="val 8796"/>
              <a:gd name="adj2" fmla="val -7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35680" y="1762200"/>
            <a:ext cx="113184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81560" y="163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713040" y="2327400"/>
            <a:ext cx="944640" cy="312480"/>
            <a:chOff x="3713040" y="2327400"/>
            <a:chExt cx="944640" cy="312480"/>
          </a:xfrm>
        </p:grpSpPr>
        <p:sp>
          <p:nvSpPr>
            <p:cNvPr id="213" name=""/>
            <p:cNvSpPr/>
            <p:nvPr/>
          </p:nvSpPr>
          <p:spPr>
            <a:xfrm>
              <a:off x="3713040" y="2327400"/>
              <a:ext cx="9446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13040" y="2327400"/>
              <a:ext cx="944640" cy="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13040" y="2577240"/>
              <a:ext cx="944640" cy="6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94320" y="2327400"/>
              <a:ext cx="63000" cy="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6680" y="2327400"/>
              <a:ext cx="63000" cy="31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2320" y="2327400"/>
              <a:ext cx="63000" cy="31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79680" y="2327400"/>
              <a:ext cx="62640" cy="6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9680" y="2577240"/>
              <a:ext cx="62640" cy="6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971960" y="19494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286240" y="2452680"/>
          <a:ext cx="293760" cy="4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6240" y="2452680"/>
                    <a:ext cx="29376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4971960" y="21384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71960" y="27669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57680" y="24526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77720" y="19051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648320"/>
            <a:ext cx="3429000" cy="1820880"/>
          </a:xfrm>
          <a:prstGeom prst="cloudCallout">
            <a:avLst>
              <a:gd name="adj1" fmla="val 16574"/>
              <a:gd name="adj2" fmla="val -9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32120" y="4900680"/>
            <a:ext cx="113328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79800" y="48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11280" y="5089680"/>
            <a:ext cx="942840" cy="314280"/>
            <a:chOff x="1511280" y="5089680"/>
            <a:chExt cx="942840" cy="314280"/>
          </a:xfrm>
        </p:grpSpPr>
        <p:sp>
          <p:nvSpPr>
            <p:cNvPr id="232" name=""/>
            <p:cNvSpPr/>
            <p:nvPr/>
          </p:nvSpPr>
          <p:spPr>
            <a:xfrm>
              <a:off x="1511280" y="5089680"/>
              <a:ext cx="94284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5089680"/>
              <a:ext cx="942840" cy="6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11280" y="5340960"/>
              <a:ext cx="942840" cy="62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91120" y="5089680"/>
              <a:ext cx="62640" cy="6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13840" y="5089680"/>
              <a:ext cx="6264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9480" y="5089680"/>
              <a:ext cx="6264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6840" y="5089680"/>
              <a:ext cx="62640" cy="6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6840" y="5340960"/>
              <a:ext cx="62640" cy="6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770200" y="51516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84480" y="5089680"/>
          <a:ext cx="291960" cy="43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4480" y="5089680"/>
                    <a:ext cx="2919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084480" y="5654520"/>
          <a:ext cx="291960" cy="43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84480" y="5654520"/>
                    <a:ext cx="29196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770200" y="53402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70200" y="59691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54120" y="521496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72480" y="57675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343400" y="4148280"/>
            <a:ext cx="944640" cy="312480"/>
            <a:chOff x="4343400" y="4148280"/>
            <a:chExt cx="944640" cy="312480"/>
          </a:xfrm>
        </p:grpSpPr>
        <p:sp>
          <p:nvSpPr>
            <p:cNvPr id="250" name=""/>
            <p:cNvSpPr/>
            <p:nvPr/>
          </p:nvSpPr>
          <p:spPr>
            <a:xfrm>
              <a:off x="4343400" y="4148280"/>
              <a:ext cx="9446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148280"/>
              <a:ext cx="944640" cy="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43400" y="4398120"/>
              <a:ext cx="944640" cy="6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24680" y="4148280"/>
              <a:ext cx="63000" cy="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47040" y="4148280"/>
              <a:ext cx="63000" cy="31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72680" y="4148280"/>
              <a:ext cx="63000" cy="31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10040" y="4148280"/>
              <a:ext cx="62640" cy="6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10040" y="4398120"/>
              <a:ext cx="62640" cy="6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867280" y="525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1676520"/>
            <a:ext cx="533520" cy="2286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5257800" y="1600200"/>
            <a:ext cx="942840" cy="952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74360" y="1852560"/>
            <a:ext cx="20764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ção de Ger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71760" y="5105520"/>
            <a:ext cx="4821480" cy="128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nte está associado a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áfica da ferramenta de gerencia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agentes estão nos objetos gerenci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ídos pela re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105520"/>
            <a:ext cx="7596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5029200"/>
            <a:ext cx="75960" cy="30492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4876920"/>
            <a:ext cx="152640" cy="7596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0"/>
                </a:moveTo>
                <a:cubicBezTo>
                  <a:pt x="40" y="20"/>
                  <a:pt x="80" y="40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981080" y="480060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7120" y="47242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Arquitetura Centralizad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has nos roteadores intermediár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rnam os agentes inalcanç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o período de falha impedem o acesso às informações d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rgalo: largura de b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ção de enlaces de baixa velocidade em redes de longa dist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s de monitoração intensos utilizam considerável quantidade de b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6:33:28Z</dcterms:created>
  <dc:creator>Mars</dc:creator>
  <dc:description/>
  <dc:language>en-US</dc:language>
  <cp:lastModifiedBy>Mars</cp:lastModifiedBy>
  <dcterms:modified xsi:type="dcterms:W3CDTF">2000-11-24T01:56:13Z</dcterms:modified>
  <cp:revision>55</cp:revision>
  <dc:subject/>
  <dc:title>GERENCIAMENTO HIERÁRQUICO</dc:title>
</cp:coreProperties>
</file>