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A08-5E03-43ED-B927-9D30BDD1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75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59E-3BEC-4D2F-AF96-63DF2D26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080" y="18284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75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080" y="4375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0D2-E20A-4718-B026-3B0A830C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6240" y="18284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560" y="18284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75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6240" y="4375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560" y="4375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BF1-1C29-4F35-B542-E745404C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13E4-3F81-4D0A-BB8D-10EF4F7D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18CE-DAE0-4968-8E1F-4A2141EB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30B8-23DB-4912-A57C-8D6F917D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7080" y="18284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B92C-E938-4949-BBA7-F566DB14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1139-870D-4756-92C9-92FDDA51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53316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E737-0A0C-4D8F-8924-1D2A4F90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8284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375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392B-7014-4AE6-BA46-295C4589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C5C-ED74-43FF-B13F-E708B41D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7080" y="18284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7080" y="4375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C9F1-91D0-4905-B28A-0357425B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7080" y="18284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375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FBF6-F0A8-4EE1-BF9B-50CD644C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375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2EE8-7564-45F1-AE05-DB2BD393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18284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375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7080" y="4375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AF18-4F34-4B8D-B4C9-729D20AA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6240" y="18284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7560" y="18284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375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6240" y="4375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7560" y="4375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C5D3-B7D9-4BBF-ABA9-F5846BF5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2FBE-8509-4539-87A4-16F5D032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080" y="18284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3AB-3B3B-4AB5-A14B-CC90CE27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780-5840-4DB0-9CFC-0215F35D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53316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0F8-E258-46DF-B6E1-23A90B5F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8284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75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C9F-DC22-48EC-817A-D3FF11DC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080" y="18284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080" y="4375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D49-C901-48D5-B7D5-36B414D8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8284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75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E58-F5AB-4AF5-8731-3B849796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ED07-93B5-4004-BCE5-E710B0E5BD35}" type="slidenum">
              <a:rPr b="0" lang="pt-BR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5CFB-616E-4AF7-9DB9-D10F3EF94D41}" type="slidenum">
              <a:rPr b="0" lang="pt-BR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336699"/>
                </a:solidFill>
                <a:latin typeface="Arial"/>
              </a:rPr>
              <a:t>Linux</a:t>
            </a:r>
            <a:endParaRPr b="1" lang="en-US" sz="6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743200" y="27432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Instalação do Sistema Operacional Linux co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Dual-boo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"/>
              </a:rPr>
              <a:t>Próximos Passos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Configuração da Red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Configuração do Firewal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Escolha a opção sem firewal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eleção da Linguage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ime Zon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oot Passwor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Configuração de Autenticação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eleção de Pacot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"/>
              </a:rPr>
              <a:t>Referências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Uso o site da Red Hat para maiores referências sobre o processo de instalação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9999"/>
                </a:solidFill>
                <a:latin typeface="Arial"/>
              </a:rPr>
              <a:t>http://www.redhat.com/docs/manuals/linux/RHL-9-Manual/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"/>
              </a:rPr>
              <a:t>Perguntas Freqüentes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O Hardware é compatível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Red Ha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http://hardware.redhat.com/hcl/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Há espaço em disco suficiente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Personal Descktop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graphical desktop environment -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1.7Gb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GNOME and KDE desktop environments  - 1.8 Gb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Worksta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graphical desktop environment and software development tools - 2.1GB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"/>
              </a:rPr>
              <a:t>Perguntas ...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erver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minimal installation without X  -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850MB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all package groups other than X -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1.5GB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all packages including the GNOME and KDE desktop environments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- 5.0 GB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ustom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minimal installation  -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475 MB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all packets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- 5.0 GB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"/>
              </a:rPr>
              <a:t>Perguntas...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Você pode instalar a partir do CD-ROM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aminhos alternativo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disque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re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outro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Qual a melhor classe de instalação para você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Personal, custom, worksatation, server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recisa prever mais espaço? Por quê?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"/>
              </a:rPr>
              <a:t>Levantamento de Requisitos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Verificar componentes e definiçõ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538360"/>
          <a:ext cx="8275680" cy="42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38360"/>
                    <a:ext cx="827568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"/>
              </a:rPr>
              <a:t>Particionamento do Disco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ual-Boot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Windows e Linux, p. ex., na máquina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ada sistema usa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eu próprio disc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uma partição de um único disc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Particionamento do disco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ividir o disco em áreas física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Vantagens e/ou desvantagens?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336699"/>
                </a:solidFill>
                <a:latin typeface="Arial"/>
              </a:rPr>
              <a:t>Dual-Boot</a:t>
            </a:r>
            <a:r>
              <a:rPr b="1" lang="pt-BR" sz="4800" spc="-1" strike="noStrike">
                <a:solidFill>
                  <a:srgbClr val="336699"/>
                </a:solidFill>
                <a:latin typeface="Arial"/>
              </a:rPr>
              <a:t> - Máquina sem sistema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Windows NT e Windows 2000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rie partições para o windows e deixe uma partição livre para conter o Linux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eixe uma partição abaixo do cilindro 1024 para o /boot. (opcional!!!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Veja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http://www.pcguide.com/ref/hdd/bios/sizeMB504-c.htm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nstale primeiro o Window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pós de boot com o CD do Linux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particione a área liv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prossiga a instalação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"/>
              </a:rPr>
              <a:t>Partições Linux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isk Drui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articionamento Automatico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499"/>
              </a:spcAft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Remove all Linux partitions on this syste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499"/>
              </a:spcAft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Remove all partitions on this syste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499"/>
              </a:spcAft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Keep all partitions and use existing free space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articionamento Manual 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499"/>
              </a:spcAft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swap  - 2x RAM ou 2x e 1/2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499"/>
              </a:spcAft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/boot  -  em torno de 100 MB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499"/>
              </a:spcAft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/         -  1.7 a 5.0 GB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499"/>
              </a:spcAft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outras?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"/>
              </a:rPr>
              <a:t>Boot Loader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Lilo (LInux LOader)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Grub (GRand Unified Bootloader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Onde colocar o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boot loader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master boot record (MBR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MBR is a special area on your hard drive that is automatically loaded by your computer's BIOS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first sector of your boot parti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recommended if you are already using another boot loader on your system”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20:30:49Z</dcterms:created>
  <dc:creator>CPD</dc:creator>
  <dc:description/>
  <dc:language>en-US</dc:language>
  <cp:lastModifiedBy>benso</cp:lastModifiedBy>
  <dcterms:modified xsi:type="dcterms:W3CDTF">2003-08-25T21:18:28Z</dcterms:modified>
  <cp:revision>2</cp:revision>
  <dc:subject/>
  <dc:title>Linux</dc:title>
</cp:coreProperties>
</file>