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249-6517-4E65-A92F-B777A6FF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410400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93E-BD44-408A-ACF7-0E2973BF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41040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7840" y="41040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6B0-4165-48F9-A9A5-C15BF64E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41040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90680" y="41040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6080" y="41040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445-31B6-40ED-9EE0-3F9CA1DB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3CDA-4023-41B9-B2A4-61EFB8BA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7690-75B6-4FAC-BA2C-7D11FA0D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D93E-048F-4A09-A7F1-60C7BF17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3C2E-BF11-4E57-9D14-78536823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1DA7-5DDF-4815-841C-D6ACB48F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A8CA-DD42-4A0D-BB5C-A968F5A6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1040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8ADB-0FF6-42C3-95D9-7DB4D4E2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CF8-9B31-4D56-B452-509D1160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7840" y="41040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88D7-6533-4557-BA75-027388D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410400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E71A-D260-4393-9131-F528FDA2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410400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0588-E747-4D44-8264-A50E2EDA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41040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7840" y="41040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6452-22A3-4E36-9966-4BFFBCFB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41040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90680" y="41040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6080" y="41040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F71D-3508-4FFE-A74F-DE8319CC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CB7-1EFA-4E04-9A39-583ED6A7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528-7FA6-4787-B274-027E4A88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02F-DE0B-4358-BB27-2C40CE50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7F6-F11E-4DBF-8235-8E70CF41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1040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5F9-6A0C-4F6F-9BB0-9F4B3BCC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7840" y="41040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467-2B1C-420B-83CF-154BE40C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400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4FE-DB99-4DA7-933F-6D5C22FD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Arial"/>
              </a:rPr>
              <a:t>Gerência de Redes                                   Profa. Ana Benso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0FF0-26EB-4320-AD03-1B3676E4FAF8}" type="slidenum">
              <a:rPr b="0" lang="pt-BR" sz="1400" spc="-1" strike="noStrike">
                <a:solidFill>
                  <a:srgbClr val="f8f8f8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92504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5DE3-FB61-4E62-AF89-8BD0F659C3B4}" type="slidenum">
              <a:rPr b="0" lang="pt-BR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792468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Segurança no Linux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ência de Redes de Compu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a. Ana Cristina Benso da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Senha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escol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ha que contenha ao menos 6 caract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has que contenha caracteres não-alfab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ha fácil para que não seja esquecida e não precise ser escrita (guardada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ha que possa ser digitada rapidam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omo proteger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e um mecanismo de senhas “seguro” (ou o mais seguro possí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rifique o programa “passwd” da sua instalação e opte por um mais 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te a verificação das senhas usando o programa Crack (ou similares) period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ce seus usuário a trocar suas senhas period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e mecanismos altern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Gerenciamento de Sistema de Arquivo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missões de diretórios e arqu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funcionam as permissões no UNI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ID  e SG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ibutos de diretórios e arqu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sat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t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ções: secure deletion, undelet, compress, synchronous, immutable, append only, n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um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n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Permissõe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bsolu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777, 766,755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mb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wxrwxrwx, rwxrw-rw-, rwxr-xr-x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alte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mod [ugoa] [+|-][rwx] &lt;arquivo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mod &lt;valor absoluto&gt; &lt;arquivo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88240" y="1981080"/>
            <a:ext cx="4274280" cy="825480"/>
            <a:chOff x="4188240" y="1981080"/>
            <a:chExt cx="4274280" cy="825480"/>
          </a:xfrm>
        </p:grpSpPr>
        <p:sp>
          <p:nvSpPr>
            <p:cNvPr id="156" name=""/>
            <p:cNvSpPr/>
            <p:nvPr/>
          </p:nvSpPr>
          <p:spPr>
            <a:xfrm>
              <a:off x="4188240" y="1981080"/>
              <a:ext cx="4274280" cy="8254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  <a:effectLst>
              <a:outerShdw dist="107932" dir="27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UID          rw</a:t>
              </a:r>
              <a:r>
                <a:rPr b="0" lang="pt-BR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r-x r-x   (475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GID          rwx r-</a:t>
              </a:r>
              <a:r>
                <a:rPr b="0" lang="pt-BR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r-x   (275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213372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  <a:effectLst>
              <a:outerShdw dist="107932" dir="27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2438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  <a:effectLst>
              <a:outerShdw dist="107932" dir="27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Find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comando bastante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nd /home/profs –name p1.doc –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ID ou S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nd / -type f \( -perm 4000 –o –perm 2000 \) -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busca no NFS local s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nd / -local  -type f \( -perm 4000 –o –perm 2000 \)      –exec ls –ld ‘{}’ \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Restrições do Sistema de Arquivo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permite “montagem”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ilesystem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xternos (cd, disquete,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vo /etc/fs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ex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s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a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er (usa nodev, nosuid, noex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System Log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ys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figuração: /etc/syslog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regist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aemon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yslog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Outros Log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uários d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/var/log/wtmp (outros diretórios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ando l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role de proce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role de err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/var/adm/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/var/log/sys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licações especí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TCP_Wrapper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2800" y="3733920"/>
            <a:ext cx="79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e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82320" y="3733920"/>
            <a:ext cx="70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c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7600" y="2286000"/>
            <a:ext cx="1113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yslo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08760" y="3505320"/>
            <a:ext cx="1326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.telne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7640" y="4724280"/>
            <a:ext cx="1377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.rlog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52760" y="2819520"/>
            <a:ext cx="1105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.talk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70840" y="5410080"/>
            <a:ext cx="986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.ft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7920" y="4114800"/>
            <a:ext cx="1191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.ti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3124080"/>
            <a:ext cx="106668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5791320"/>
            <a:ext cx="106668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114800"/>
            <a:ext cx="106704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35053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447920" y="39621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4038120"/>
            <a:ext cx="12956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438280" y="411444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2362320"/>
            <a:ext cx="106668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6320" y="26049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etd.co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124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38098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94320" y="48006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sts.a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3600" y="518148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sts.d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43434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434340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334120" y="281952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562720" y="3048120"/>
            <a:ext cx="1447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562720" y="373356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38862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88620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3886200"/>
            <a:ext cx="16002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8680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324480" y="2514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53280" y="5638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296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53280" y="4343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2960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532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Portas de Serviç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r quais serviços são realmente necess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abilitar serviços desnecess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7 – 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9 – dis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3- da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3 - 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7 –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79 – 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Vulnerabilidades - Resum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valos de tró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ck D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ackers (password cra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missões de Arquivos e configuração d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gramas com SU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usted hosts (.rhosts, p. e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uffer Over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Outro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tm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ementar controle de acesso similar ao TCP_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ine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titua inetd por xine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iciona controle de acesso para TCP, UDP e 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mitações de acesso baseadas em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informações “logad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vê mecanismos para prevenir 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incluir na compilação a libwrap (TCP_wrap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Outros..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P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ltro de pac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onfiguração da Rede e Serviço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teger a infraestru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teger a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teger equipamentos de interconex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almente os que fazem rote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 clás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eração de rotas co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poofed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onfiguração da Rede e Serviço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teger os Serviç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IS (NIS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vidores de Password  e Chaves (ke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vidores de Autenticação e Pro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TP / T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Programa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ip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Roteiro Básic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1590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... Resumo ..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canning e Snif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poo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aques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j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ões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d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o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Procedimentos Básico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nha para 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re outros: impedir o boot por CD ou disqu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/etc/lilo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mis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mod 600 /etc/lilo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ttr +i /etc/lilo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licitação de password para boot 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ingle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Instalação e Configura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limine serviços que não são necess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figure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tart-up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sbin/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etc/initab (informa o run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etc/rc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x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x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ção de pacotes com R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idação MD5 h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natura PG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Modelo de Segurança do Unix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1371600"/>
            <a:ext cx="2362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286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66600" y="1981080"/>
            <a:ext cx="144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ock and gu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362320"/>
            <a:ext cx="3451320" cy="31240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666880"/>
            <a:ext cx="2590920" cy="25146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83720" y="2590920"/>
            <a:ext cx="1846440" cy="3373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count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83000" y="5181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03440" y="4876920"/>
            <a:ext cx="1985040" cy="307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sername &amp; pass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83000" y="4876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17440" y="35053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93360" y="32767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3124080"/>
            <a:ext cx="1698840" cy="167652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93680" y="3686040"/>
            <a:ext cx="129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ILE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335268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ermiss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1200" y="426708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00400" y="5943600"/>
            <a:ext cx="2362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160" y="601992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6400" y="5638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16400" y="5867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95680" y="556272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wrappers &amp; firew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7880" y="6172200"/>
            <a:ext cx="21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igura:  Unix System Security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ontas de Usuári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enciamento de contas de us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oas sen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as as contas devem ter senhas ou devem estar bloque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ção do sha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iminação do yp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tent: somente o root deve obter o arquiv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eração de senhas periodic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uários visitantes: shell restrito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ontas de Usuário ..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hell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a do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permitir ace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 ou Su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permite loggin na c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etc/securet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idados com  o path do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acrescente “.” no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acrescente diretórios de usu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ários usuários ro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 (roota), Luiz (rootl)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934680" y="4876920"/>
            <a:ext cx="526680" cy="1284120"/>
            <a:chOff x="6934680" y="4876920"/>
            <a:chExt cx="526680" cy="1284120"/>
          </a:xfrm>
        </p:grpSpPr>
        <p:sp>
          <p:nvSpPr>
            <p:cNvPr id="138" name=""/>
            <p:cNvSpPr/>
            <p:nvPr/>
          </p:nvSpPr>
          <p:spPr>
            <a:xfrm flipH="1">
              <a:off x="7101360" y="5088960"/>
              <a:ext cx="264600" cy="223920"/>
            </a:xfrm>
            <a:custGeom>
              <a:avLst/>
              <a:gdLst/>
              <a:ahLst/>
              <a:rect l="l" t="t" r="r" b="b"/>
              <a:pathLst>
                <a:path w="608" h="607">
                  <a:moveTo>
                    <a:pt x="397" y="176"/>
                  </a:moveTo>
                  <a:lnTo>
                    <a:pt x="322" y="62"/>
                  </a:lnTo>
                  <a:lnTo>
                    <a:pt x="246" y="0"/>
                  </a:lnTo>
                  <a:lnTo>
                    <a:pt x="157" y="0"/>
                  </a:lnTo>
                  <a:lnTo>
                    <a:pt x="59" y="39"/>
                  </a:lnTo>
                  <a:lnTo>
                    <a:pt x="14" y="107"/>
                  </a:lnTo>
                  <a:lnTo>
                    <a:pt x="0" y="198"/>
                  </a:lnTo>
                  <a:lnTo>
                    <a:pt x="14" y="320"/>
                  </a:lnTo>
                  <a:lnTo>
                    <a:pt x="74" y="456"/>
                  </a:lnTo>
                  <a:lnTo>
                    <a:pt x="180" y="547"/>
                  </a:lnTo>
                  <a:lnTo>
                    <a:pt x="261" y="592"/>
                  </a:lnTo>
                  <a:lnTo>
                    <a:pt x="345" y="607"/>
                  </a:lnTo>
                  <a:lnTo>
                    <a:pt x="412" y="585"/>
                  </a:lnTo>
                  <a:lnTo>
                    <a:pt x="449" y="547"/>
                  </a:lnTo>
                  <a:lnTo>
                    <a:pt x="473" y="456"/>
                  </a:lnTo>
                  <a:lnTo>
                    <a:pt x="465" y="350"/>
                  </a:lnTo>
                  <a:lnTo>
                    <a:pt x="441" y="260"/>
                  </a:lnTo>
                  <a:lnTo>
                    <a:pt x="591" y="176"/>
                  </a:lnTo>
                  <a:lnTo>
                    <a:pt x="608" y="138"/>
                  </a:lnTo>
                  <a:lnTo>
                    <a:pt x="591" y="122"/>
                  </a:lnTo>
                  <a:lnTo>
                    <a:pt x="426" y="221"/>
                  </a:lnTo>
                  <a:lnTo>
                    <a:pt x="397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940440" y="4876920"/>
              <a:ext cx="235800" cy="499680"/>
            </a:xfrm>
            <a:custGeom>
              <a:avLst/>
              <a:gdLst/>
              <a:ahLst/>
              <a:rect l="l" t="t" r="r" b="b"/>
              <a:pathLst>
                <a:path w="542" h="1356">
                  <a:moveTo>
                    <a:pt x="151" y="1145"/>
                  </a:moveTo>
                  <a:lnTo>
                    <a:pt x="52" y="1220"/>
                  </a:lnTo>
                  <a:lnTo>
                    <a:pt x="23" y="1244"/>
                  </a:lnTo>
                  <a:lnTo>
                    <a:pt x="0" y="1296"/>
                  </a:lnTo>
                  <a:lnTo>
                    <a:pt x="30" y="1349"/>
                  </a:lnTo>
                  <a:lnTo>
                    <a:pt x="60" y="1356"/>
                  </a:lnTo>
                  <a:lnTo>
                    <a:pt x="151" y="1326"/>
                  </a:lnTo>
                  <a:lnTo>
                    <a:pt x="286" y="1220"/>
                  </a:lnTo>
                  <a:lnTo>
                    <a:pt x="406" y="1092"/>
                  </a:lnTo>
                  <a:lnTo>
                    <a:pt x="534" y="947"/>
                  </a:lnTo>
                  <a:lnTo>
                    <a:pt x="542" y="887"/>
                  </a:lnTo>
                  <a:lnTo>
                    <a:pt x="542" y="721"/>
                  </a:lnTo>
                  <a:lnTo>
                    <a:pt x="504" y="463"/>
                  </a:lnTo>
                  <a:lnTo>
                    <a:pt x="527" y="312"/>
                  </a:lnTo>
                  <a:lnTo>
                    <a:pt x="542" y="250"/>
                  </a:lnTo>
                  <a:lnTo>
                    <a:pt x="519" y="220"/>
                  </a:lnTo>
                  <a:lnTo>
                    <a:pt x="466" y="190"/>
                  </a:lnTo>
                  <a:lnTo>
                    <a:pt x="429" y="168"/>
                  </a:lnTo>
                  <a:lnTo>
                    <a:pt x="451" y="31"/>
                  </a:lnTo>
                  <a:lnTo>
                    <a:pt x="436" y="0"/>
                  </a:lnTo>
                  <a:lnTo>
                    <a:pt x="406" y="9"/>
                  </a:lnTo>
                  <a:lnTo>
                    <a:pt x="391" y="183"/>
                  </a:lnTo>
                  <a:lnTo>
                    <a:pt x="377" y="228"/>
                  </a:lnTo>
                  <a:lnTo>
                    <a:pt x="369" y="258"/>
                  </a:lnTo>
                  <a:lnTo>
                    <a:pt x="308" y="235"/>
                  </a:lnTo>
                  <a:lnTo>
                    <a:pt x="264" y="235"/>
                  </a:lnTo>
                  <a:lnTo>
                    <a:pt x="264" y="265"/>
                  </a:lnTo>
                  <a:lnTo>
                    <a:pt x="293" y="289"/>
                  </a:lnTo>
                  <a:lnTo>
                    <a:pt x="347" y="289"/>
                  </a:lnTo>
                  <a:lnTo>
                    <a:pt x="384" y="319"/>
                  </a:lnTo>
                  <a:lnTo>
                    <a:pt x="414" y="372"/>
                  </a:lnTo>
                  <a:lnTo>
                    <a:pt x="443" y="455"/>
                  </a:lnTo>
                  <a:lnTo>
                    <a:pt x="466" y="622"/>
                  </a:lnTo>
                  <a:lnTo>
                    <a:pt x="466" y="773"/>
                  </a:lnTo>
                  <a:lnTo>
                    <a:pt x="451" y="895"/>
                  </a:lnTo>
                  <a:lnTo>
                    <a:pt x="421" y="947"/>
                  </a:lnTo>
                  <a:lnTo>
                    <a:pt x="316" y="1023"/>
                  </a:lnTo>
                  <a:lnTo>
                    <a:pt x="203" y="1092"/>
                  </a:lnTo>
                  <a:lnTo>
                    <a:pt x="151" y="1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248240" y="5337720"/>
              <a:ext cx="213120" cy="300960"/>
            </a:xfrm>
            <a:custGeom>
              <a:avLst/>
              <a:gdLst/>
              <a:ahLst/>
              <a:rect l="l" t="t" r="r" b="b"/>
              <a:pathLst>
                <a:path w="489" h="819">
                  <a:moveTo>
                    <a:pt x="489" y="23"/>
                  </a:moveTo>
                  <a:lnTo>
                    <a:pt x="436" y="0"/>
                  </a:lnTo>
                  <a:lnTo>
                    <a:pt x="323" y="8"/>
                  </a:lnTo>
                  <a:lnTo>
                    <a:pt x="225" y="84"/>
                  </a:lnTo>
                  <a:lnTo>
                    <a:pt x="82" y="243"/>
                  </a:lnTo>
                  <a:lnTo>
                    <a:pt x="7" y="372"/>
                  </a:lnTo>
                  <a:lnTo>
                    <a:pt x="0" y="417"/>
                  </a:lnTo>
                  <a:lnTo>
                    <a:pt x="37" y="501"/>
                  </a:lnTo>
                  <a:lnTo>
                    <a:pt x="119" y="538"/>
                  </a:lnTo>
                  <a:lnTo>
                    <a:pt x="225" y="583"/>
                  </a:lnTo>
                  <a:lnTo>
                    <a:pt x="308" y="606"/>
                  </a:lnTo>
                  <a:lnTo>
                    <a:pt x="345" y="645"/>
                  </a:lnTo>
                  <a:lnTo>
                    <a:pt x="323" y="697"/>
                  </a:lnTo>
                  <a:lnTo>
                    <a:pt x="263" y="759"/>
                  </a:lnTo>
                  <a:lnTo>
                    <a:pt x="187" y="766"/>
                  </a:lnTo>
                  <a:lnTo>
                    <a:pt x="135" y="742"/>
                  </a:lnTo>
                  <a:lnTo>
                    <a:pt x="104" y="766"/>
                  </a:lnTo>
                  <a:lnTo>
                    <a:pt x="112" y="796"/>
                  </a:lnTo>
                  <a:lnTo>
                    <a:pt x="173" y="819"/>
                  </a:lnTo>
                  <a:lnTo>
                    <a:pt x="263" y="819"/>
                  </a:lnTo>
                  <a:lnTo>
                    <a:pt x="345" y="796"/>
                  </a:lnTo>
                  <a:lnTo>
                    <a:pt x="391" y="766"/>
                  </a:lnTo>
                  <a:lnTo>
                    <a:pt x="421" y="712"/>
                  </a:lnTo>
                  <a:lnTo>
                    <a:pt x="436" y="652"/>
                  </a:lnTo>
                  <a:lnTo>
                    <a:pt x="399" y="598"/>
                  </a:lnTo>
                  <a:lnTo>
                    <a:pt x="308" y="561"/>
                  </a:lnTo>
                  <a:lnTo>
                    <a:pt x="202" y="531"/>
                  </a:lnTo>
                  <a:lnTo>
                    <a:pt x="112" y="478"/>
                  </a:lnTo>
                  <a:lnTo>
                    <a:pt x="89" y="432"/>
                  </a:lnTo>
                  <a:lnTo>
                    <a:pt x="104" y="350"/>
                  </a:lnTo>
                  <a:lnTo>
                    <a:pt x="173" y="243"/>
                  </a:lnTo>
                  <a:lnTo>
                    <a:pt x="256" y="182"/>
                  </a:lnTo>
                  <a:lnTo>
                    <a:pt x="384" y="137"/>
                  </a:lnTo>
                  <a:lnTo>
                    <a:pt x="489" y="114"/>
                  </a:lnTo>
                  <a:lnTo>
                    <a:pt x="489" y="53"/>
                  </a:lnTo>
                  <a:lnTo>
                    <a:pt x="48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088760" y="5323680"/>
              <a:ext cx="199080" cy="370800"/>
            </a:xfrm>
            <a:custGeom>
              <a:avLst/>
              <a:gdLst/>
              <a:ahLst/>
              <a:rect l="l" t="t" r="r" b="b"/>
              <a:pathLst>
                <a:path w="458" h="1007">
                  <a:moveTo>
                    <a:pt x="398" y="318"/>
                  </a:moveTo>
                  <a:lnTo>
                    <a:pt x="352" y="129"/>
                  </a:lnTo>
                  <a:lnTo>
                    <a:pt x="300" y="37"/>
                  </a:lnTo>
                  <a:lnTo>
                    <a:pt x="187" y="0"/>
                  </a:lnTo>
                  <a:lnTo>
                    <a:pt x="74" y="15"/>
                  </a:lnTo>
                  <a:lnTo>
                    <a:pt x="22" y="114"/>
                  </a:lnTo>
                  <a:lnTo>
                    <a:pt x="29" y="235"/>
                  </a:lnTo>
                  <a:lnTo>
                    <a:pt x="59" y="431"/>
                  </a:lnTo>
                  <a:lnTo>
                    <a:pt x="59" y="605"/>
                  </a:lnTo>
                  <a:lnTo>
                    <a:pt x="22" y="757"/>
                  </a:lnTo>
                  <a:lnTo>
                    <a:pt x="0" y="841"/>
                  </a:lnTo>
                  <a:lnTo>
                    <a:pt x="14" y="916"/>
                  </a:lnTo>
                  <a:lnTo>
                    <a:pt x="66" y="955"/>
                  </a:lnTo>
                  <a:lnTo>
                    <a:pt x="135" y="992"/>
                  </a:lnTo>
                  <a:lnTo>
                    <a:pt x="202" y="1007"/>
                  </a:lnTo>
                  <a:lnTo>
                    <a:pt x="285" y="1007"/>
                  </a:lnTo>
                  <a:lnTo>
                    <a:pt x="383" y="931"/>
                  </a:lnTo>
                  <a:lnTo>
                    <a:pt x="458" y="772"/>
                  </a:lnTo>
                  <a:lnTo>
                    <a:pt x="450" y="628"/>
                  </a:lnTo>
                  <a:lnTo>
                    <a:pt x="406" y="461"/>
                  </a:lnTo>
                  <a:lnTo>
                    <a:pt x="398" y="3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95320" y="5625720"/>
              <a:ext cx="151560" cy="535320"/>
            </a:xfrm>
            <a:custGeom>
              <a:avLst/>
              <a:gdLst/>
              <a:ahLst/>
              <a:rect l="l" t="t" r="r" b="b"/>
              <a:pathLst>
                <a:path w="348" h="1456">
                  <a:moveTo>
                    <a:pt x="331" y="23"/>
                  </a:moveTo>
                  <a:lnTo>
                    <a:pt x="242" y="0"/>
                  </a:lnTo>
                  <a:lnTo>
                    <a:pt x="189" y="23"/>
                  </a:lnTo>
                  <a:lnTo>
                    <a:pt x="166" y="98"/>
                  </a:lnTo>
                  <a:lnTo>
                    <a:pt x="189" y="514"/>
                  </a:lnTo>
                  <a:lnTo>
                    <a:pt x="189" y="613"/>
                  </a:lnTo>
                  <a:lnTo>
                    <a:pt x="159" y="796"/>
                  </a:lnTo>
                  <a:lnTo>
                    <a:pt x="151" y="1007"/>
                  </a:lnTo>
                  <a:lnTo>
                    <a:pt x="166" y="1114"/>
                  </a:lnTo>
                  <a:lnTo>
                    <a:pt x="151" y="1174"/>
                  </a:lnTo>
                  <a:lnTo>
                    <a:pt x="46" y="1265"/>
                  </a:lnTo>
                  <a:lnTo>
                    <a:pt x="0" y="1379"/>
                  </a:lnTo>
                  <a:lnTo>
                    <a:pt x="9" y="1417"/>
                  </a:lnTo>
                  <a:lnTo>
                    <a:pt x="90" y="1456"/>
                  </a:lnTo>
                  <a:lnTo>
                    <a:pt x="113" y="1439"/>
                  </a:lnTo>
                  <a:lnTo>
                    <a:pt x="122" y="1372"/>
                  </a:lnTo>
                  <a:lnTo>
                    <a:pt x="144" y="1273"/>
                  </a:lnTo>
                  <a:lnTo>
                    <a:pt x="181" y="1228"/>
                  </a:lnTo>
                  <a:lnTo>
                    <a:pt x="226" y="1198"/>
                  </a:lnTo>
                  <a:lnTo>
                    <a:pt x="264" y="1159"/>
                  </a:lnTo>
                  <a:lnTo>
                    <a:pt x="272" y="1129"/>
                  </a:lnTo>
                  <a:lnTo>
                    <a:pt x="250" y="1091"/>
                  </a:lnTo>
                  <a:lnTo>
                    <a:pt x="226" y="1069"/>
                  </a:lnTo>
                  <a:lnTo>
                    <a:pt x="211" y="977"/>
                  </a:lnTo>
                  <a:lnTo>
                    <a:pt x="226" y="787"/>
                  </a:lnTo>
                  <a:lnTo>
                    <a:pt x="279" y="568"/>
                  </a:lnTo>
                  <a:lnTo>
                    <a:pt x="331" y="393"/>
                  </a:lnTo>
                  <a:lnTo>
                    <a:pt x="348" y="182"/>
                  </a:lnTo>
                  <a:lnTo>
                    <a:pt x="33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934320" y="5625720"/>
              <a:ext cx="248040" cy="451080"/>
            </a:xfrm>
            <a:custGeom>
              <a:avLst/>
              <a:gdLst/>
              <a:ahLst/>
              <a:rect l="l" t="t" r="r" b="b"/>
              <a:pathLst>
                <a:path w="572" h="1228">
                  <a:moveTo>
                    <a:pt x="188" y="182"/>
                  </a:moveTo>
                  <a:lnTo>
                    <a:pt x="173" y="60"/>
                  </a:lnTo>
                  <a:lnTo>
                    <a:pt x="106" y="0"/>
                  </a:lnTo>
                  <a:lnTo>
                    <a:pt x="8" y="8"/>
                  </a:lnTo>
                  <a:lnTo>
                    <a:pt x="0" y="60"/>
                  </a:lnTo>
                  <a:lnTo>
                    <a:pt x="8" y="174"/>
                  </a:lnTo>
                  <a:lnTo>
                    <a:pt x="60" y="348"/>
                  </a:lnTo>
                  <a:lnTo>
                    <a:pt x="99" y="477"/>
                  </a:lnTo>
                  <a:lnTo>
                    <a:pt x="143" y="651"/>
                  </a:lnTo>
                  <a:lnTo>
                    <a:pt x="158" y="802"/>
                  </a:lnTo>
                  <a:lnTo>
                    <a:pt x="158" y="923"/>
                  </a:lnTo>
                  <a:lnTo>
                    <a:pt x="136" y="1015"/>
                  </a:lnTo>
                  <a:lnTo>
                    <a:pt x="113" y="1045"/>
                  </a:lnTo>
                  <a:lnTo>
                    <a:pt x="113" y="1075"/>
                  </a:lnTo>
                  <a:lnTo>
                    <a:pt x="143" y="1121"/>
                  </a:lnTo>
                  <a:lnTo>
                    <a:pt x="195" y="1136"/>
                  </a:lnTo>
                  <a:lnTo>
                    <a:pt x="279" y="1136"/>
                  </a:lnTo>
                  <a:lnTo>
                    <a:pt x="429" y="1174"/>
                  </a:lnTo>
                  <a:lnTo>
                    <a:pt x="473" y="1228"/>
                  </a:lnTo>
                  <a:lnTo>
                    <a:pt x="542" y="1196"/>
                  </a:lnTo>
                  <a:lnTo>
                    <a:pt x="572" y="1121"/>
                  </a:lnTo>
                  <a:lnTo>
                    <a:pt x="542" y="1091"/>
                  </a:lnTo>
                  <a:lnTo>
                    <a:pt x="414" y="1075"/>
                  </a:lnTo>
                  <a:lnTo>
                    <a:pt x="271" y="1075"/>
                  </a:lnTo>
                  <a:lnTo>
                    <a:pt x="210" y="1067"/>
                  </a:lnTo>
                  <a:lnTo>
                    <a:pt x="195" y="1022"/>
                  </a:lnTo>
                  <a:lnTo>
                    <a:pt x="210" y="938"/>
                  </a:lnTo>
                  <a:lnTo>
                    <a:pt x="219" y="795"/>
                  </a:lnTo>
                  <a:lnTo>
                    <a:pt x="203" y="636"/>
                  </a:lnTo>
                  <a:lnTo>
                    <a:pt x="180" y="424"/>
                  </a:lnTo>
                  <a:lnTo>
                    <a:pt x="188" y="241"/>
                  </a:lnTo>
                  <a:lnTo>
                    <a:pt x="188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781680" y="3352680"/>
            <a:ext cx="1905120" cy="1371600"/>
          </a:xfrm>
          <a:prstGeom prst="wedgeEllipseCallout">
            <a:avLst>
              <a:gd name="adj1" fmla="val -28249"/>
              <a:gd name="adj2" fmla="val 67824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 /etc/securetty deve existir, ainda que vazio!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Senha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e deve escol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has que sejam achadas em dicion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has que contenham seqüências simples de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has que contenham dados pesso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has que sejam similares (no caso de tro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has iguais ao username ou variantes d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has menores do que 6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has que contenham somente letras minúsculas ou maiús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has publicadas como exemplos na litera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4T22:17:33Z</dcterms:created>
  <dc:creator>fgb</dc:creator>
  <dc:description/>
  <dc:language>en-US</dc:language>
  <cp:lastModifiedBy>fgb</cp:lastModifiedBy>
  <dcterms:modified xsi:type="dcterms:W3CDTF">1999-04-15T06:31:27Z</dcterms:modified>
  <cp:revision>21</cp:revision>
  <dc:subject/>
  <dc:title>Segurança no Linux</dc:title>
</cp:coreProperties>
</file>