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1C0-E133-4859-AD49-FA1B976E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3398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A6E-3F39-485E-AF46-3D5AFAE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F26-C48B-4AD9-AA82-CFED1051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7521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7521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3398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3398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3398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A79-1D00-4499-8071-34FF065D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9F0-05B9-426A-8C5B-08F5C131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E5B7-A983-4A41-A81E-AC40B1B6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3BCC-E19B-4845-A609-CD4C5999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05A3-2F75-4801-97BD-EC61D237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0D6A-E5B8-46D9-BBAF-F53C9CEC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C882-6AC8-4984-B443-A7EF2DD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E151-D854-44A1-81E3-1C6583A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E6F-F96B-4842-9CEE-5558660E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36C6-A9C6-44F0-B5C7-ED78824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3398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3C5-44F9-4B92-BC11-1AA6BBA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3398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CD77-EF64-4C1A-992D-3455CFB7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1493-204A-430E-8963-762C8CBC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7521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7521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3398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3398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3398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B67E-E455-4095-A3B8-B1291959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1BD-27A9-4018-A9FE-904475B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DEE-613A-49BE-8DB3-B2402625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C11-7D2C-48CE-A125-3DC6D12C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902-2E5E-4D4C-9649-ADFBF6AF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BDC-C380-4305-997F-997FCCF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3398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90A-6E88-47F6-B07C-879B14EC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7521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3398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20D-45C3-4BBF-8B5F-C288197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E653-58BC-4D69-B40D-B0A4EEC06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AEBA-174F-44F7-97D6-DF81B9CE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et-SNMP: funcionamento e implementação de Ag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ência de Redes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a. Ana Cristina Benso d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nmpd.con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ss &lt;MIBOID&gt; &lt;EXE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ssa o controle total de &lt;MIBOID&gt; para o programa &lt;EXE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grama será chamado com uma das três op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 -s MIBOID TYPE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 -n MIB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 -g MIB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pões do PA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ções -g e 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de Get e Get-next respec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ção 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ão d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c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grama chamado pelo PASS irá receber como parâme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peração (opções -g, -n ou -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ID (MIB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grama deverá retornar para a ST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IBOID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IPO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valor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76720" y="4419720"/>
            <a:ext cx="2671920" cy="459720"/>
            <a:chOff x="3276720" y="4419720"/>
            <a:chExt cx="2671920" cy="459720"/>
          </a:xfrm>
        </p:grpSpPr>
        <p:sp>
          <p:nvSpPr>
            <p:cNvPr id="158" name=""/>
            <p:cNvSpPr/>
            <p:nvPr/>
          </p:nvSpPr>
          <p:spPr>
            <a:xfrm>
              <a:off x="3276720" y="4495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3040" y="441972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Times New Roman"/>
                </a:rPr>
                <a:t>Atenção!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7760" y="4214880"/>
            <a:ext cx="21376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3300"/>
                </a:solidFill>
                <a:latin typeface="Arial"/>
              </a:rPr>
              <a:t>STD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tor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valores devem ser retornados em linhas diferentes e na ordem que foi apres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tf(“%s\n”, o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tf(“%s\n”, tip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tf(“%d\n”, v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ring, integer, unsigned, objectid, timeticks, ipaddress, counter, or ga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0520" y="3733920"/>
            <a:ext cx="2165400" cy="1262160"/>
          </a:xfrm>
          <a:prstGeom prst="rect">
            <a:avLst/>
          </a:prstGeom>
          <a:gradFill rotWithShape="0">
            <a:gsLst>
              <a:gs pos="0">
                <a:srgbClr val="fef3e8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1.3.6.1.4.100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te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41911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5490a8"/>
          </a:solidFill>
          <a:ln w="93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torno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indicar que o programa não pode tratar o MIBOID solicitado, porque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tem in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egou ao fim da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opções -g e 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opção -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2880" y="4952880"/>
            <a:ext cx="3656880" cy="703800"/>
          </a:xfrm>
          <a:prstGeom prst="rect">
            <a:avLst/>
          </a:prstGeom>
          <a:gradFill rotWithShape="0">
            <a:gsLst>
              <a:gs pos="0">
                <a:srgbClr val="fef9f4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NÃO retorne nada, simples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encerre o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3240" y="5867280"/>
            <a:ext cx="3221280" cy="767160"/>
          </a:xfrm>
          <a:prstGeom prst="rect">
            <a:avLst/>
          </a:prstGeom>
          <a:gradFill rotWithShape="0">
            <a:gsLst>
              <a:gs pos="0">
                <a:srgbClr val="fef9f4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Não retorne nada OU retor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not-writable ou wrong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et-SNMP - Onde encontra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t-SNMP 5.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-Hat já vem com o Net-SNMP na sua dis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ww.net-senmp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k para o SourceF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Net-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outr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 &lt;comando/arquiv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et-SNMP - Instalaçã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á está instal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usr/share/snmp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uivos de configu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usr/sb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4280" y="4505400"/>
            <a:ext cx="7548840" cy="2040840"/>
          </a:xfrm>
          <a:prstGeom prst="rect">
            <a:avLst/>
          </a:prstGeom>
          <a:gradFill rotWithShape="0">
            <a:gsLst>
              <a:gs pos="0">
                <a:srgbClr val="feeddc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snmpd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: daemon do agente sn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snmptrapd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: ferramenta para capturar tr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snmpconf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: aplicação para gerar arquivos de configuração para snmpd e snmptra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snmpget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: ferramenta de consulta de um objeto da M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snmpgetnext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:  ferramenta de consulta de proximo o objeto da MIB a partir de um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snmpset</a:t>
            </a:r>
            <a:r>
              <a:rPr b="0" lang="pt-BR" sz="1600" spc="-1" strike="noStrike">
                <a:solidFill>
                  <a:srgbClr val="003366"/>
                </a:solidFill>
                <a:latin typeface="Arial"/>
              </a:rPr>
              <a:t>: ferramenta que possibilita a inserção de valores na M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et-SNMP - Instalando 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sta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unzip net-snmp-5.0.8-Linux_2.4.19_i68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 -xvf net-snmp-5.0.8-Linux_2.4.19_i686.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d net-snmp-5.0.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/con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sk 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ke ins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et-SNMP - Configura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ditar arqu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nmpd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nm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nmptra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6960" y="4343400"/>
            <a:ext cx="7693920" cy="1861920"/>
          </a:xfrm>
          <a:prstGeom prst="rect">
            <a:avLst/>
          </a:prstGeom>
          <a:gradFill rotWithShape="0">
            <a:gsLst>
              <a:gs pos="0">
                <a:srgbClr val="feeed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nmpd.conf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: possui as informações e permissões do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nmp.conf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: possui as mibs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serão carre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snmptrapd.conf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: possibilita gerar eventos para uma determin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!! Arquivo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 de utiliz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nmpget -v 2c -c public tieinterceptor .1.3.6.1.2.1.1.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nmpset -v 2c -c public tieinterceptor .1.3.6.1.2.1.1.5.0 s "TESTE" (onde s é um string e TESTE é  valor no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mplementação de Ag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ensão do snm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ação do agente snm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ge a recompilação d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tensão sem alteração do 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ge a recompi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implementado em outras lingu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mplementação de Agent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 da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do agente (C, script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ação dos arqu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d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9160" y="6019920"/>
            <a:ext cx="12063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!!Arquivos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4771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nmp.conf &amp; Snmpd.con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1359000"/>
          </a:xfrm>
          <a:prstGeom prst="rect">
            <a:avLst/>
          </a:prstGeom>
          <a:gradFill rotWithShape="0">
            <a:gsLst>
              <a:gs pos="0">
                <a:srgbClr val="fef9f4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###### snmp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## created by the snmpconf configur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ibs +CPSE-DEMO-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038480"/>
            <a:ext cx="7619760" cy="2228400"/>
          </a:xfrm>
          <a:prstGeom prst="rect">
            <a:avLst/>
          </a:prstGeom>
          <a:gradFill rotWithShape="0">
            <a:gsLst>
              <a:gs pos="0">
                <a:srgbClr val="fef4eb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##### snmpd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##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## incl/excl subtree 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#view all    included  .1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ass .1.3.6.1.2.1.1111 pas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ass .1.3.6.1.2.1.1112 passtest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8:50:02Z</dcterms:created>
  <dc:creator>Faculdade de Informatica</dc:creator>
  <dc:description/>
  <dc:language>en-US</dc:language>
  <cp:lastModifiedBy>Faculdade de Informatica</cp:lastModifiedBy>
  <dcterms:modified xsi:type="dcterms:W3CDTF">2003-10-27T20:21:09Z</dcterms:modified>
  <cp:revision>17</cp:revision>
  <dc:subject/>
  <dc:title>Net-SNMP: funcionamento e implementação de Agentes</dc:title>
</cp:coreProperties>
</file>