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6319-2776-44B2-83C1-482A298D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86A-8134-4B7A-B981-D4694416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FB8-9E96-4324-96AE-A765D411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20B-3898-4FC9-9894-2C2A5135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7E21-29FC-42C3-A533-5571C5C4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D56C-FB12-4E81-98C3-0EFFD5DC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F922-4D78-4DFE-B078-7EF5DAA1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462F-B9BB-43A0-B9EA-10DF4EC9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B6D2-AB94-4DDF-BF26-66368219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C55B-5AE6-4C49-B905-88952821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2019-4122-4AD0-BD27-0783EF08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3202-3297-46E1-A1C2-45AAD251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F643-4624-4FF9-900E-23B2D09E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EDB9-7865-4F7A-A47B-0DC0AA86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9FC6-8A9A-4F25-B332-642314EE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E9EA-303F-475D-9E21-7CDF9097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906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6080" y="182844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492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906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6080" y="4097160"/>
            <a:ext cx="2747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2A856-1C31-4AEF-9ACD-686A1380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7C04-92D8-4B66-8DCF-D97E591B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F8B-3F3F-45AE-A1C0-DC79E6E1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73C-8DDC-46D5-AF6A-7178B0EB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2D2-94EC-412F-AE6C-C0E5AE99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C79-AFA6-431C-8418-5BC101B7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7840" y="409716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F6B-C890-440F-AA20-B2681CEB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828440"/>
            <a:ext cx="41644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97160"/>
            <a:ext cx="8534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E12-DA78-40E3-9C2E-54E6BF2B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8f8f8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8f8f8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05D3-29A7-4A30-B1F9-097D48C97E9B}" type="slidenum">
              <a:rPr b="0" lang="pt-BR" sz="1400" spc="-1" strike="noStrike">
                <a:solidFill>
                  <a:srgbClr val="f8f8f8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92504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98A4-CF59-4046-8316-FB1BD149641D}" type="slidenum">
              <a:rPr b="0" lang="pt-BR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92504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Política de Segurança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18960" y="3809520"/>
            <a:ext cx="7010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ência de Redes d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a. Ana Cristina Benso da Si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Política e Proteção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nhas gerais (from RFC 21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 Identify what you are trying to prot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 Determine what you are trying to protect it f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 Determine how likely the threats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 Implement measures which will protect your assets in a cost-effective ma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)  Review the process continuously and make improvements each time a weakness is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Identificação de Risco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álise de risco envolve (RFC 21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you need to prot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need to protect it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ow to protect i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amine os riscos e então classifique-os por nível de sever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s process involves making cost-effective decisions on what you want to protect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O que proteger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riedade da info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riedade intelec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fleeger sugere as seguintes categor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Do que proteger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gundo RFC 21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 Unauthorized access to resources and/o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 Unintented and/or unauthorized Disclosure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Política de Segurança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são seus objetivos de seguranç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deternminá-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viço oferecido x segurança proporcio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cilidade de uso x seguran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sto da segurança x riscos de pe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regras a serem segu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SzPct val="8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íticas de Seguran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quem comunic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SzPct val="8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oda equ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8f8f8"/>
                </a:solidFill>
                <a:latin typeface="Times New Roman"/>
              </a:rPr>
              <a:t>Quem deve criar a política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dminsitrador de segu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quipe de tecnologia da in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dminsitradores de grande grupos d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me que repsonde por incidentes de seguranç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nte do grupo de usu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ente “ger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5T06:32:59Z</dcterms:created>
  <dc:creator>fgb</dc:creator>
  <dc:description/>
  <dc:language>en-US</dc:language>
  <cp:lastModifiedBy>fgb</cp:lastModifiedBy>
  <dcterms:modified xsi:type="dcterms:W3CDTF">1999-04-15T06:34:00Z</dcterms:modified>
  <cp:revision>1</cp:revision>
  <dc:subject/>
  <dc:title>Política de Segurança</dc:title>
</cp:coreProperties>
</file>