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FB9-61E9-4630-B572-6938B3A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16B-CD58-4FD0-BE90-9C7DE47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C22-8186-40EA-8F54-B14E8643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6CE-E692-45B4-86CA-B1AF804A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54B-903E-44FF-81E8-575BAB08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7DFA-858C-4065-BB5D-0C807E3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BB3A-F901-48D0-B81F-6060AB7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88A-6A94-45ED-9D80-4E58E95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9511-2D23-40F5-9BFB-10FD718B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7FC-9C90-422E-BEB5-0B94C0F1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095D-6AC4-4FAE-B079-41E1CE2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F69-25DD-49CE-815F-C1870B8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B2F-94D9-4D87-B280-F581800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215D-79B7-41AF-9847-3EAF37D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7D5-4D40-46DA-BE49-BD8B4BB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28E6-C79F-4A85-A975-BA394414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8D44-EC49-411D-A8AB-5F5FF1E3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358-5FF7-405E-AC68-313ED20E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F0D-AC89-4B28-A786-5111FA0C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080-C0F5-4886-B7DA-1E8ABA73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F5A-7A94-48F7-8BE8-21CEC4D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A54-E4D2-4CA8-B09C-AD9D73B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3C6-A9CC-4E36-B8CA-C5B8242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62D-B431-404C-AAE7-7BE6B96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E89D-1C69-4FBE-9C1C-8CBF8A4365B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73BF-6A1F-4E22-9366-19C24A869D3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 e Comandos de Decisão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Prof</a:t>
            </a:r>
            <a:r>
              <a:rPr b="0" lang="pt-BR" sz="3200" spc="-1" strike="noStrike" baseline="30000">
                <a:solidFill>
                  <a:srgbClr val="660066"/>
                </a:solidFill>
                <a:latin typeface="Verdana"/>
              </a:rPr>
              <a:t>a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Sílvia Mora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Prof</a:t>
            </a:r>
            <a:r>
              <a:rPr b="0" lang="pt-BR" sz="3200" spc="-1" strike="noStrike" baseline="30000">
                <a:solidFill>
                  <a:srgbClr val="660066"/>
                </a:solidFill>
                <a:latin typeface="Verdana"/>
              </a:rPr>
              <a:t>a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Katia Saikoski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61760" y="1676520"/>
            <a:ext cx="69793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Exemplo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int num=2, val=3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char op = ‘C’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a) num&lt;val +1 &amp;&amp; num&lt;=pow(val,2)-7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b) op &lt; ‘E’ || op &lt;=‘e’ &amp;&amp; op!=‘c’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c) num&gt;1 &amp;&amp; num&lt;sqrt(64) &amp;&amp; !(num!=2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d) op == ‘C’ || op == ‘c’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Permite criar alternativas para o fluxo de execução de um program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C prevê 2 tipos de comandos de decisão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if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swit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cisão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A forma do comando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é a seguint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if (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expressão_lógica</a:t>
            </a: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 comando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ou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if (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expressão_lógica</a:t>
            </a: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2800" spc="-1" strike="noStrike">
                <a:solidFill>
                  <a:srgbClr val="660066"/>
                </a:solidFill>
                <a:latin typeface="Verdana"/>
              </a:rPr>
              <a:t>comandos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66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33720" y="4495680"/>
            <a:ext cx="5333760" cy="2364840"/>
            <a:chOff x="2133720" y="4495680"/>
            <a:chExt cx="5333760" cy="2364840"/>
          </a:xfrm>
        </p:grpSpPr>
        <p:sp>
          <p:nvSpPr>
            <p:cNvPr id="128" name=""/>
            <p:cNvSpPr/>
            <p:nvPr/>
          </p:nvSpPr>
          <p:spPr>
            <a:xfrm>
              <a:off x="2133720" y="4952880"/>
              <a:ext cx="2971800" cy="91440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Verdana"/>
                </a:rPr>
                <a:t>Exp_lógica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6400" y="5181480"/>
              <a:ext cx="1981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Verdana"/>
                </a:rPr>
                <a:t>Comando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4495680"/>
              <a:ext cx="0" cy="4572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1280" y="5867280"/>
              <a:ext cx="0" cy="5335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5520" y="5410080"/>
              <a:ext cx="4572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3100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9400" y="594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4480" y="64008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nt valor=10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um valor de 1 a 20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valor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==10) printf(¨\nAcert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!=10) printf(¨\nErr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nt valor=10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um valor de 1 a 20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valor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==10) printf(¨\nAcert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!=10)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Você Err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==9 || valor ==11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Chutou bem! Está quente!\n¨);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 &lt;=5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Chutou mal! Está frio!\n¨);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Outra forma de usar o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é com o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. Esse tipo de construção  permite a definição de ações alternativa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comando1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comando2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-els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3354480" y="662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52480" y="4876920"/>
            <a:ext cx="5638680" cy="1679040"/>
            <a:chOff x="1752480" y="4876920"/>
            <a:chExt cx="5638680" cy="1679040"/>
          </a:xfrm>
        </p:grpSpPr>
        <p:sp>
          <p:nvSpPr>
            <p:cNvPr id="144" name=""/>
            <p:cNvSpPr/>
            <p:nvPr/>
          </p:nvSpPr>
          <p:spPr>
            <a:xfrm>
              <a:off x="1752480" y="4876920"/>
              <a:ext cx="2971800" cy="91440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Verdana"/>
                </a:rPr>
                <a:t>Exp_lógica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05160" y="5105520"/>
              <a:ext cx="228600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Verdana"/>
                </a:rPr>
                <a:t>Comando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4280" y="5334120"/>
              <a:ext cx="4572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976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71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9680" y="6096240"/>
              <a:ext cx="228600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Verdana"/>
                </a:rPr>
                <a:t>Comando2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040" y="5791320"/>
              <a:ext cx="0" cy="381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nt valor=10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um valor de 1 a 20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valor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valor==10) printf(¨\nAcert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printf(¨\nErr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-els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Bloco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){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comandos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200" spc="-1" strike="noStrike">
                <a:solidFill>
                  <a:srgbClr val="660066"/>
                </a:solidFill>
                <a:latin typeface="Verdana"/>
              </a:rPr>
              <a:t>{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comandos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7796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0066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-els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354480" y="662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nt valor=10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um valor de 1 a 20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valor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==10) printf(¨\nAcert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Você Errou!! 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==9 || valor ==11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Chutou bem! Está quente!\n¨);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valor &lt;=5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Chutou mal! Está frio!\n¨);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 if-els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1432080" y="1981080"/>
            <a:ext cx="771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Faça um programa que leia a idade de um nadador e classifica-o em uma das seguintes categorias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5 a 7 anos: Infantil A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8 a 10 anos : Infantil B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11 a 13 anos : Juvenil A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14 a 17 anos: Juvenil B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maiores de 17 anos: Adulto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13372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São expressões que resultam em valores lógicos :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verdadeiro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ou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falso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Em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verdadeiro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é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falso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é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Solução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 int idad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a idade do nadador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idad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5 &amp;&amp; idade&lt;=7) printf(¨\nInfant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8 &amp;&amp; idade&lt;=10) printf(¨\nInfant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1 &amp;&amp; idade&lt;=13) printf(¨\nJuven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4 &amp;&amp; idade&lt;=17) printf(¨\nJuven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7 printf(¨\nAdulto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59160" y="571500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Funciona para qualquer entrada de dados 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Solução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 int idad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a idade do nadador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idad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(idade &lt;0 || idade&gt;120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printf((¨\nIdade Inválid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(idade&gt;=0 &amp;&amp; idade &lt;5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printf(¨\nSem categori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5 &amp;&amp; idade&lt;=7) printf(¨\nInfant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8 &amp;&amp; idade&lt;=10) printf(¨\nInfant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1 &amp;&amp; idade&lt;=13) printf(¨\nJuven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4 &amp;&amp; idade&lt;=17) printf(¨\nJuven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7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&amp;&amp; idade&lt;=120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) printf(¨\nAdulto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Soluçã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está certa ?)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 int idad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a idade do nadador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idad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 &lt;0 || idade&gt;120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(¨\nIdade Inválid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0 &amp;&amp; idade &lt;5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Sem categori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5 &amp;&amp; idade&lt;=7) printf(¨\nInfant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8 &amp;&amp; idade&lt;=10) printf(¨\nInfant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if(idade&gt;=11 &amp;&amp; idade&lt;=13) printf(¨\nJuven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(idade&gt;=14 &amp;&amp; idade&lt;=17) printf(¨\nJuven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 printf(¨\nAdulto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andos if-else encadeado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845640" y="2438280"/>
            <a:ext cx="81270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 comando1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if 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comando2;</a:t>
            </a:r>
            <a:endParaRPr b="0" lang="en-US" sz="3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  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comando3;</a:t>
            </a:r>
            <a:endParaRPr b="0" lang="en-US" sz="3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  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(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expressão</a:t>
            </a:r>
            <a:r>
              <a:rPr b="1" lang="pt-BR" sz="3000" spc="-1" strike="noStrike">
                <a:solidFill>
                  <a:srgbClr val="660066"/>
                </a:solidFill>
                <a:latin typeface="Verdana"/>
              </a:rPr>
              <a:t>)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comando4;</a:t>
            </a:r>
            <a:endParaRPr b="0" lang="en-US" sz="3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   </a:t>
            </a:r>
            <a:r>
              <a:rPr b="1" i="1" lang="pt-BR" sz="30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0" lang="pt-BR" sz="3000" spc="-1" strike="noStrike">
                <a:solidFill>
                  <a:srgbClr val="660066"/>
                </a:solidFill>
                <a:latin typeface="Verdana"/>
              </a:rPr>
              <a:t> ...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i="1" lang="pt-BR" sz="3000" spc="-1" strike="noStrike">
                <a:solidFill>
                  <a:srgbClr val="660066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87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4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Solução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335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{ int idad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Digite a idade do nadador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scanf(¨%d¨,&amp;idad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idade &lt;0 || idade&gt;120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(¨\nIdade Inválid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idade &lt;5) printf(¨\nSem categori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(idade&lt;=7) printf(¨\nInfant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idade&lt;=10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Infant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idade&lt;=13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Juvenil A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if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(idade&lt;=17)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printf(¨\nJuvenil B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660066"/>
                </a:solidFill>
                <a:latin typeface="Courier New"/>
              </a:rPr>
              <a:t>else</a:t>
            </a: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 printf(¨\nAdulto¨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mbigüida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1432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3920" y="1981080"/>
            <a:ext cx="6481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x=2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(x&lt;2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(x&gt;=-3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printf(“\n x está entre [-3;1]”)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printf(“x é maior que 1”)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Problema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O 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se refere ao 1</a:t>
            </a:r>
            <a:r>
              <a:rPr b="1" lang="pt-BR" sz="2400" spc="-1" strike="noStrike" baseline="30000">
                <a:solidFill>
                  <a:srgbClr val="660066"/>
                </a:solidFill>
                <a:latin typeface="Verdana"/>
              </a:rPr>
              <a:t>o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ou ao 2</a:t>
            </a:r>
            <a:r>
              <a:rPr b="1" lang="pt-BR" sz="2400" spc="-1" strike="noStrike" baseline="30000">
                <a:solidFill>
                  <a:srgbClr val="660066"/>
                </a:solidFill>
                <a:latin typeface="Verdana"/>
              </a:rPr>
              <a:t>o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mbigüida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155600" y="1647720"/>
            <a:ext cx="79884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resolve o problema da ambigüidade associando o 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sempre ao último 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Portanto, para que a construção funcione como desejado, pode-se resolver o problema usando </a:t>
            </a:r>
            <a:r>
              <a:rPr b="1" i="1" lang="pt-BR" sz="2400" spc="-1" strike="noStrike">
                <a:solidFill>
                  <a:srgbClr val="660066"/>
                </a:solidFill>
                <a:latin typeface="Verdana"/>
              </a:rPr>
              <a:t>bloco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x=2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(x&lt;2) 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if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(x&gt;=-3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printf(“\n x está entre [-3;1]”)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Verdana"/>
              </a:rPr>
              <a:t>else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 printf(“x é maior que 1”)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ercícios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7524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1) Faça um programa que encontra o maior de 3 valore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2) Altere o programa anterior para que ele encontre o menor de 4 valore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3) Faça um programa que leia 3 valores </a:t>
            </a:r>
            <a:r>
              <a:rPr b="0" i="1" lang="pt-BR" sz="2400" spc="-1" strike="noStrike">
                <a:solidFill>
                  <a:srgbClr val="660066"/>
                </a:solidFill>
                <a:latin typeface="Verdana"/>
              </a:rPr>
              <a:t>float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(n1,n2 e n3) e um valor inteiro (</a:t>
            </a:r>
            <a:r>
              <a:rPr b="0" i="1" lang="pt-BR" sz="2400" spc="-1" strike="noStrike">
                <a:solidFill>
                  <a:srgbClr val="660066"/>
                </a:solidFill>
                <a:latin typeface="Verdana"/>
              </a:rPr>
              <a:t>opcao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). Se </a:t>
            </a:r>
            <a:r>
              <a:rPr b="0" i="1" lang="pt-BR" sz="2400" spc="-1" strike="noStrike">
                <a:solidFill>
                  <a:srgbClr val="660066"/>
                </a:solidFill>
                <a:latin typeface="Verdana"/>
              </a:rPr>
              <a:t>opcao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for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1 : escreve os valores em ordem crescente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2: escreve os valores em ordem decrescente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3 : escreve o maior dentre os demai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Prever situações de erro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676520"/>
            <a:ext cx="71024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Para compor as expressões lógicas utiliza-se os operadore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relacionais: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comparam dois valore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&gt;, &lt;, &gt;=, &lt;=, !=, ==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lógicos: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combinam expressões lógica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&amp;&amp;,   ||,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!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(e)    (ou)   (não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676520"/>
            <a:ext cx="83822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Operador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relacionais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Exemplos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&gt; 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maior que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3&gt;2     1&gt;3   ‘a’&gt;’d’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&lt; 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menor que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3&lt;3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  5&lt;10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&gt;= 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maior ou igual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3&gt;=3   3&gt;=7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&lt;= 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menor ou igual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4&lt;=16  ‘A’&lt;=‘A’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!=  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diferente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4!=5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   ‘a’ != ‘A’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== 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igual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5==5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   ‘c’ == ‘C’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Obs: Strings não são comparados através de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operadores relacionais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676520"/>
            <a:ext cx="7543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Um erro muito freqüente em C é confundir a </a:t>
            </a: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atribuição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, representada por </a:t>
            </a: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=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 com a </a:t>
            </a: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comparação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, representada por </a:t>
            </a: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==</a:t>
            </a:r>
            <a:r>
              <a:rPr b="0" lang="pt-BR" sz="3200" spc="-1" strike="noStrike">
                <a:solidFill>
                  <a:srgbClr val="660066"/>
                </a:solidFill>
                <a:latin typeface="Verdana"/>
              </a:rPr>
              <a:t>. Exemplo: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Supondo x=2 e y=3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x = y : o valor 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3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é atribuído à variável x;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660066"/>
                </a:solidFill>
                <a:latin typeface="Verdana"/>
              </a:rPr>
              <a:t>x == y : 2 é comparado a 3 resultando </a:t>
            </a:r>
            <a:r>
              <a:rPr b="1" lang="pt-BR" sz="2400" spc="-1" strike="noStrike">
                <a:solidFill>
                  <a:srgbClr val="660066"/>
                </a:solidFill>
                <a:latin typeface="Verdana"/>
              </a:rPr>
              <a:t>0(F)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Verdana"/>
              </a:rPr>
              <a:t>Portanto, x = y é diferente de x==y!!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1905120"/>
            <a:ext cx="8382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Operador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Lógico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! 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NOT lógico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(não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&amp;&amp;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AND lógico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(e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||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OR lógico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(ou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527120"/>
            <a:ext cx="7620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Considerando que A e B são duas expressões lógica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Tabela Verda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A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A &amp;&amp; B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 A || B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 !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 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1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 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1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 0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 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1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0 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1981080"/>
            <a:ext cx="7315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Verdana"/>
              </a:rPr>
              <a:t>Operadores Lógico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!A  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: inverte o valor lógico de A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A &amp;&amp; B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: para resultar 1 (V) exige que as expressões A e B sejam verdadeiras ao mesmo tempo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||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: para resultar 0 (F) exige que as expressões A e B sejam falsas ao mesmo tempo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ressões Lóg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676520"/>
            <a:ext cx="6400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Prioridade dos Operador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( 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funçõ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*, / , %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+, -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&lt;, &lt;=, &gt;, &gt;=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==, !=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&amp;&amp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||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133720" y="2514240"/>
            <a:ext cx="0" cy="39625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514600"/>
            <a:ext cx="39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1:59:35Z</dcterms:created>
  <dc:creator>Sílvia Maria Wanderley Moraes</dc:creator>
  <dc:description/>
  <dc:language>en-US</dc:language>
  <cp:lastModifiedBy>Faculdade de Informatica</cp:lastModifiedBy>
  <cp:lastPrinted>2002-04-04T20:56:45Z</cp:lastPrinted>
  <dcterms:modified xsi:type="dcterms:W3CDTF">2002-04-04T20:56:50Z</dcterms:modified>
  <cp:revision>40</cp:revision>
  <dc:subject/>
  <dc:title>Expressões Lógicas e Comando de IF-ELSE </dc:title>
</cp:coreProperties>
</file>