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29336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29336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29336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905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905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2933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2933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2933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ECCCA-0417-4D38-A166-9FF7B865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3D585-9D49-435F-A952-98464DF7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DD6A4-D417-4563-B751-7EAC7D3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D8D47-6965-4C57-92A0-68B82045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5FDED-4796-4F0E-82CE-A1ED5654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9A8D5-6EF7-401D-8FA7-6322CDC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9336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74C1D-95CB-4876-A3CE-5EB14E06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7840" y="429336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3C41D-91C3-4E92-8E83-55AF80E5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29336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7B6A3-5AB1-415D-AE4B-9A499DB0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4920" y="429336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20057-B708-425A-8DB2-51789C8A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429336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7840" y="429336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55BF4-3492-4EA1-8B8E-70A4BFE9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90680" y="1905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080" y="1905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4920" y="42933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90680" y="42933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080" y="42933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C7ED0-EE0C-448F-81AA-85E2FE7C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29336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29336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29336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48400"/>
            <a:ext cx="9144000" cy="309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1440"/>
            <a:ext cx="9144000" cy="1753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4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©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na Cristina Benso da Sil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958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ogramação para Engenharia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44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2A11-E08B-4A2A-AF6E-C82E162793B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33530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gramação para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genharia 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la I  - Introdução a Algorit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fa. Ana Cristina Benso da Sil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erações 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áveis devem ser decla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variável&gt;: &lt;tipo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variáveis são modificadas através de um comando de atribuição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u de lei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: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r &lt;variável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= 3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= a +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variáveis podem ser impress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reve 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tribuiçõ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áve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ável :=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ável =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A = 4 e B = 5, qual o resultado de A = B e    B = 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pressões Matemátic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oridade das Oper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tências e operações monoá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ultiplicações e divi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oma e Subt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ênteses alteram a ordem de exec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e-se da esquerda para a direita em caso de indetermin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ercíci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l a seqüência de operações necessárias para intercambiar os valores de 3 variáveis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e modo qu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fique com o valor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fique com o valor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que com o valor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possui o valor 15 e se forem executadas as seguintes atribuições na ordem em que aparec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23480" y="5078520"/>
            <a:ext cx="11347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  <a:effectLst>
            <a:outerShdw dist="107932" dir="27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= x +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+ x -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= x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= 3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eitos Básic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áveis x Cons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 = x +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5 são variáveis ou consta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variáveis são “recipientes”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um espaço reservado na memória do computador para armazenar um tipo de d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ariáve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x +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 ent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sição de memória indicada p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rá o valo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ós o resultado da operação, a posição de memória indicada p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rá o valor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8320" y="2133720"/>
            <a:ext cx="42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133720"/>
            <a:ext cx="42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133720"/>
            <a:ext cx="42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21337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ariáve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vez que a fórmula do exemplo anterior for util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áv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berá valores antes da execução dos cálcul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áv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berá valores após o cálcul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ada execução, se alterado o valor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 valor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mbém será alte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tributos das Variáve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da variável 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nome (identific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tipo de d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 a variável contém um valor quando está sendo us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105520" y="1905120"/>
            <a:ext cx="3581280" cy="2059200"/>
            <a:chOff x="5105520" y="1905120"/>
            <a:chExt cx="3581280" cy="2059200"/>
          </a:xfrm>
        </p:grpSpPr>
        <p:sp>
          <p:nvSpPr>
            <p:cNvPr id="108" name=""/>
            <p:cNvSpPr/>
            <p:nvPr/>
          </p:nvSpPr>
          <p:spPr>
            <a:xfrm>
              <a:off x="5410080" y="2830680"/>
              <a:ext cx="762120" cy="68580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va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2830680"/>
              <a:ext cx="762120" cy="68580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va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67480" y="35654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tei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29080" y="35654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tei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6800" y="2220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00800" y="2830680"/>
              <a:ext cx="762120" cy="68580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74200" y="214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1905120"/>
              <a:ext cx="3581280" cy="20574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7680" y="190512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6699"/>
                  </a:solidFill>
                  <a:latin typeface="Times New Roman"/>
                </a:rPr>
                <a:t>Memó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3520" y="5410080"/>
            <a:ext cx="8055000" cy="94716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Wingdings"/>
                <a:ea typeface="Wingdings"/>
              </a:rPr>
              <a:t>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enção! Uma variável sem inicialização, conterá um va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quer e imprevisível. Costuma-se dizer que contém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lix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mes das Variávei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ras para definir o nome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identificador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ó podem conter letras e dígit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o caracter deve ser uma let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tras maiúsculas e minúsculas são consideradas caracteres diferen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único caracter especial aceito é 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underlin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lavras reservadas não podem ser usadas como nome de variáve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entificadores devem ser mnemô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ipos das Variáve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l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erdad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te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acte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trings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caract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stant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tantes são valores que não se alteram ao longo da execução de um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m aparecer dentro de expressõ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: num + 2 - 5/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m ser declara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 valor =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 taxa = 1.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 letra = ‘S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erações e Operan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junto de ações a serem executadas sobre um conjunto de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er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noádicas (-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ádicas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istem condi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testar se a operação pode ser execu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verificar o resultado (falso/verdadei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20:15:07Z</dcterms:created>
  <dc:creator>CPD</dc:creator>
  <dc:description/>
  <dc:language>en-US</dc:language>
  <cp:lastModifiedBy>CPD</cp:lastModifiedBy>
  <dcterms:modified xsi:type="dcterms:W3CDTF">2003-08-05T13:45:37Z</dcterms:modified>
  <cp:revision>10</cp:revision>
  <dc:subject/>
  <dc:title>Programação para  Engenharia I</dc:title>
</cp:coreProperties>
</file>