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85800" y="43326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6848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380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941440" y="190476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68580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380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5941440" y="4332600"/>
            <a:ext cx="2502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68580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68480" y="433260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04760"/>
            <a:ext cx="37926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332600"/>
            <a:ext cx="777240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56204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19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19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198108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ARP/R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Exercíci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Qual a vantagem/desvantagem para um roteador em manter uma única tabela cache para para todas as redes, ou tabelas diferentes para cada uma das redes conectadas a el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P é sucetível a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spoofing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, porque máquinas árbitrárias podem responder a um ARP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. Adicione os seguintes control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duas ou mais máquinas respondem a uma  dada solicitação de um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a máquina recebe um ARP response do seu próprio IP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uma única máquina responde a solicitações de vários IP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Roteament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Roteament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Escolha da melhor rota para um determinado destino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belas de Rot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nutenção estática ou dinâ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Estát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nutenção manu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nâm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manutenção por protocolo de roteamen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85760" indent="-21708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adaptativo ou não adaptativ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ransporte dos d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05600" indent="-2714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ireto ou indire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716292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Roteamento Estátic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3352680"/>
            <a:ext cx="1981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876920" y="2362320"/>
            <a:ext cx="121896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33526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105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58672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838080" y="33526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514600" y="23623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2819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35053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934320" y="4038480"/>
            <a:ext cx="12189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34120" y="52578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66880" y="52578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63868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 flipV="1">
            <a:off x="47242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flipV="1">
            <a:off x="5562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98920" y="33908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1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429360" y="35053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791680" y="35053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6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248880" y="53341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1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819880" y="541008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2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Roteamento ...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7162920" y="335268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276720" y="3352680"/>
            <a:ext cx="2438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334120" y="2362320"/>
            <a:ext cx="121896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172200" y="3352680"/>
            <a:ext cx="19051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56386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V="1">
            <a:off x="632448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838080" y="3352680"/>
            <a:ext cx="21337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514600" y="2362320"/>
            <a:ext cx="1219320" cy="53316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 flipV="1">
            <a:off x="28195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V="1">
            <a:off x="3505320" y="2895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934320" y="4038480"/>
            <a:ext cx="121896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5257800"/>
            <a:ext cx="25146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7162920" y="45720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666880" y="5257800"/>
            <a:ext cx="23623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495680" y="5638680"/>
            <a:ext cx="1219320" cy="533520"/>
          </a:xfrm>
          <a:prstGeom prst="rect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G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 flipV="1">
            <a:off x="472428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5562720" y="52578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98920" y="339084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1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429360" y="35053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5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791680" y="35053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6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010640" y="53341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12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905480" y="533412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50.10.20.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750680" y="29718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1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579840" y="297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5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646880" y="297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5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6399360" y="29718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6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237440" y="3657600"/>
            <a:ext cx="942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6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313400" y="46483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12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60920" y="533412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12.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579480" y="5257800"/>
            <a:ext cx="103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150.10.20.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Exercício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onte as tabelas de roteamento estático para a seguinte topolog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Address Resolution Protocol (ARP)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ado um endereço IP ache o endereço MA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P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“Qual é o endereço MAC para o seguinte IP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676520" y="529596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09680" y="5295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981080" y="5753160"/>
            <a:ext cx="457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3886200" y="5753160"/>
            <a:ext cx="457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114800" y="5295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715000" y="5753160"/>
            <a:ext cx="457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943600" y="52959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2438280" y="49906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1369800" y="4495680"/>
            <a:ext cx="41187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Broadcast:  Qual o MAC para 132.54.8.3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219680" y="621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048480" y="621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800960" y="621036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6324480" y="411480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189320" y="3657600"/>
            <a:ext cx="44298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ara 132.54.8.1: o MAC é 65:77:90:0a:21: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7086600" y="5257800"/>
            <a:ext cx="636480" cy="13716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7238880" y="4267080"/>
            <a:ext cx="1600200" cy="990720"/>
          </a:xfrm>
          <a:prstGeom prst="cloudCallout">
            <a:avLst>
              <a:gd name="adj1" fmla="val -21430"/>
              <a:gd name="adj2" fmla="val 70032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Broadcast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Unicast??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Segmentação com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" name=""/>
          <p:cNvGrpSpPr/>
          <p:nvPr/>
        </p:nvGrpSpPr>
        <p:grpSpPr>
          <a:xfrm>
            <a:off x="914400" y="3962520"/>
            <a:ext cx="6172200" cy="1066680"/>
            <a:chOff x="914400" y="3962520"/>
            <a:chExt cx="6172200" cy="1066680"/>
          </a:xfrm>
        </p:grpSpPr>
        <p:sp>
          <p:nvSpPr>
            <p:cNvPr id="61" name=""/>
            <p:cNvSpPr/>
            <p:nvPr/>
          </p:nvSpPr>
          <p:spPr>
            <a:xfrm>
              <a:off x="914400" y="4343400"/>
              <a:ext cx="259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3505320" y="3962520"/>
              <a:ext cx="1295280" cy="7621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0000"/>
                  </a:solidFill>
                  <a:latin typeface="Times New Roman"/>
                </a:rPr>
                <a:t>Switch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800600" y="4343400"/>
              <a:ext cx="2286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14300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914400" y="4648320"/>
              <a:ext cx="4572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13372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905120" y="4648320"/>
              <a:ext cx="4572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5791320" y="4648320"/>
              <a:ext cx="45720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pt-BR" sz="2400" spc="-1" strike="noStrike">
                  <a:solidFill>
                    <a:srgbClr val="000000"/>
                  </a:solidFill>
                  <a:latin typeface="Times New Roman"/>
                </a:rPr>
                <a:t>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019920" y="43434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0" name=""/>
          <p:cNvSpPr/>
          <p:nvPr/>
        </p:nvSpPr>
        <p:spPr>
          <a:xfrm flipV="1">
            <a:off x="838080" y="38862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46280" y="33908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4000" y="3429000"/>
            <a:ext cx="41187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Broadcast:  Qual o MAC para 132.54.8.3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81600" y="51814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76880" y="51814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800" y="5105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884400" y="2743200"/>
            <a:ext cx="44298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ara 132.54.8.1: o MAC é 65:77:90:0a:21: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6400800" y="3276360"/>
            <a:ext cx="0" cy="1600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7315200" y="5105520"/>
            <a:ext cx="514440" cy="1571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7391520" y="3962520"/>
            <a:ext cx="1752480" cy="609480"/>
          </a:xfrm>
          <a:prstGeom prst="cloudCallout">
            <a:avLst>
              <a:gd name="adj1" fmla="val -28259"/>
              <a:gd name="adj2" fmla="val 147398"/>
            </a:avLst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7467480" y="3962520"/>
            <a:ext cx="1505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dreço</a:t>
            </a: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MA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907920" y="4343400"/>
            <a:ext cx="2590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8840" y="3962520"/>
            <a:ext cx="129528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otead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794120" y="4343400"/>
            <a:ext cx="3664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113652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907920" y="4648320"/>
            <a:ext cx="457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12724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898640" y="4648320"/>
            <a:ext cx="457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7467480" y="4648320"/>
            <a:ext cx="45720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96080" y="434340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75120" y="51814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1670400" y="518148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8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858360" y="5105520"/>
            <a:ext cx="115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32.54.9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266000" y="1676520"/>
            <a:ext cx="43077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ara Roteador: o MAC é 65:77:90:0a:21:0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99880" y="5638680"/>
            <a:ext cx="4165920" cy="119124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1o. A consulta a sua tabela de rotea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 endereço IP destino &lt;&gt; endereço da re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ntão envia para o rotead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não </a:t>
            </a: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broadcas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28240" y="4800600"/>
            <a:ext cx="60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28600" y="480060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8" name=""/>
          <p:cNvGrpSpPr/>
          <p:nvPr/>
        </p:nvGrpSpPr>
        <p:grpSpPr>
          <a:xfrm>
            <a:off x="1080" y="3505320"/>
            <a:ext cx="4923360" cy="404640"/>
            <a:chOff x="1080" y="3505320"/>
            <a:chExt cx="4923360" cy="404640"/>
          </a:xfrm>
        </p:grpSpPr>
        <p:sp>
          <p:nvSpPr>
            <p:cNvPr id="99" name=""/>
            <p:cNvSpPr/>
            <p:nvPr/>
          </p:nvSpPr>
          <p:spPr>
            <a:xfrm>
              <a:off x="511200" y="3543480"/>
              <a:ext cx="183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080" y="3505320"/>
              <a:ext cx="4923360" cy="368280"/>
            </a:xfrm>
            <a:prstGeom prst="rect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0000"/>
                  </a:solidFill>
                  <a:latin typeface="Times New Roman"/>
                </a:rPr>
                <a:t>MAC Destino = Roteador    MAC Fonte A    Dad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411480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2590920" y="3505320"/>
              <a:ext cx="0" cy="380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"/>
          <p:cNvSpPr/>
          <p:nvPr/>
        </p:nvSpPr>
        <p:spPr>
          <a:xfrm flipV="1">
            <a:off x="990720" y="3962160"/>
            <a:ext cx="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 flipV="1">
            <a:off x="4876920" y="304812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893680" y="2590920"/>
            <a:ext cx="411876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Broadcast:  Qual o MAC para 132.54.8.3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8001000" y="2209320"/>
            <a:ext cx="0" cy="2667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Frame 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1946160"/>
            <a:ext cx="8372520" cy="43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ardware Address Type                             Protocol Address Typ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Harwdare Add len  Prot Add Len               Oper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nder´s hardware address (6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nder´s Protocolo Address (4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                 </a:t>
            </a: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arget h/w address (6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Target Protocol Address (4 byte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57200" y="24382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3124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572000" y="3657600"/>
            <a:ext cx="4267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57200" y="434340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572000" y="365760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4572000" y="4343400"/>
            <a:ext cx="0" cy="53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57200" y="487692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5410080"/>
            <a:ext cx="8381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572000" y="1905120"/>
            <a:ext cx="0" cy="1218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38280" y="243828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Frame 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Hardware type: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tocol Address Type:  0x0800 =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Operation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1: 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RP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2: ARP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3: RARP Requ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4: RARP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Processamento 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Tabela ARP no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host = ARP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se o endereço não está na cahe, coloca as informações na cache, marca como ARP_PEND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respostas ARP são armazenadas na cache (</a:t>
            </a: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arpad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 já existe o IP na cache atualiza a entra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1040040" indent="-207720">
              <a:spcBef>
                <a:spcPts val="499"/>
              </a:spcBef>
              <a:buClr>
                <a:srgbClr val="990000"/>
              </a:buClr>
              <a:buSzPct val="150000"/>
              <a:buFont typeface="Wingdings" charset="2"/>
              <a:buChar char="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Times New Roman"/>
              </a:rPr>
              <a:t>senão aloca a primeira entrada vazia ou liv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após a atualização marca o endereço como ARP_RESOLVED, associa um time-out, e libera a fila de pacotes penden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Manutenção da Cach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de tempos em tempos verifica o time-out das entrad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Times New Roman"/>
              </a:rPr>
              <a:t>marca entradas expiradas como ARP_FR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Reverse 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Problema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Dado um endereço MAC ache o endereço I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ARP: </a:t>
            </a:r>
            <a:r>
              <a:rPr b="0" i="1" lang="pt-BR" sz="2800" spc="-1" strike="noStrike">
                <a:solidFill>
                  <a:srgbClr val="000000"/>
                </a:solidFill>
                <a:latin typeface="Times New Roman"/>
              </a:rPr>
              <a:t>“Qual é o endereço IP para o seguinte MAC?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Times New Roman"/>
              </a:rPr>
              <a:t>utilização: máquinas sem dis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600200" y="5576760"/>
            <a:ext cx="5181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133720" y="5576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1905120" y="6033960"/>
            <a:ext cx="457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9880" y="6033960"/>
            <a:ext cx="457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038480" y="5576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638680" y="6033960"/>
            <a:ext cx="45720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867280" y="557676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2362320" y="52718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292760" y="4776840"/>
            <a:ext cx="400608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Broadcast:  Qual o IP para o MAC de 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802040" y="6491160"/>
            <a:ext cx="146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ervidor AR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6248520" y="4724280"/>
            <a:ext cx="0" cy="1500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112640" y="4267080"/>
            <a:ext cx="2550600" cy="368280"/>
          </a:xfrm>
          <a:prstGeom prst="rect">
            <a:avLst/>
          </a:prstGeom>
          <a:solidFill>
            <a:srgbClr val="ccccff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1800" spc="-1" strike="noStrike">
                <a:solidFill>
                  <a:srgbClr val="000000"/>
                </a:solidFill>
                <a:latin typeface="Times New Roman"/>
              </a:rPr>
              <a:t>Para A: o IP é 132.54.8.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4400" spc="-1" strike="noStrike">
                <a:solidFill>
                  <a:srgbClr val="000066"/>
                </a:solidFill>
                <a:latin typeface="Arial"/>
              </a:rPr>
              <a:t>RARP</a:t>
            </a:r>
            <a:endParaRPr b="1" lang="en-US" sz="4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 com swit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SzPct val="9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Times New Roman"/>
              </a:rPr>
              <a:t>Rede com rote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3-08T17:49:36Z</dcterms:created>
  <dc:creator>Mars</dc:creator>
  <dc:description/>
  <dc:language>en-US</dc:language>
  <cp:lastModifiedBy>Faculdade de Informatica</cp:lastModifiedBy>
  <cp:lastPrinted>2000-03-20T14:17:57Z</cp:lastPrinted>
  <dcterms:modified xsi:type="dcterms:W3CDTF">2001-03-12T21:57:30Z</dcterms:modified>
  <cp:revision>26</cp:revision>
  <dc:subject/>
  <dc:title>Redes de Computadores  Conceitos Básicos</dc:title>
</cp:coreProperties>
</file>