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472E-8862-4870-B07B-B1744D8EC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07B8-385D-4308-9BA2-6AEDC518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E123-5821-4E74-9A1C-525B6CB0B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F5F5-CFA4-41F7-81A8-42A79ED11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55A0-23BB-4E7C-9DDF-54BB2F8F3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94AD-8320-442A-AA72-1EC36EBD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BA82-2D07-486F-9278-D32EB308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B4E6-85CE-4578-B7AF-24700DBD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AD26-DA3F-4B91-8909-6FE1A2A6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3FF3-0E12-4839-AC07-C5DB5551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B1D1-5B43-4F3F-A28C-613B183A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2420-459F-43CE-A617-C040F7D3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EC43-43AF-413A-96C7-2224BADB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9798-1803-4972-8B2C-62F81EE8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0D97-D7FF-42A1-8D39-7ED94FC7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DB51-0C33-4861-8E5A-58100562E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14BA-FCD3-47A1-81ED-90F67E2B6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20E2-084E-4C9F-876D-4A4E6AE5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C393-C129-4D87-AB43-C403CC1A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3D51-BD9D-4297-A20D-9A030C03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FDEA-2F13-4A62-850D-78C6DBC6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2976-E2A1-4044-8EE4-E9D622BF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F603-156F-4A14-94EA-135DC9D6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2954-2587-40C8-9B76-7D1672D3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BECF-12EB-4F62-B16C-B12C180CF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4BA1-53DC-4574-82C9-EA129FB06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HDCL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- High-level Data Link Contro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racterísticas Bás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ês tipo de es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imary 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condary 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bined 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is modos de configuração do en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nbalanced - uma estação primária e uma ou mais estações secundá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alanced - duas estações combin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PP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324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tocolo orientado a carac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mpo de Endereç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alor default 11111111 para indicar que todas as estções devem aceitar o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mpo de Cont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alor default 00000011 que indica um frame não numer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nsmissão sem reconhec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050120" y="2286000"/>
            <a:ext cx="7828200" cy="398880"/>
            <a:chOff x="1050120" y="2286000"/>
            <a:chExt cx="7828200" cy="398880"/>
          </a:xfrm>
        </p:grpSpPr>
        <p:sp>
          <p:nvSpPr>
            <p:cNvPr id="186" name=""/>
            <p:cNvSpPr/>
            <p:nvPr/>
          </p:nvSpPr>
          <p:spPr>
            <a:xfrm>
              <a:off x="1050120" y="2286000"/>
              <a:ext cx="7828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01111110  Endereço   Controle   Protocolo  Dados   Checksum   011111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209680" y="228600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52680" y="228600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419720" y="228600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62720" y="228600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400800" y="228600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20120" y="228600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219320" y="1905120"/>
            <a:ext cx="6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1 by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64120" y="1905120"/>
            <a:ext cx="68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1 by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05320" y="1905120"/>
            <a:ext cx="6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1 by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190512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1 ou 2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638680" y="19051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Variá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53080" y="1905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2 ou 4 by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848720" y="1905120"/>
            <a:ext cx="6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1 by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PP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mpo Protoco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icia por 0 para os protocolos IP, IPX, OSI CL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icia por 1 para os protocolos LCP, N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HDLC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rês modos de transferência de d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rmal Response Mode (N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finguração não balance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imária inicia a transmissão e a secundária só pode transmitir dados em respo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ynchronous Balanced Mode (AB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figuração balance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lquer estação pode iniciar a transmiss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ynchronous Response Mode (A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figuração não balance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secundária pode iniciar a transmissão sem permissão da primá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DLC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colo Orientado a B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g delimitadoras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111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t Stuffing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da 5 bits em 1 acrescenta um bi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frame mínimo contém 32 bits excluindo as 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45880" y="2057400"/>
            <a:ext cx="7820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11110  Endereço  Controle  Dados  Checksum   0111111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98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2920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1992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85440" y="1638360"/>
            <a:ext cx="6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14960" y="167652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 ou 16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5880" y="1676520"/>
            <a:ext cx="6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81840" y="16765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01880" y="1676520"/>
            <a:ext cx="7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49800" y="1676520"/>
            <a:ext cx="6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DLC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numb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campo de controle identifica o 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05120" y="4572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454040" y="4724280"/>
            <a:ext cx="6988320" cy="459720"/>
            <a:chOff x="1454040" y="4724280"/>
            <a:chExt cx="6988320" cy="459720"/>
          </a:xfrm>
        </p:grpSpPr>
        <p:sp>
          <p:nvSpPr>
            <p:cNvPr id="149" name=""/>
            <p:cNvSpPr/>
            <p:nvPr/>
          </p:nvSpPr>
          <p:spPr>
            <a:xfrm>
              <a:off x="1454040" y="4724280"/>
              <a:ext cx="69883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              Seq                   P/F                    Next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57400" y="47242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648320" y="47242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38680" y="47242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453680" y="5334120"/>
            <a:ext cx="7005240" cy="459720"/>
            <a:chOff x="1453680" y="5334120"/>
            <a:chExt cx="7005240" cy="459720"/>
          </a:xfrm>
        </p:grpSpPr>
        <p:grpSp>
          <p:nvGrpSpPr>
            <p:cNvPr id="154" name=""/>
            <p:cNvGrpSpPr/>
            <p:nvPr/>
          </p:nvGrpSpPr>
          <p:grpSpPr>
            <a:xfrm>
              <a:off x="1453680" y="5334120"/>
              <a:ext cx="7005240" cy="459720"/>
              <a:chOff x="1453680" y="5334120"/>
              <a:chExt cx="7005240" cy="459720"/>
            </a:xfrm>
          </p:grpSpPr>
          <p:sp>
            <p:nvSpPr>
              <p:cNvPr id="155" name=""/>
              <p:cNvSpPr/>
              <p:nvPr/>
            </p:nvSpPr>
            <p:spPr>
              <a:xfrm>
                <a:off x="1453680" y="5334120"/>
                <a:ext cx="700524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      1            Type            P/F                    Next  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057400" y="533412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648320" y="533412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638680" y="533412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2743200" y="5334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451880" y="6019920"/>
            <a:ext cx="7041600" cy="459720"/>
            <a:chOff x="1451880" y="6019920"/>
            <a:chExt cx="7041600" cy="459720"/>
          </a:xfrm>
        </p:grpSpPr>
        <p:grpSp>
          <p:nvGrpSpPr>
            <p:cNvPr id="161" name=""/>
            <p:cNvGrpSpPr/>
            <p:nvPr/>
          </p:nvGrpSpPr>
          <p:grpSpPr>
            <a:xfrm>
              <a:off x="1451880" y="6019920"/>
              <a:ext cx="7041600" cy="459720"/>
              <a:chOff x="1451880" y="6019920"/>
              <a:chExt cx="7041600" cy="459720"/>
            </a:xfrm>
          </p:grpSpPr>
          <p:sp>
            <p:nvSpPr>
              <p:cNvPr id="162" name=""/>
              <p:cNvSpPr/>
              <p:nvPr/>
            </p:nvSpPr>
            <p:spPr>
              <a:xfrm>
                <a:off x="1451880" y="6019920"/>
                <a:ext cx="704160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      1            Type            P/F                 Modifier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057400" y="601992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648320" y="601992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638680" y="601992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2743200" y="60199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1661760" y="4329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0" y="4343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954320" y="4343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9440" y="4343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DLC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a protocolo de Janela Desliz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úmero de seqüêcia de 3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reconhecimento é eni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amp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iggback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 um frame supervi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ários tipos de frame supervi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ceive 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ject (reconhecimento negativ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  Receive not Read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lective Re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DLC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me Unnumb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ões não confiáveis (sem reconhecimen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LIP - Serial Line I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colo Orientado a carac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acter delimit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C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acter Stuff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itui 0xC0 por 0xDB 0x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o o texto contenha um caracter 0xDB, este também é substituído pela seqü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82280" y="5486400"/>
            <a:ext cx="6311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IP                                    0xC0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91320" y="5486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PP - Point to Point Protoco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P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 detecção de er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orta múltiplos protoco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ocia endereços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ite a autentica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ado em conexões discadas e em linhas priva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P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e protocolo prov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a forma não ambígua de delimitação do pac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ção de er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 subprotocolo de enlace para estabelecer  e testar a conexão, negociar opções e finalizar conexões. (LCP - Link Control Protoc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protocolos de rede que negociam opções do nível de rede. (NCP - Network Control Protoc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 NCP diferente para cada nível de rede supor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3T13:44:20Z</dcterms:created>
  <dc:creator>Mars</dc:creator>
  <dc:description/>
  <dc:language>en-US</dc:language>
  <cp:lastModifiedBy>Faculdade de Informatica</cp:lastModifiedBy>
  <dcterms:modified xsi:type="dcterms:W3CDTF">1999-09-23T18:45:36Z</dcterms:modified>
  <cp:revision>12</cp:revision>
  <dc:subject/>
  <dc:title>HDLC</dc:title>
</cp:coreProperties>
</file>