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AB5-27E9-41D0-A64E-4920EE96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206-AAAC-4400-B47B-62063B4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F5B-F92E-40E9-A220-92B5A9A0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BFF-6AC1-43E5-82D5-838FE4DD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FBD4-E3BA-46FC-B4B0-D2699521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1BF1-2367-4904-BE84-E6E20083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0B8-C15D-44D3-B261-99FECD9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93AC-C913-42F9-ABFB-E136624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EE8E-44AD-48EC-9F11-BAB0125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3CCB-AF07-43DF-85BA-48C9426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297-478F-44F4-8E39-6C29B98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4B9-6EFA-4E70-A207-FFC0F8A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4C5-8A2D-4FB4-8A3B-3B7532E4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9C4-E173-4D09-A991-C49B1AA8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90A-B1CE-4524-A531-FC66A1E1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F55F-345D-4FF0-8893-A5D74BE5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A4EB-AC9C-4288-A118-8F93E171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5C2-7968-496F-9F99-2370A07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EA6-43AE-4B0D-B654-A4F3439C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854-4D5D-477E-B9E6-AF161D8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AA4-6A5B-4C67-8BD0-C822233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5AC-601C-44B7-A59E-3F0B1E30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399-F65F-4838-A239-ADCC574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F12-61A9-4C91-AE41-48008D2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53E2-A9C3-472C-93A3-E7388D9A6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4B9E-920E-45D1-91A5-F79B031622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ied Modeling Language (UM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9810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514600"/>
            <a:ext cx="312408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_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4343400"/>
            <a:ext cx="31240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81120" y="4724280"/>
            <a:ext cx="2961720" cy="501120"/>
            <a:chOff x="5181120" y="4724280"/>
            <a:chExt cx="2961720" cy="501120"/>
          </a:xfrm>
        </p:grpSpPr>
        <p:sp>
          <p:nvSpPr>
            <p:cNvPr id="121" name=""/>
            <p:cNvSpPr/>
            <p:nvPr/>
          </p:nvSpPr>
          <p:spPr>
            <a:xfrm flipH="1">
              <a:off x="5181120" y="4724280"/>
              <a:ext cx="1600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89520" y="4765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14440" y="2133720"/>
            <a:ext cx="4011120" cy="500760"/>
            <a:chOff x="4114440" y="2133720"/>
            <a:chExt cx="4011120" cy="500760"/>
          </a:xfrm>
        </p:grpSpPr>
        <p:sp>
          <p:nvSpPr>
            <p:cNvPr id="124" name=""/>
            <p:cNvSpPr/>
            <p:nvPr/>
          </p:nvSpPr>
          <p:spPr>
            <a:xfrm flipH="1">
              <a:off x="4114440" y="21337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12840" y="21747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ass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ons provide the abstract interface between the class’s implementation and other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may have arguments, return va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operation can examine and/or modify the object’s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oose your interface proper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interface is too small/specializ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is hard to use for even one applic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arder to re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interface is too lar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becomes too cumbersome for designers to understan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may be too slow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 and implementation are probably bug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onships between objects and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ssoci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bjects communicate but one does not own the 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ggreg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complex object is made of several smaller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ggregation in which owner does not allow access to its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Generaliz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fine one class in terms of an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r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want to define one class in terms of an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class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nher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ributes, operations of base 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114800"/>
            <a:ext cx="2133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rived_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334120"/>
            <a:ext cx="2133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e_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267080" y="5028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19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1640" y="4724280"/>
            <a:ext cx="3722760" cy="825480"/>
            <a:chOff x="4571640" y="4724280"/>
            <a:chExt cx="3722760" cy="825480"/>
          </a:xfrm>
        </p:grpSpPr>
        <p:sp>
          <p:nvSpPr>
            <p:cNvPr id="139" name=""/>
            <p:cNvSpPr/>
            <p:nvPr/>
          </p:nvSpPr>
          <p:spPr>
            <a:xfrm flipH="1" flipV="1">
              <a:off x="4571640" y="4835160"/>
              <a:ext cx="1600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82440" y="472428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l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rivation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7524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286000"/>
            <a:ext cx="3124080" cy="121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_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505320"/>
            <a:ext cx="3124080" cy="1676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_pixe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486400"/>
            <a:ext cx="31244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_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548640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_map_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2781800">
            <a:off x="3809160" y="518112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 rot="8818200">
            <a:off x="5104440" y="518040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5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5486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45720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4572000"/>
            <a:ext cx="5791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324480" y="1946160"/>
            <a:ext cx="1445760" cy="825480"/>
            <a:chOff x="6324480" y="1946160"/>
            <a:chExt cx="1445760" cy="825480"/>
          </a:xfrm>
        </p:grpSpPr>
        <p:sp>
          <p:nvSpPr>
            <p:cNvPr id="154" name=""/>
            <p:cNvSpPr/>
            <p:nvPr/>
          </p:nvSpPr>
          <p:spPr>
            <a:xfrm flipH="1">
              <a:off x="6324480" y="2209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5160" y="1946160"/>
              <a:ext cx="77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08760" y="3962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inher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362320"/>
            <a:ext cx="2286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362320"/>
            <a:ext cx="2286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4956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media_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2" idx="3"/>
          </p:cNvCxnSpPr>
          <p:nvPr/>
        </p:nvCxnSpPr>
        <p:spPr>
          <a:xfrm flipH="1" rot="16200000">
            <a:off x="4608360" y="1257840"/>
            <a:ext cx="2160" cy="3886920"/>
          </a:xfrm>
          <a:prstGeom prst="bentConnector3">
            <a:avLst>
              <a:gd name="adj1" fmla="val 3228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457200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43200" y="1565280"/>
            <a:ext cx="3429000" cy="720720"/>
            <a:chOff x="2743200" y="1565280"/>
            <a:chExt cx="3429000" cy="720720"/>
          </a:xfrm>
        </p:grpSpPr>
        <p:sp>
          <p:nvSpPr>
            <p:cNvPr id="166" name=""/>
            <p:cNvSpPr/>
            <p:nvPr/>
          </p:nvSpPr>
          <p:spPr>
            <a:xfrm>
              <a:off x="3641400" y="156528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 cla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743200" y="1905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1905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3120" y="5029200"/>
            <a:ext cx="2150280" cy="805680"/>
            <a:chOff x="2193120" y="5029200"/>
            <a:chExt cx="2150280" cy="805680"/>
          </a:xfrm>
        </p:grpSpPr>
        <p:sp>
          <p:nvSpPr>
            <p:cNvPr id="170" name=""/>
            <p:cNvSpPr/>
            <p:nvPr/>
          </p:nvSpPr>
          <p:spPr>
            <a:xfrm>
              <a:off x="2193120" y="5375160"/>
              <a:ext cx="17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rived 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09880" y="50292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s and associ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scribes relationships between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ssoci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scribes relationship between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 defines th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ationshi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8195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352680"/>
            <a:ext cx="221004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g = ms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= 1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449568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502920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g = ms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= 2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335268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388620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58128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48120" y="441972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ociation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819520"/>
            <a:ext cx="2971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352680"/>
            <a:ext cx="297180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g: ADPCM_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819520"/>
            <a:ext cx="24386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3352680"/>
            <a:ext cx="243864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71800" y="3013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437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5053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75280" y="37749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8160" y="1793880"/>
            <a:ext cx="3294360" cy="1254240"/>
            <a:chOff x="668160" y="1793880"/>
            <a:chExt cx="3294360" cy="1254240"/>
          </a:xfrm>
        </p:grpSpPr>
        <p:sp>
          <p:nvSpPr>
            <p:cNvPr id="195" name=""/>
            <p:cNvSpPr/>
            <p:nvPr/>
          </p:nvSpPr>
          <p:spPr>
            <a:xfrm>
              <a:off x="2971800" y="236232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160" y="1793880"/>
              <a:ext cx="28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 contained mess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407200" y="1752480"/>
            <a:ext cx="3344400" cy="1371600"/>
            <a:chOff x="5407200" y="1752480"/>
            <a:chExt cx="3344400" cy="1371600"/>
          </a:xfrm>
        </p:grpSpPr>
        <p:sp>
          <p:nvSpPr>
            <p:cNvPr id="198" name=""/>
            <p:cNvSpPr/>
            <p:nvPr/>
          </p:nvSpPr>
          <p:spPr>
            <a:xfrm flipH="1">
              <a:off x="5562360" y="2362320"/>
              <a:ext cx="53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07200" y="1752480"/>
              <a:ext cx="33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 containing message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languages to describe syst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across several levels of abstrac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within and between organiz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 diagrams are a start, but don’t cover ever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ereo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ereoty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curring combination of elements in an object or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&lt;foo&gt;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havioral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ways to describe behavi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iew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28954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09720" y="3200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409720" y="335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89280" y="3504960"/>
            <a:ext cx="3017520" cy="1679040"/>
            <a:chOff x="1889280" y="3504960"/>
            <a:chExt cx="3017520" cy="1679040"/>
          </a:xfrm>
        </p:grpSpPr>
        <p:sp>
          <p:nvSpPr>
            <p:cNvPr id="211" name=""/>
            <p:cNvSpPr/>
            <p:nvPr/>
          </p:nvSpPr>
          <p:spPr>
            <a:xfrm flipV="1">
              <a:off x="2438280" y="380952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23720" y="350496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89280" y="46893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7560" y="47242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26480" y="2251080"/>
            <a:ext cx="1335960" cy="1101600"/>
            <a:chOff x="4326480" y="2251080"/>
            <a:chExt cx="1335960" cy="1101600"/>
          </a:xfrm>
        </p:grpSpPr>
        <p:sp>
          <p:nvSpPr>
            <p:cNvPr id="216" name=""/>
            <p:cNvSpPr/>
            <p:nvPr/>
          </p:nvSpPr>
          <p:spPr>
            <a:xfrm flipH="1">
              <a:off x="4571640" y="274320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26480" y="2251080"/>
              <a:ext cx="13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-driven state mach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descriptions are written as event-driven state mach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hine changes state when receiving an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vent may come from inside or outside of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ev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synchronous ev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ynchronized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im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ctivated by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nal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2362320"/>
            <a:ext cx="243828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signal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use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3124080"/>
            <a:ext cx="2438280" cy="121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orright: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y: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3840" y="46483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352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58000" y="3962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0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419112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1760" y="350532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x,y,but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120" y="55278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l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28954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09720" y="3200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09720" y="335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23623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(10,5,3,2,b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er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8954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409720" y="3200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335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4000" y="251460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(time-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state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28954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289548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7242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4648320"/>
            <a:ext cx="1752840" cy="990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971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49528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8769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66680" y="3048120"/>
            <a:ext cx="1219320" cy="304200"/>
            <a:chOff x="1066680" y="3048120"/>
            <a:chExt cx="1219320" cy="304200"/>
          </a:xfrm>
        </p:grpSpPr>
        <p:sp>
          <p:nvSpPr>
            <p:cNvPr id="257" name=""/>
            <p:cNvSpPr/>
            <p:nvPr/>
          </p:nvSpPr>
          <p:spPr>
            <a:xfrm>
              <a:off x="1066680" y="3200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145240" y="3048120"/>
              <a:ext cx="1404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145240" y="3200040"/>
              <a:ext cx="140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81280" y="3048120"/>
            <a:ext cx="762120" cy="304200"/>
            <a:chOff x="3581280" y="3048120"/>
            <a:chExt cx="762120" cy="304200"/>
          </a:xfrm>
        </p:grpSpPr>
        <p:sp>
          <p:nvSpPr>
            <p:cNvPr id="261" name=""/>
            <p:cNvSpPr/>
            <p:nvPr/>
          </p:nvSpPr>
          <p:spPr>
            <a:xfrm>
              <a:off x="3581280" y="3200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255560" y="3048120"/>
              <a:ext cx="87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255560" y="3200040"/>
              <a:ext cx="87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867280" y="3048120"/>
            <a:ext cx="685800" cy="304200"/>
            <a:chOff x="5867280" y="3048120"/>
            <a:chExt cx="685800" cy="304200"/>
          </a:xfrm>
        </p:grpSpPr>
        <p:sp>
          <p:nvSpPr>
            <p:cNvPr id="265" name=""/>
            <p:cNvSpPr/>
            <p:nvPr/>
          </p:nvSpPr>
          <p:spPr>
            <a:xfrm>
              <a:off x="5867280" y="3200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6473520" y="3048120"/>
              <a:ext cx="78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473520" y="3200040"/>
              <a:ext cx="78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448040" y="3818520"/>
            <a:ext cx="343440" cy="1043640"/>
            <a:chOff x="7448040" y="3818520"/>
            <a:chExt cx="343440" cy="1043640"/>
          </a:xfrm>
        </p:grpSpPr>
        <p:sp>
          <p:nvSpPr>
            <p:cNvPr id="269" name=""/>
            <p:cNvSpPr/>
            <p:nvPr/>
          </p:nvSpPr>
          <p:spPr>
            <a:xfrm>
              <a:off x="7448040" y="3818520"/>
              <a:ext cx="21960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667640" y="4709880"/>
              <a:ext cx="12384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492680" y="4772880"/>
              <a:ext cx="17460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45080" y="3350880"/>
            <a:ext cx="1205280" cy="1375200"/>
            <a:chOff x="1045080" y="3350880"/>
            <a:chExt cx="1205280" cy="1375200"/>
          </a:xfrm>
        </p:grpSpPr>
        <p:sp>
          <p:nvSpPr>
            <p:cNvPr id="273" name=""/>
            <p:cNvSpPr/>
            <p:nvPr/>
          </p:nvSpPr>
          <p:spPr>
            <a:xfrm>
              <a:off x="1045080" y="3350880"/>
              <a:ext cx="1205280" cy="13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225880" y="4466520"/>
              <a:ext cx="2448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1996560" y="4667760"/>
              <a:ext cx="25380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05320" y="5028840"/>
            <a:ext cx="761760" cy="305280"/>
            <a:chOff x="3505320" y="5028840"/>
            <a:chExt cx="761760" cy="305280"/>
          </a:xfrm>
        </p:grpSpPr>
        <p:sp>
          <p:nvSpPr>
            <p:cNvPr id="277" name=""/>
            <p:cNvSpPr/>
            <p:nvPr/>
          </p:nvSpPr>
          <p:spPr>
            <a:xfrm>
              <a:off x="3505320" y="5181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179240" y="5028840"/>
              <a:ext cx="87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179240" y="5181480"/>
              <a:ext cx="87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19920" y="5028840"/>
            <a:ext cx="1371600" cy="305280"/>
            <a:chOff x="6019920" y="5028840"/>
            <a:chExt cx="1371600" cy="305280"/>
          </a:xfrm>
        </p:grpSpPr>
        <p:sp>
          <p:nvSpPr>
            <p:cNvPr id="281" name=""/>
            <p:cNvSpPr/>
            <p:nvPr/>
          </p:nvSpPr>
          <p:spPr>
            <a:xfrm>
              <a:off x="6019920" y="5181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32760" y="5028840"/>
              <a:ext cx="158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232760" y="5181480"/>
              <a:ext cx="158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89080" y="1717560"/>
            <a:ext cx="7354440" cy="4650840"/>
            <a:chOff x="289080" y="1717560"/>
            <a:chExt cx="7354440" cy="4650840"/>
          </a:xfrm>
        </p:grpSpPr>
        <p:sp>
          <p:nvSpPr>
            <p:cNvPr id="285" name=""/>
            <p:cNvSpPr/>
            <p:nvPr/>
          </p:nvSpPr>
          <p:spPr>
            <a:xfrm>
              <a:off x="289080" y="17175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66200" y="590868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" y="228600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467480" y="5486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55280" y="2209680"/>
            <a:ext cx="27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_click(x,y,button)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region(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59840" y="17175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2560" y="2147760"/>
            <a:ext cx="17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 = men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_menu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88800" y="25146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_menu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240" y="3886200"/>
            <a:ext cx="2036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 = drawin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object(obj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3800" y="426708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ight(obj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s sequence of operations over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s behaviors of multiple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bject-oriented (OO) de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generalization of object-oriented program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tate + metho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provides each object with its own ident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provide a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bstract interf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251460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200400"/>
            <a:ext cx="228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335268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480060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3200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352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6000" y="2666880"/>
            <a:ext cx="26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_click(x,y,but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67320" y="294480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_menu(x,y,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69840" y="44197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_menu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880" y="3581280"/>
            <a:ext cx="1067040" cy="76212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1000" y="3581280"/>
            <a:ext cx="196920" cy="15264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design helps us organize a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is a transportable system design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structural and behavioral description primi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O implementation in C++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display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ixels : pixeltype[IMAX,JMAX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splay() {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ixeltype pixel(int i, int j) { return pixels[i,j]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set_pixel(pixeltype val, int i, int j) { pixels[i,j] = val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O implementation in 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{ pixels: pixeltype[IMAX,JMAX]; } displa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 d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xeltype pixelval(pixel *px, int i, int j) { return px[i,j]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s and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bject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efines the object’s state elements but state values may change over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efines the methods used to interact with all objects of that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has its own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O 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bjects will closely correspond to real-world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objects may be useful only for description or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provide interfaces to read/write state, hiding the object’s implementation from the rest of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Booch et 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-orient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at many levels of abstrac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le for all aspects of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 ob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: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895480"/>
            <a:ext cx="312408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: array[] of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_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0880" y="2666880"/>
            <a:ext cx="2057400" cy="144792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666880"/>
            <a:ext cx="380880" cy="3049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71600" y="4038120"/>
            <a:ext cx="1377360" cy="1415880"/>
            <a:chOff x="1371600" y="4038120"/>
            <a:chExt cx="1377360" cy="1415880"/>
          </a:xfrm>
        </p:grpSpPr>
        <p:sp>
          <p:nvSpPr>
            <p:cNvPr id="105" name=""/>
            <p:cNvSpPr/>
            <p:nvPr/>
          </p:nvSpPr>
          <p:spPr>
            <a:xfrm flipV="1">
              <a:off x="1371600" y="403812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31360" y="49942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71640" y="1488960"/>
            <a:ext cx="2028960" cy="949320"/>
            <a:chOff x="4571640" y="1488960"/>
            <a:chExt cx="2028960" cy="949320"/>
          </a:xfrm>
        </p:grpSpPr>
        <p:sp>
          <p:nvSpPr>
            <p:cNvPr id="108" name=""/>
            <p:cNvSpPr/>
            <p:nvPr/>
          </p:nvSpPr>
          <p:spPr>
            <a:xfrm flipH="1">
              <a:off x="4571640" y="182880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5600" y="148896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3760" y="1870200"/>
            <a:ext cx="2182320" cy="720720"/>
            <a:chOff x="5333760" y="1870200"/>
            <a:chExt cx="2182320" cy="720720"/>
          </a:xfrm>
        </p:grpSpPr>
        <p:sp>
          <p:nvSpPr>
            <p:cNvPr id="111" name=""/>
            <p:cNvSpPr/>
            <p:nvPr/>
          </p:nvSpPr>
          <p:spPr>
            <a:xfrm flipH="1">
              <a:off x="5333760" y="21337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03360" y="187020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15000" y="3809520"/>
            <a:ext cx="2063880" cy="2253960"/>
            <a:chOff x="5715000" y="3809520"/>
            <a:chExt cx="2063880" cy="2253960"/>
          </a:xfrm>
        </p:grpSpPr>
        <p:sp>
          <p:nvSpPr>
            <p:cNvPr id="114" name=""/>
            <p:cNvSpPr/>
            <p:nvPr/>
          </p:nvSpPr>
          <p:spPr>
            <a:xfrm flipH="1" flipV="1">
              <a:off x="5715000" y="3809520"/>
              <a:ext cx="14479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9840" y="5603760"/>
              <a:ext cx="13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9-22T00:50:04Z</dcterms:modified>
  <cp:revision>123</cp:revision>
  <dc:subject/>
  <dc:title>Networking for Embedded Systems</dc:title>
</cp:coreProperties>
</file>