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452-BEBA-4CE6-B337-EECDBB3D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182-7427-4424-820E-820DBF54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408-FA1D-4CBC-8BD8-F45164DD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2C3-9A48-4F14-B88A-ECA1768C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61AB-7C68-47D4-96A2-0963A991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4A12-70A1-4580-83BE-34DFAB89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AA4C-0AF4-4519-B75B-6805C7FF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5CC8-9998-4676-92AE-F3483360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34AB-9F7F-4536-BF37-A56C5FB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2188-7E05-47AD-ACF0-A01227B0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F3D-1DC5-47D5-8E27-B100F58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2A1-77EF-4764-A26B-6DD3BA68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C699-78B8-4436-BE20-2177C4AB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E673-0EC1-42EE-AA8D-D120DCDA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35DE-1B5B-41FE-8186-B78027FD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B245-2050-4A3A-8C95-E066B84D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4390-D88B-421D-AC7C-132EDCCE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C99-6631-4785-B343-E0207E8B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4DD-6B30-44BE-91BF-56A8CB88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6A1-DFE6-4D61-9030-F50FE85F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FE0-06AF-4A65-94D8-F9A50F8A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804-6CEF-4C58-8781-FBC930E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71F-4DA7-4EFB-AD78-3C6C8B3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CB9-477C-493D-9AD3-0FB417A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732F-A93E-4A9B-BA40-21AF43B84C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F212-CA48-49FA-950E-5C58F88DCE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odel train control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es of message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message classes derived from message c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and operations will be filled in for detailed specif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message classes specify message type by their c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have to add type as parameter to data structure in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system collaboration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s relationship between console and receiver (ignores role of track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3962520"/>
            <a:ext cx="15238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962520"/>
            <a:ext cx="15242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4600" y="33526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n: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structure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classes define non-computer compon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 by *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important systems at this point to show basic relationshi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subsystem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so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state of front pane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 messag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mess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r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mess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 mess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he tr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sole system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17524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22860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31240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6576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1240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31240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36576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44956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50292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44956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50292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676160" y="23623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362320"/>
            <a:ext cx="20574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01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8636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56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04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332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72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38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48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20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406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9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sole class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an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scribes analog knobs and interface hard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ormat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urns knob settings into bit stre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ransmit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nds data on tr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n system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17524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22860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3048120"/>
            <a:ext cx="1828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3581280"/>
            <a:ext cx="18288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828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038480"/>
            <a:ext cx="18288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26708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80060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3276720"/>
            <a:ext cx="18288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4038480"/>
            <a:ext cx="18288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8006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533412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800600"/>
            <a:ext cx="18288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5334120"/>
            <a:ext cx="1828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209680" y="327672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2767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372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308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4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2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170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78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3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1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6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34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n class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recei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igitizes signal from tr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trol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prets received commands and makes control deci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otor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generates signals required by mo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tailed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now fill in the details of the conceptual specifi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las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tching out the spec first helps us understand the basic relationships in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n speed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or controlled by pulse width modul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0080" y="4038120"/>
            <a:ext cx="1828800" cy="762120"/>
            <a:chOff x="5410080" y="4038120"/>
            <a:chExt cx="1828800" cy="762120"/>
          </a:xfrm>
        </p:grpSpPr>
        <p:sp>
          <p:nvSpPr>
            <p:cNvPr id="290" name=""/>
            <p:cNvSpPr/>
            <p:nvPr/>
          </p:nvSpPr>
          <p:spPr>
            <a:xfrm rot="16200000">
              <a:off x="6019560" y="3580920"/>
              <a:ext cx="762120" cy="16765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5562360" y="4190400"/>
              <a:ext cx="152280" cy="45720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2" name=""/>
          <p:cNvCxnSpPr>
            <a:stCxn id="290" idx="4"/>
          </p:cNvCxnSpPr>
          <p:nvPr/>
        </p:nvCxnSpPr>
        <p:spPr>
          <a:xfrm flipV="1" rot="16200000">
            <a:off x="4990680" y="2628360"/>
            <a:ext cx="226440" cy="258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90" idx="2"/>
          </p:cNvCxnSpPr>
          <p:nvPr/>
        </p:nvCxnSpPr>
        <p:spPr>
          <a:xfrm rot="5400000">
            <a:off x="4948920" y="3581280"/>
            <a:ext cx="232560" cy="2664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38883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764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7640" y="4572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800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4419720"/>
            <a:ext cx="45720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4419720"/>
            <a:ext cx="45720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8480" y="3505320"/>
            <a:ext cx="71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urposes of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a design through several levels of abstr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in experience with UM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sole physical object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182880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b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362320"/>
            <a:ext cx="327672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-knob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-knob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tia-knob: unsigne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-stop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4191120"/>
            <a:ext cx="327672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182880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362320"/>
            <a:ext cx="327672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-width: unsigne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3581280"/>
            <a:ext cx="32767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403848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4572000"/>
            <a:ext cx="160020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4876920"/>
            <a:ext cx="160020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b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4038480"/>
            <a:ext cx="28954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4572000"/>
            <a:ext cx="289548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4876920"/>
            <a:ext cx="2895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-bit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nel and motor interface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2133720"/>
            <a:ext cx="30481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2666880"/>
            <a:ext cx="304812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971800"/>
            <a:ext cx="3048120" cy="205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-number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tia(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p(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setting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133720"/>
            <a:ext cx="30481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-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2666880"/>
            <a:ext cx="30481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3429000"/>
            <a:ext cx="30481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descrip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el class defines the contr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-settings() behavior reads the contr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or-interface class defines the motor speed held as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mitter and receiver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213372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2666880"/>
            <a:ext cx="327672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2971800"/>
            <a:ext cx="3276720" cy="205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speed(adrs: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inertia(adrs: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estop(adrs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2133720"/>
            <a:ext cx="327636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666880"/>
            <a:ext cx="32763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: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3581280"/>
            <a:ext cx="327636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-cm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cmd(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-type(msg-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-speed(val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-inertia(val: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descrip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tter class has one behavior for each type of message s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 function provides methods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 a new mess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ts typ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its parameters (estop has no parameter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er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1981080"/>
            <a:ext cx="41911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2514600"/>
            <a:ext cx="4191120" cy="213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train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speed[ntrains]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inertia[ntrains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igned-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estop[ntrains]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4648320"/>
            <a:ext cx="419112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-active(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er class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ter class holds state for each train, setting for current tr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e() operation performs the basic formatting t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input c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soft panel to show current panel settings for each tr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ing train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hange soft panel settings to reflect current train’s speed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ing throttle/inertia/esto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panel, check for changes, perform comm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 input sequence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175248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1752480"/>
            <a:ext cx="990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752480"/>
            <a:ext cx="1447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175248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2280" y="2362320"/>
            <a:ext cx="990720" cy="2133360"/>
            <a:chOff x="152280" y="2362320"/>
            <a:chExt cx="990720" cy="2133360"/>
          </a:xfrm>
        </p:grpSpPr>
        <p:sp>
          <p:nvSpPr>
            <p:cNvPr id="347" name=""/>
            <p:cNvSpPr/>
            <p:nvPr/>
          </p:nvSpPr>
          <p:spPr>
            <a:xfrm flipH="1" rot="16200000">
              <a:off x="-419040" y="2933640"/>
              <a:ext cx="2133360" cy="990720"/>
            </a:xfrm>
            <a:prstGeom prst="flowChartPunchedCard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 in speed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ertia/e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76320" y="2438640"/>
              <a:ext cx="380520" cy="228600"/>
            </a:xfrm>
            <a:prstGeom prst="rtTriangl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2280" y="4495320"/>
            <a:ext cx="990720" cy="1676880"/>
            <a:chOff x="152280" y="4495320"/>
            <a:chExt cx="990720" cy="1676880"/>
          </a:xfrm>
        </p:grpSpPr>
        <p:sp>
          <p:nvSpPr>
            <p:cNvPr id="350" name=""/>
            <p:cNvSpPr/>
            <p:nvPr/>
          </p:nvSpPr>
          <p:spPr>
            <a:xfrm flipH="1" rot="16200000">
              <a:off x="-190440" y="4838400"/>
              <a:ext cx="1676520" cy="990720"/>
            </a:xfrm>
            <a:prstGeom prst="flowChartPunchedCard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116640" y="4530600"/>
              <a:ext cx="299520" cy="228600"/>
            </a:xfrm>
            <a:prstGeom prst="rtTriangl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67652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6748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228600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2590920"/>
            <a:ext cx="152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12960" y="2174760"/>
            <a:ext cx="13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2286000"/>
            <a:ext cx="15264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3352680"/>
            <a:ext cx="152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4960" y="2590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2895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33560" y="22096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3880" y="28954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01920" y="24796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-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272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03360" y="29368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56272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26520" y="3394080"/>
            <a:ext cx="17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spe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inert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e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3505320"/>
            <a:ext cx="152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504960" y="3505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560" y="31240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3880" y="38098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4648320"/>
            <a:ext cx="152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42900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05320" y="4800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240" y="42670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03880" y="480060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16040" y="460692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495680"/>
            <a:ext cx="13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57150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76520" y="5715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37360" y="58323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kn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58128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41760" y="537516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er operat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32767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1337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-pane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38098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3200400"/>
            <a:ext cx="83808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7160" y="29718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-acti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04440" y="29718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ra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760" y="4114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72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572000" y="2742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37339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5" idx="2"/>
            <a:endCxn id="393" idx="2"/>
          </p:cNvCxnSpPr>
          <p:nvPr/>
        </p:nvCxnSpPr>
        <p:spPr>
          <a:xfrm flipV="1" rot="16200000">
            <a:off x="3752280" y="1694880"/>
            <a:ext cx="533880" cy="5067360"/>
          </a:xfrm>
          <a:prstGeom prst="bentConnector3">
            <a:avLst>
              <a:gd name="adj1" fmla="val -42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4" idx="0"/>
            <a:endCxn id="393" idx="0"/>
          </p:cNvCxnSpPr>
          <p:nvPr/>
        </p:nvCxnSpPr>
        <p:spPr>
          <a:xfrm rot="5400000">
            <a:off x="3447360" y="171000"/>
            <a:ext cx="1143720" cy="5067360"/>
          </a:xfrm>
          <a:prstGeom prst="bentConnector3">
            <a:avLst>
              <a:gd name="adj1" fmla="val -1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del train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286000"/>
            <a:ext cx="6324480" cy="31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3840" y="4951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3840" y="464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3840" y="4341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3840" y="4037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3840" y="373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3840" y="3427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3840" y="3122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3840" y="2817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4876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467480" y="2209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981080"/>
            <a:ext cx="2133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5800" y="1600200"/>
            <a:ext cx="225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141880" y="1447200"/>
            <a:ext cx="6732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89720" y="1600200"/>
            <a:ext cx="673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3640" y="1676520"/>
            <a:ext cx="225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240" y="2438280"/>
            <a:ext cx="374760" cy="38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962520"/>
            <a:ext cx="144792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352680"/>
            <a:ext cx="13716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886200" y="380952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2" idx="3"/>
            <a:endCxn id="136" idx="0"/>
          </p:cNvCxnSpPr>
          <p:nvPr/>
        </p:nvCxnSpPr>
        <p:spPr>
          <a:xfrm>
            <a:off x="3885840" y="4495320"/>
            <a:ext cx="762840" cy="839160"/>
          </a:xfrm>
          <a:prstGeom prst="curvedConnector2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518148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20574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2438280"/>
            <a:ext cx="374760" cy="38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365800" y="2514240"/>
            <a:ext cx="1347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4876920"/>
            <a:ext cx="6172200" cy="1218600"/>
            <a:chOff x="1371600" y="4876920"/>
            <a:chExt cx="6172200" cy="1218600"/>
          </a:xfrm>
        </p:grpSpPr>
        <p:grpSp>
          <p:nvGrpSpPr>
            <p:cNvPr id="142" name=""/>
            <p:cNvGrpSpPr/>
            <p:nvPr/>
          </p:nvGrpSpPr>
          <p:grpSpPr>
            <a:xfrm>
              <a:off x="1371600" y="5334120"/>
              <a:ext cx="6172200" cy="761400"/>
              <a:chOff x="1371600" y="5334120"/>
              <a:chExt cx="6172200" cy="761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9047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096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146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191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240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290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335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384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434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479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28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78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623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722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7676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8168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76760" y="5486040"/>
                <a:ext cx="1067040" cy="609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19160" y="5486040"/>
                <a:ext cx="1295640" cy="609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71600" y="5486040"/>
                <a:ext cx="1523880" cy="609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14800" y="5486040"/>
                <a:ext cx="2361960" cy="609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mm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1371600" y="4876920"/>
              <a:ext cx="3200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876920"/>
              <a:ext cx="2971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nel-activ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1676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666880"/>
            <a:ext cx="266724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*:read-tr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2362320"/>
            <a:ext cx="3429000" cy="1371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train = train-kn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-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3920" y="2666880"/>
            <a:ext cx="83808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81640" y="240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828440" y="20574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4495680"/>
            <a:ext cx="266724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*:read-spe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4191120"/>
            <a:ext cx="3429000" cy="1371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speed = thr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495680"/>
            <a:ext cx="838080" cy="7621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81640" y="4232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828800" y="3429000"/>
            <a:ext cx="2286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62520" y="34290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276720" y="52578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33720" y="5756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48480" y="529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819520" y="3733920"/>
            <a:ext cx="3962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705720" y="5562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86400" y="5832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ler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"/>
          <p:cNvSpPr/>
          <p:nvPr/>
        </p:nvSpPr>
        <p:spPr>
          <a:xfrm>
            <a:off x="2209680" y="1981080"/>
            <a:ext cx="45720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09680" y="2514600"/>
            <a:ext cx="4572000" cy="213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train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speed[ntrains]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direction[ntrains]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-inertia[ntrains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igned-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09680" y="4648320"/>
            <a:ext cx="457200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the spe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want to change speed instantaneous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er should change speed gradually by sending several comm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diagram for set-speed comma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752480"/>
            <a:ext cx="1219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1752480"/>
            <a:ext cx="1371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752480"/>
            <a:ext cx="20574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or-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29400" y="175248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lse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290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864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9152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2286000"/>
            <a:ext cx="228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2286000"/>
            <a:ext cx="228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10080" y="3505320"/>
            <a:ext cx="15264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15200" y="2286000"/>
            <a:ext cx="228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65960" y="217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c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0720" y="26668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68320" y="315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81440" y="31240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68320" y="361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70360" y="30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8128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99160" y="3165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272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99160" y="36226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4648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99160" y="41562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5257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9160" y="47656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62720" y="5867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99160" y="53751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roller operate behavi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3581280"/>
            <a:ext cx="266724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35812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5360" y="30132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-comma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2"/>
            <a:endCxn id="467" idx="2"/>
          </p:cNvCxnSpPr>
          <p:nvPr/>
        </p:nvCxnSpPr>
        <p:spPr>
          <a:xfrm rot="5400000">
            <a:off x="4418280" y="1943640"/>
            <a:ext cx="2520" cy="4649040"/>
          </a:xfrm>
          <a:prstGeom prst="bentConnector3">
            <a:avLst>
              <a:gd name="adj1" fmla="val 43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 flipH="1">
            <a:off x="685080" y="1752480"/>
            <a:ext cx="2057400" cy="144792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1752480"/>
            <a:ext cx="380880" cy="3049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ined command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16765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2680" y="2209680"/>
            <a:ext cx="2210040" cy="1219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ype: 3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: 3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ty: 1-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41148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ine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9000" y="4648320"/>
            <a:ext cx="220968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=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: 3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1148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464832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=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: 7-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41148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324480" y="464832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=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67080" y="3429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882200">
            <a:off x="3428640" y="3429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9408800">
            <a:off x="5257440" y="342864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819160" y="3733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86400" y="36576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specification and program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mistakes are easier to fix in the sp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g mistakes in programming cost a lot of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’t completely separate specification and archit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a few tasteful assump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ole can control 8 trains on 1 tr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ottle has at least 63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ertia control adjusts responsiveness with at least 8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ergency stop butt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detection scheme on mess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quirements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17760" y="1917720"/>
          <a:ext cx="5979960" cy="430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917720"/>
                    <a:ext cx="597996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eptual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we create a detailed specification, we will make an initial, simplified spec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us practice in specification and UM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idea in general to identify potential problems before investing too much effort in de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system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920960"/>
          <a:ext cx="8178840" cy="41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20960"/>
                    <a:ext cx="817884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ical control sequ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in_rc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362320"/>
            <a:ext cx="3049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362320"/>
            <a:ext cx="30456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1760" y="20574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ine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2438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34290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876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5520" y="4038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5146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28954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962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5720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5410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sage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19051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41148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ine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4648320"/>
            <a:ext cx="220968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: unsigne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1148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-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64832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11480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64832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895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882200">
            <a:off x="3428640" y="2895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666520" y="3124080"/>
            <a:ext cx="838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9408800">
            <a:off x="5257440" y="289512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8-23T00:15:21Z</dcterms:modified>
  <cp:revision>159</cp:revision>
  <dc:subject/>
  <dc:title>Networking for Embedded Systems</dc:title>
</cp:coreProperties>
</file>