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4CE-9914-4CD0-8DD0-391BEEDE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F31-D3FF-4868-8D75-D9B727A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F9B-F815-443D-86BA-9515365A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ABC-B977-4F03-9493-073FDD6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EAFC-7BF4-4555-A2EE-F554FC66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F8E-E9E2-474A-BC60-5D073C5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5621-6121-430D-A365-93EBAE2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D1F-1EDB-4EC3-B1DE-B9C985C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9D85-7AD7-4D27-BA8F-2571294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507-8C45-4AB9-A1BB-A4D1D99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8C0-3DF4-4C68-83B3-47EC6C9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A86-2C78-45DE-ABDC-1CD5732E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3E3C-73DA-4429-A1B6-12013E7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5E3A-68AA-4515-9673-9286066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F40-3346-48C9-BCA9-518CC78C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560-59D3-43E8-BD5F-3EE011BA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F8C-8F91-489C-A2B8-A39CCBFA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417-8DE1-4E87-A93C-E6E76FE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429-A019-4D6C-A5DF-CBB5513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2B8-6EB2-4098-8928-AA16AC79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DF2-83BE-4856-BDB0-63C096E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C8A-F1BE-4317-8299-6740DC2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25C-CDB8-47FA-91D0-F18FE53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940-CC95-4E2B-8755-15D62A32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DC2-40DF-4D62-A171-A9BA8EBB4D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56E-A123-4BEE-AD92-5FCCCD1CB1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embedded systems plat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larm 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an-keyboard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209680"/>
            <a:ext cx="365760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button ac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048120"/>
            <a:ext cx="76176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16002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7913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0481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26708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.buzzer(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2819520"/>
            <a:ext cx="213372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 w.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M/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343400"/>
            <a:ext cx="213372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w.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M/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4956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37920" y="327636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047760" y="37339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52880" y="33526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42900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65760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83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38320" y="39625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79640" y="28605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6840" y="3622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0920" y="167652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-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89160" y="541008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-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iodic behavior (clock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eriodic behavior (buttons, buzzer activ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jor 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-driven routine updates 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ground program deals with buttons, comma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-driven rout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r probably can’t handle one-minute interrupt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oftware variable to convert interrupt frequency to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eground pro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s as while loo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_buttons(button_value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_command(button_value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_alarm(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interrupt code on the platfor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est foreground program using a mock-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ly few components to integrat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clock accurac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recognition of buttons, buzz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9718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733920"/>
            <a:ext cx="3049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5909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590920"/>
            <a:ext cx="38124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505320"/>
            <a:ext cx="380880" cy="838080"/>
          </a:xfrm>
          <a:prstGeom prst="parallelogram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11480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35268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590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19810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1920" y="18702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9810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90512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572000"/>
            <a:ext cx="55627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4640" y="446076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105520"/>
            <a:ext cx="30456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560" y="5410080"/>
            <a:ext cx="7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560" y="541008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864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0120" y="5410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2120" y="4191120"/>
            <a:ext cx="761760" cy="8380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360" y="5070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00800" y="5334120"/>
            <a:ext cx="990720" cy="4572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99720" y="57564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6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9360" y="2590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057400"/>
            <a:ext cx="1066680" cy="121932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time: hold set time, depress hour, min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alarm time: hold set alarm, depress hour, min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 alarm on/off: depress alarm on/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70040" y="1978200"/>
          <a:ext cx="781524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978200"/>
                    <a:ext cx="78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class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743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8862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t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9528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57800" y="32767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57800" y="327636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9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9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3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404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8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98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arm clock physical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362320"/>
            <a:ext cx="24386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819520"/>
            <a:ext cx="243864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-va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-sca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-l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828800"/>
            <a:ext cx="2666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t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2362320"/>
            <a:ext cx="2666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2819520"/>
            <a:ext cx="2666880" cy="24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alarm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n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off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()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828800"/>
            <a:ext cx="24386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2362320"/>
            <a:ext cx="24386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819520"/>
            <a:ext cx="243864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zz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play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1752480"/>
            <a:ext cx="3353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286000"/>
            <a:ext cx="335304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[4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indicator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indicator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581280"/>
            <a:ext cx="33530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light-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light-of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-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light-of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sm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371600"/>
            <a:ext cx="51818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905120"/>
            <a:ext cx="5181840" cy="3352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-hours, ones-hours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-minutes, ones-minutes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ready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tens-hours, alarm-ones-hou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-tens-minutes, alarm-ones-min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257800"/>
            <a:ext cx="51818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-keyboar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ti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pdate-tim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36576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82880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373392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ol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3520" y="220968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819520"/>
            <a:ext cx="7621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9718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3000" y="3317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776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5627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55627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7621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828440" y="5029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029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9360" y="49528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&gt;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76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-&gt;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828800"/>
            <a:ext cx="381024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.set-time(curre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2895480"/>
            <a:ext cx="4267080" cy="762120"/>
          </a:xfrm>
          <a:prstGeom prst="hexagon">
            <a:avLst>
              <a:gd name="adj" fmla="val 139974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&gt;= alarm and alarm-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11480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.buzzer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96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72400" y="40384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120" y="3622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44160" y="293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19720" y="2437920"/>
            <a:ext cx="30456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43200" y="2514600"/>
            <a:ext cx="19810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4T02:27:43Z</dcterms:modified>
  <cp:revision>42</cp:revision>
  <dc:subject/>
  <dc:title>No Slide Title</dc:title>
</cp:coreProperties>
</file>