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617-D289-4C05-A721-13F6ED94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238-3F43-4C20-866D-757EB27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14D-9199-4D5B-BC2C-61E9CEA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9F9-98FC-48A2-B79B-217B50DF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8F8-F25F-411F-88CE-38AE9D59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6D11-6D31-45B5-B4F0-65AFC1F9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2213-360B-4478-B661-3F20651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DFB-86B7-478C-AFD2-5CECFF7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7FA-8706-4B27-9788-E753774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35D2-1A74-4F9E-A7A2-F49AAD8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0E7-AE57-49DC-BCFB-27340AE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29C-39F8-4752-9C0B-A27D561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D3E-ADAA-4F3A-A166-B7DF751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EC6-D93B-43C2-80F7-2A2CAF5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8361-17F3-4A2C-B8EC-0BC3524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A64-BE02-48E8-8CD5-4FFBE255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97D2-0D2A-4BD5-992B-4337BFAC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2CD-918D-4865-9E42-683FCB1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DFF-68D7-42B8-A72A-7192BBA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69A-E076-4923-BA98-EBBBFA4C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9C0-126A-492A-B58E-B05BE736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6A6-CF44-4E9D-BAEA-0DA1434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86F-F795-46B0-9DD1-AE6EF5E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843-DC85-460C-A4E4-B82685A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3AD-BA83-41AA-8427-5C590C01D5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B52-B5AC-41DB-BB0F-BF5857A2C3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act disc p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characteris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ght-to-fourteen modu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een-bit code guarantees a maximum distance between trans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7542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2560" y="414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1160" y="38862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1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rror corr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capacity: 6.99 GB raw, 700 MB forma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ed-Solomon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(x) = (x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…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-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x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data, erasure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solve varies greatly depending on no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interleaves Reed-Solomon blocks to reduce effects of large data ga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 encoding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interleaved Reed-Solomon 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leaves to reduce burst err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16-bit sample split into two 8-bit symb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orrectable burst: 4000 bits = 2.5 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interpolatable burst: 12,300 bits = 7.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 algorith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split into two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samples from each sample (=24 symbols) are cho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s are delayed and scramb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 symbols (Q symbols)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are delayed by various amou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parity symbol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words delayed by one symbol, P and Q words are inver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= 32 8-bit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w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-bit control word for every 32-symbol bloc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1 during music/lead-in, 0 at start of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: track number, time, etc (spread over 98 bi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S, T, U, V, W: reser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and error corr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s caused by physical disturb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disturbance to sub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errors caused by disc/servo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location for 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 and interpo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y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s stored in a spi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seek track as on magnetic dis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d servo is very co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s only weakly addres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read data to know where to 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playb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 CD needs no audio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 to analo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f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/analog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bit MASH con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581280"/>
            <a:ext cx="18288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581280"/>
            <a:ext cx="18288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581280"/>
            <a:ext cx="152388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581280"/>
            <a:ext cx="13716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29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ing is easier than encoding, but 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mpres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CD standard for data dis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s for MP3 disc file structure: player must understand Windows, Mac, Unix dis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au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4.1 kHz sample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 bit samp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e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data tr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og/skip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samples into RAM, play back from 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RAMs are larger than needed for reasonable jog/sk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 memory saves some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VD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CD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r wavelength las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er pi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yers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/MP3 p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1752480"/>
            <a:ext cx="121896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1676520"/>
            <a:ext cx="0" cy="464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372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105520"/>
            <a:ext cx="7617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432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5022000"/>
            <a:ext cx="609480" cy="540720"/>
            <a:chOff x="304920" y="5022000"/>
            <a:chExt cx="609480" cy="540720"/>
          </a:xfrm>
        </p:grpSpPr>
        <p:sp>
          <p:nvSpPr>
            <p:cNvPr id="206" name=""/>
            <p:cNvSpPr/>
            <p:nvPr/>
          </p:nvSpPr>
          <p:spPr>
            <a:xfrm>
              <a:off x="30492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6" idx="0"/>
              <a:endCxn id="207" idx="0"/>
            </p:cNvCxnSpPr>
            <p:nvPr/>
          </p:nvCxnSpPr>
          <p:spPr>
            <a:xfrm flipH="1" rot="16200000">
              <a:off x="608760" y="5143320"/>
              <a:ext cx="2520" cy="381600"/>
            </a:xfrm>
            <a:prstGeom prst="curvedConnector5">
              <a:avLst>
                <a:gd name="adj1" fmla="val -14400000"/>
                <a:gd name="adj2" fmla="val 49952"/>
                <a:gd name="adj3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9" name=""/>
          <p:cNvSpPr/>
          <p:nvPr/>
        </p:nvSpPr>
        <p:spPr>
          <a:xfrm>
            <a:off x="3962520" y="3048120"/>
            <a:ext cx="1218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2372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038480"/>
            <a:ext cx="12189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5029200"/>
            <a:ext cx="121896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23720" y="4419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123720" y="5562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0292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8862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181480" y="5562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080" y="56386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, TE,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5181480" y="4190400"/>
            <a:ext cx="1448640" cy="1181880"/>
          </a:xfrm>
          <a:prstGeom prst="bentConnector3">
            <a:avLst>
              <a:gd name="adj1" fmla="val 152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486760" y="4191120"/>
            <a:ext cx="9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6201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080" y="5257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17200" y="414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2209680"/>
            <a:ext cx="11430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95880"/>
            <a:ext cx="12189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1404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4038480"/>
            <a:ext cx="9907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105520"/>
            <a:ext cx="762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2"/>
          </p:cNvCxnSpPr>
          <p:nvPr/>
        </p:nvCxnSpPr>
        <p:spPr>
          <a:xfrm rot="5400000">
            <a:off x="1447200" y="5105160"/>
            <a:ext cx="38196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36880" y="57913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on DV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P3 on data DVD (stere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o track of video DVD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VD audio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CD (5.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act dis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ored on bottom of dis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191120"/>
            <a:ext cx="57913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886200"/>
            <a:ext cx="1371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886200"/>
            <a:ext cx="1371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191120"/>
            <a:ext cx="8380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191120"/>
            <a:ext cx="838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040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03848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3885840"/>
            <a:ext cx="0" cy="304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505320"/>
            <a:ext cx="5791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05120" y="4267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2080" y="5451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809880" y="4191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943240" y="38098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5600" y="552780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5840" y="52992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medi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ational speed: 1.2-1.4 m/s (CLV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k pitch: 1.6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meter: 120 m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length: 0.8 -3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depth: .11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 width: 0.5 micr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 wavelength: 780 n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ored in spiral, not concentric circ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819520"/>
            <a:ext cx="3200400" cy="320040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7480" y="3048120"/>
            <a:ext cx="2565360" cy="2705040"/>
          </a:xfrm>
          <a:custGeom>
            <a:avLst/>
            <a:gdLst/>
            <a:ahLst/>
            <a:rect l="l" t="t" r="r" b="b"/>
            <a:pathLst>
              <a:path w="1616" h="1704">
                <a:moveTo>
                  <a:pt x="784" y="0"/>
                </a:moveTo>
                <a:cubicBezTo>
                  <a:pt x="920" y="16"/>
                  <a:pt x="1056" y="32"/>
                  <a:pt x="1168" y="96"/>
                </a:cubicBezTo>
                <a:cubicBezTo>
                  <a:pt x="1280" y="160"/>
                  <a:pt x="1384" y="280"/>
                  <a:pt x="1456" y="384"/>
                </a:cubicBezTo>
                <a:cubicBezTo>
                  <a:pt x="1528" y="488"/>
                  <a:pt x="1584" y="584"/>
                  <a:pt x="1600" y="720"/>
                </a:cubicBezTo>
                <a:cubicBezTo>
                  <a:pt x="1616" y="856"/>
                  <a:pt x="1600" y="1064"/>
                  <a:pt x="1552" y="1200"/>
                </a:cubicBezTo>
                <a:cubicBezTo>
                  <a:pt x="1504" y="1336"/>
                  <a:pt x="1400" y="1456"/>
                  <a:pt x="1312" y="1536"/>
                </a:cubicBezTo>
                <a:cubicBezTo>
                  <a:pt x="1224" y="1616"/>
                  <a:pt x="1144" y="1656"/>
                  <a:pt x="1024" y="1680"/>
                </a:cubicBezTo>
                <a:cubicBezTo>
                  <a:pt x="904" y="1704"/>
                  <a:pt x="712" y="1704"/>
                  <a:pt x="592" y="1680"/>
                </a:cubicBezTo>
                <a:cubicBezTo>
                  <a:pt x="472" y="1656"/>
                  <a:pt x="392" y="1608"/>
                  <a:pt x="304" y="1536"/>
                </a:cubicBezTo>
                <a:cubicBezTo>
                  <a:pt x="216" y="1464"/>
                  <a:pt x="112" y="1360"/>
                  <a:pt x="64" y="1248"/>
                </a:cubicBezTo>
                <a:cubicBezTo>
                  <a:pt x="16" y="1136"/>
                  <a:pt x="0" y="1008"/>
                  <a:pt x="16" y="864"/>
                </a:cubicBezTo>
                <a:cubicBezTo>
                  <a:pt x="32" y="720"/>
                  <a:pt x="48" y="504"/>
                  <a:pt x="160" y="384"/>
                </a:cubicBezTo>
                <a:cubicBezTo>
                  <a:pt x="272" y="264"/>
                  <a:pt x="512" y="168"/>
                  <a:pt x="688" y="144"/>
                </a:cubicBezTo>
                <a:cubicBezTo>
                  <a:pt x="864" y="120"/>
                  <a:pt x="1088" y="136"/>
                  <a:pt x="1216" y="240"/>
                </a:cubicBezTo>
                <a:cubicBezTo>
                  <a:pt x="1344" y="344"/>
                  <a:pt x="1416" y="608"/>
                  <a:pt x="1456" y="768"/>
                </a:cubicBezTo>
                <a:cubicBezTo>
                  <a:pt x="1496" y="928"/>
                  <a:pt x="1504" y="1080"/>
                  <a:pt x="1456" y="1200"/>
                </a:cubicBezTo>
                <a:cubicBezTo>
                  <a:pt x="1408" y="1320"/>
                  <a:pt x="1272" y="1424"/>
                  <a:pt x="1168" y="1488"/>
                </a:cubicBezTo>
                <a:cubicBezTo>
                  <a:pt x="1064" y="1552"/>
                  <a:pt x="888" y="1568"/>
                  <a:pt x="832" y="15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 mechan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, le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305240" y="5676840"/>
            <a:ext cx="12189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819520"/>
            <a:ext cx="4952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43760" y="3581280"/>
            <a:ext cx="989640" cy="456840"/>
            <a:chOff x="4343760" y="3581280"/>
            <a:chExt cx="989640" cy="456840"/>
          </a:xfrm>
        </p:grpSpPr>
        <p:grpSp>
          <p:nvGrpSpPr>
            <p:cNvPr id="120" name=""/>
            <p:cNvGrpSpPr/>
            <p:nvPr/>
          </p:nvGrpSpPr>
          <p:grpSpPr>
            <a:xfrm>
              <a:off x="4343760" y="3581280"/>
              <a:ext cx="989640" cy="456840"/>
              <a:chOff x="4343760" y="3581280"/>
              <a:chExt cx="989640" cy="456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343760" y="35812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419720" y="35812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343760" y="3581280"/>
              <a:ext cx="989640" cy="456840"/>
              <a:chOff x="4343760" y="3581280"/>
              <a:chExt cx="989640" cy="4568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4343760" y="358092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4419720" y="358092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495680" y="4191120"/>
            <a:ext cx="838440" cy="5331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343400"/>
            <a:ext cx="1371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8080" y="4572000"/>
            <a:ext cx="14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3276360"/>
            <a:ext cx="0" cy="205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29200" y="3276720"/>
            <a:ext cx="914400" cy="1295280"/>
            <a:chOff x="5029200" y="3276720"/>
            <a:chExt cx="914400" cy="1295280"/>
          </a:xfrm>
        </p:grpSpPr>
        <p:sp>
          <p:nvSpPr>
            <p:cNvPr id="132" name=""/>
            <p:cNvSpPr/>
            <p:nvPr/>
          </p:nvSpPr>
          <p:spPr>
            <a:xfrm>
              <a:off x="5029200" y="3276720"/>
              <a:ext cx="0" cy="1295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ser 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controlled by vertical position of le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cused beam causes irregular spo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659400">
            <a:off x="1981080" y="4342680"/>
            <a:ext cx="12193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2940600">
            <a:off x="5829120" y="4380840"/>
            <a:ext cx="121968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920" y="5486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920" y="54864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9400" y="54864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ser pick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2286000"/>
            <a:ext cx="3429000" cy="327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819520"/>
            <a:ext cx="25146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52680" y="2742840"/>
            <a:ext cx="22860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32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9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888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88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6094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191120" y="3428640"/>
            <a:ext cx="6094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429000"/>
            <a:ext cx="106668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98108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572000"/>
            <a:ext cx="990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480" y="1752480"/>
            <a:ext cx="13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142640" y="251460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057400"/>
            <a:ext cx="4648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4280" y="350532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+C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cus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+C)-(B+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racking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vo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in sign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(laser) @ 245 k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king (laser) @ 245 k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d (motor): @ 800 H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 mo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25146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36160" y="2631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ptical pi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9:13:37Z</dcterms:created>
  <dc:creator>Wayne Wolf</dc:creator>
  <dc:description/>
  <dc:language>en-US</dc:language>
  <cp:lastModifiedBy>Wayne Wolf</cp:lastModifiedBy>
  <dcterms:modified xsi:type="dcterms:W3CDTF">2002-10-25T14:33:47Z</dcterms:modified>
  <cp:revision>25</cp:revision>
  <dc:subject/>
  <dc:title>Magnetic disks</dc:title>
</cp:coreProperties>
</file>