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ECB6-D572-4D0A-8ED6-55ECDB01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62B-0C2D-41E2-924F-60B40718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549-33CF-4562-9687-DF8475B1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1C15-93EE-4985-A562-AF7E00A6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6223-0D63-46E1-B56E-3F60803C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E541-B94F-468F-BEA6-CE8C1563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ABB7-A278-4C21-9EB2-6D0C8DFC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CD12-B0F3-4923-927C-97E32B13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0EEB-B735-4314-8F11-DA07876D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5338-7A6A-4B6A-BBD4-4EA43070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430E-F62A-44A0-B504-6E8CC44F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054A-EB39-402F-BD17-AD78D469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A050-19BB-414D-923C-93CE8935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65C9-59AE-428C-A250-61A34C8E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5AA4-D32D-4D18-9E1D-CF0FF50F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7A7D-4579-47E2-88FC-BBD0F122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5EE4-E400-4546-9EE8-828EAA86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E1EC-7B73-4273-9CDA-01C9BB74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2490-6B46-477F-80AF-42180C30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9566-66F4-497D-B15B-B3B3497B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7BF-978E-4F92-9E36-445B5BE6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338E-9FE6-4C00-A29E-037A30B3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2895-439F-4146-8A8D-CCA531AE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AF75-7066-4356-A87B-D4CE6C36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C8D9-DA34-4CFC-856A-6A7047F575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E3B5-2468-4CE2-AD80-5187B37AB6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act disc play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ice characteristic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 architectu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F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ght-to-fourteen modul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een-bit code guarantees a maximum distance between transi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754280" y="3886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92560" y="4149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21160" y="388620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1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rror corre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D capacity: 6.99 GB raw, 700 MB format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ed-Solomon co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(x) = (x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(x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… (x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n-k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(x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n-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s data, erasure bi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solve varies greatly depending on noi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D interleaves Reed-Solomon blocks to reduce effects of large data ga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RC encoding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oss-interleaved Reed-Solomon cod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leaves to reduce burst err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16-bit sample split into two 8-bit symbo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orrectable burst: 4000 bits = 2.5 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interpolatable burst: 12,300 bits = 7.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RC algorith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split into two symbo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 samples from each sample (=24 symbols) are chos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s are delayed and scrambl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 symbols (Q symbols) are gener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are delayed by various amou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parity symbols are gener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words delayed by one symbol, P and Q words are inver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= 32 8-bit symbo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rol wor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-bit control word for every 32-symbol block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1 during music/lead-in, 0 at start of sel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: track number, time, etc (spread over 98 bit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S, T, U, V, W: reserv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rol and error corre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kips caused by physical disturb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disturbance to subsi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errors caused by disc/servo probl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 err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location for re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 and interpol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try probl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s stored in a spir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’t seek track as on magnetic dis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ed servo is very coar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s only weakly address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read data to know where to g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dio playbac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dio CD needs no audio process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sk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t to analog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f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gital/analog convers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-bit MASH convers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3581280"/>
            <a:ext cx="1828800" cy="1067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3581280"/>
            <a:ext cx="1828800" cy="1067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3581280"/>
            <a:ext cx="1523880" cy="1067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W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0" y="3581280"/>
            <a:ext cx="1371600" cy="1067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9092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296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P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ing is easier than encoding, but requi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mpress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te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CD standard for data disc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s for MP3 disc file structure: player must understand Windows, Mac, Unix disc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D au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4.1 kHz sample r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 bit samp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re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al data track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og/skip mem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samples into RAM, play back from R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 RAMs are larger than needed for reasonable jog/ski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g memory saves some pow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VD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ilar to CD, bu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er wavelength lase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er pi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yers of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D/MP3 play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1752480"/>
            <a:ext cx="1218960" cy="1067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1676520"/>
            <a:ext cx="0" cy="4647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123720" y="2286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5105520"/>
            <a:ext cx="76176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74320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04920" y="5022000"/>
            <a:ext cx="609480" cy="540720"/>
            <a:chOff x="304920" y="5022000"/>
            <a:chExt cx="609480" cy="540720"/>
          </a:xfrm>
        </p:grpSpPr>
        <p:sp>
          <p:nvSpPr>
            <p:cNvPr id="206" name=""/>
            <p:cNvSpPr/>
            <p:nvPr/>
          </p:nvSpPr>
          <p:spPr>
            <a:xfrm>
              <a:off x="304920" y="53341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" y="53341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8" name=""/>
            <p:cNvCxnSpPr>
              <a:stCxn id="206" idx="0"/>
              <a:endCxn id="207" idx="0"/>
            </p:cNvCxnSpPr>
            <p:nvPr/>
          </p:nvCxnSpPr>
          <p:spPr>
            <a:xfrm flipH="1" rot="16200000">
              <a:off x="608760" y="5143320"/>
              <a:ext cx="2520" cy="381600"/>
            </a:xfrm>
            <a:prstGeom prst="curvedConnector5">
              <a:avLst>
                <a:gd name="adj1" fmla="val -14400000"/>
                <a:gd name="adj2" fmla="val 49952"/>
                <a:gd name="adj3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9" name=""/>
          <p:cNvSpPr/>
          <p:nvPr/>
        </p:nvSpPr>
        <p:spPr>
          <a:xfrm>
            <a:off x="3962520" y="3048120"/>
            <a:ext cx="12189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123720" y="3429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4038480"/>
            <a:ext cx="121896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5029200"/>
            <a:ext cx="121896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123720" y="44197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123720" y="55627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5029200"/>
            <a:ext cx="99072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29400" y="3886200"/>
            <a:ext cx="99072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181480" y="5562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080" y="563868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, TE, 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/>
          <p:nvPr/>
        </p:nvCxnSpPr>
        <p:spPr>
          <a:xfrm flipV="1">
            <a:off x="5181480" y="4190400"/>
            <a:ext cx="1448640" cy="1181880"/>
          </a:xfrm>
          <a:prstGeom prst="bentConnector3">
            <a:avLst>
              <a:gd name="adj1" fmla="val 152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5486760" y="4191120"/>
            <a:ext cx="99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cu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i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620120" y="5486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012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02080" y="5257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17200" y="41497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6520" y="2209680"/>
            <a:ext cx="1143000" cy="1447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19520" y="2971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62520" y="6095880"/>
            <a:ext cx="121896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91404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52480" y="4038480"/>
            <a:ext cx="9907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320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5105520"/>
            <a:ext cx="7621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2"/>
          </p:cNvCxnSpPr>
          <p:nvPr/>
        </p:nvCxnSpPr>
        <p:spPr>
          <a:xfrm rot="5400000">
            <a:off x="1447200" y="5105160"/>
            <a:ext cx="38196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236880" y="5791320"/>
            <a:ext cx="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dio on DV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ernati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P3 on data DVD (stere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o track of video DVD (5.1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VD audio (5.1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CD (5.1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act disc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stored on bottom of dis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4191120"/>
            <a:ext cx="579132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3886200"/>
            <a:ext cx="1371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3886200"/>
            <a:ext cx="137160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8520" y="3886200"/>
            <a:ext cx="1371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3886200"/>
            <a:ext cx="137160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3886200"/>
            <a:ext cx="1371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3886200"/>
            <a:ext cx="137160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4191120"/>
            <a:ext cx="83808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4191120"/>
            <a:ext cx="83844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200400" y="3885840"/>
            <a:ext cx="0" cy="30492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038480" y="3885840"/>
            <a:ext cx="0" cy="30492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410080" y="3885840"/>
            <a:ext cx="0" cy="30492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248520" y="3885840"/>
            <a:ext cx="0" cy="30492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3505320"/>
            <a:ext cx="5791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905120" y="426708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32080" y="54514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3809880" y="4191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5943240" y="380988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45600" y="552780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umi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65840" y="5299200"/>
            <a:ext cx="10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D medi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tational speed: 1.2-1.4 m/s (CLV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k pitch: 1.6 micr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meter: 120 m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t length: 0.8 -3 micr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t depth: .11 micr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t width: 0.5 micr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er wavelength: 780 n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D layo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stored in spiral, not concentric circ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819520"/>
            <a:ext cx="3200400" cy="3200400"/>
          </a:xfrm>
          <a:prstGeom prst="ellipse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27480" y="3048120"/>
            <a:ext cx="2565360" cy="2705040"/>
          </a:xfrm>
          <a:custGeom>
            <a:avLst/>
            <a:gdLst/>
            <a:ahLst/>
            <a:rect l="l" t="t" r="r" b="b"/>
            <a:pathLst>
              <a:path w="1616" h="1704">
                <a:moveTo>
                  <a:pt x="784" y="0"/>
                </a:moveTo>
                <a:cubicBezTo>
                  <a:pt x="920" y="16"/>
                  <a:pt x="1056" y="32"/>
                  <a:pt x="1168" y="96"/>
                </a:cubicBezTo>
                <a:cubicBezTo>
                  <a:pt x="1280" y="160"/>
                  <a:pt x="1384" y="280"/>
                  <a:pt x="1456" y="384"/>
                </a:cubicBezTo>
                <a:cubicBezTo>
                  <a:pt x="1528" y="488"/>
                  <a:pt x="1584" y="584"/>
                  <a:pt x="1600" y="720"/>
                </a:cubicBezTo>
                <a:cubicBezTo>
                  <a:pt x="1616" y="856"/>
                  <a:pt x="1600" y="1064"/>
                  <a:pt x="1552" y="1200"/>
                </a:cubicBezTo>
                <a:cubicBezTo>
                  <a:pt x="1504" y="1336"/>
                  <a:pt x="1400" y="1456"/>
                  <a:pt x="1312" y="1536"/>
                </a:cubicBezTo>
                <a:cubicBezTo>
                  <a:pt x="1224" y="1616"/>
                  <a:pt x="1144" y="1656"/>
                  <a:pt x="1024" y="1680"/>
                </a:cubicBezTo>
                <a:cubicBezTo>
                  <a:pt x="904" y="1704"/>
                  <a:pt x="712" y="1704"/>
                  <a:pt x="592" y="1680"/>
                </a:cubicBezTo>
                <a:cubicBezTo>
                  <a:pt x="472" y="1656"/>
                  <a:pt x="392" y="1608"/>
                  <a:pt x="304" y="1536"/>
                </a:cubicBezTo>
                <a:cubicBezTo>
                  <a:pt x="216" y="1464"/>
                  <a:pt x="112" y="1360"/>
                  <a:pt x="64" y="1248"/>
                </a:cubicBezTo>
                <a:cubicBezTo>
                  <a:pt x="16" y="1136"/>
                  <a:pt x="0" y="1008"/>
                  <a:pt x="16" y="864"/>
                </a:cubicBezTo>
                <a:cubicBezTo>
                  <a:pt x="32" y="720"/>
                  <a:pt x="48" y="504"/>
                  <a:pt x="160" y="384"/>
                </a:cubicBezTo>
                <a:cubicBezTo>
                  <a:pt x="272" y="264"/>
                  <a:pt x="512" y="168"/>
                  <a:pt x="688" y="144"/>
                </a:cubicBezTo>
                <a:cubicBezTo>
                  <a:pt x="864" y="120"/>
                  <a:pt x="1088" y="136"/>
                  <a:pt x="1216" y="240"/>
                </a:cubicBezTo>
                <a:cubicBezTo>
                  <a:pt x="1344" y="344"/>
                  <a:pt x="1416" y="608"/>
                  <a:pt x="1456" y="768"/>
                </a:cubicBezTo>
                <a:cubicBezTo>
                  <a:pt x="1496" y="928"/>
                  <a:pt x="1504" y="1080"/>
                  <a:pt x="1456" y="1200"/>
                </a:cubicBezTo>
                <a:cubicBezTo>
                  <a:pt x="1408" y="1320"/>
                  <a:pt x="1272" y="1424"/>
                  <a:pt x="1168" y="1488"/>
                </a:cubicBezTo>
                <a:cubicBezTo>
                  <a:pt x="1064" y="1552"/>
                  <a:pt x="888" y="1568"/>
                  <a:pt x="832" y="15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D mechanis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er, le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4305240" y="5676840"/>
            <a:ext cx="121896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2819520"/>
            <a:ext cx="49528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43760" y="3581280"/>
            <a:ext cx="989640" cy="456840"/>
            <a:chOff x="4343760" y="3581280"/>
            <a:chExt cx="989640" cy="456840"/>
          </a:xfrm>
        </p:grpSpPr>
        <p:grpSp>
          <p:nvGrpSpPr>
            <p:cNvPr id="120" name=""/>
            <p:cNvGrpSpPr/>
            <p:nvPr/>
          </p:nvGrpSpPr>
          <p:grpSpPr>
            <a:xfrm>
              <a:off x="4343760" y="3581280"/>
              <a:ext cx="989640" cy="456840"/>
              <a:chOff x="4343760" y="3581280"/>
              <a:chExt cx="989640" cy="456840"/>
            </a:xfrm>
          </p:grpSpPr>
          <p:sp>
            <p:nvSpPr>
              <p:cNvPr id="121" name=""/>
              <p:cNvSpPr/>
              <p:nvPr/>
            </p:nvSpPr>
            <p:spPr>
              <a:xfrm>
                <a:off x="4343760" y="3581280"/>
                <a:ext cx="913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4419720" y="3581280"/>
                <a:ext cx="913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4343760" y="3581280"/>
              <a:ext cx="989640" cy="456840"/>
              <a:chOff x="4343760" y="3581280"/>
              <a:chExt cx="989640" cy="456840"/>
            </a:xfrm>
          </p:grpSpPr>
          <p:sp>
            <p:nvSpPr>
              <p:cNvPr id="124" name=""/>
              <p:cNvSpPr/>
              <p:nvPr/>
            </p:nvSpPr>
            <p:spPr>
              <a:xfrm flipV="1">
                <a:off x="4343760" y="3580920"/>
                <a:ext cx="913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 flipV="1">
                <a:off x="4419720" y="3580920"/>
                <a:ext cx="913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4495680" y="4191120"/>
            <a:ext cx="838440" cy="53316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4343400"/>
            <a:ext cx="13716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49528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8080" y="4572000"/>
            <a:ext cx="147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876920" y="3276360"/>
            <a:ext cx="0" cy="2057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029200" y="3276720"/>
            <a:ext cx="914400" cy="1295280"/>
            <a:chOff x="5029200" y="3276720"/>
            <a:chExt cx="914400" cy="1295280"/>
          </a:xfrm>
        </p:grpSpPr>
        <p:sp>
          <p:nvSpPr>
            <p:cNvPr id="132" name=""/>
            <p:cNvSpPr/>
            <p:nvPr/>
          </p:nvSpPr>
          <p:spPr>
            <a:xfrm>
              <a:off x="5029200" y="3276720"/>
              <a:ext cx="0" cy="1295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ser foc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controlled by vertical position of le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cused beam causes irregular spo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426708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8659400">
            <a:off x="1981080" y="4342680"/>
            <a:ext cx="121932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rot="2940600">
            <a:off x="5829120" y="4380840"/>
            <a:ext cx="121968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920" y="548640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920" y="54864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 of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9400" y="54864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 of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ser pick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2286000"/>
            <a:ext cx="3429000" cy="3276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2819520"/>
            <a:ext cx="25146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352680" y="2742840"/>
            <a:ext cx="228600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32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92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68880" y="472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888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3429000"/>
            <a:ext cx="609480" cy="10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4191120" y="3428640"/>
            <a:ext cx="609480" cy="10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3429000"/>
            <a:ext cx="1066680" cy="10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981080"/>
            <a:ext cx="99072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4572000"/>
            <a:ext cx="99072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480" y="1752480"/>
            <a:ext cx="130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 sp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142640" y="2514600"/>
            <a:ext cx="228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057400"/>
            <a:ext cx="4648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4280" y="3505320"/>
            <a:ext cx="203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B+C+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ocus err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+C)-(B+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racking err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rvo contr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 main signa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(laser) @ 245 kHz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cking (laser) @ 245 kHz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ed (motor): @ 800 Hz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 mo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2514600"/>
            <a:ext cx="380880" cy="838080"/>
          </a:xfrm>
          <a:custGeom>
            <a:avLst/>
            <a:gdLst>
              <a:gd name="textAreaLeft" fmla="*/ 0 w 380880"/>
              <a:gd name="textAreaRight" fmla="*/ 137520 w 3808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36160" y="263196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ptical pic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9:13:37Z</dcterms:created>
  <dc:creator>Wayne Wolf</dc:creator>
  <dc:description/>
  <dc:language>en-US</dc:language>
  <cp:lastModifiedBy>Wayne Wolf</cp:lastModifiedBy>
  <dcterms:modified xsi:type="dcterms:W3CDTF">2002-10-25T14:33:47Z</dcterms:modified>
  <cp:revision>25</cp:revision>
  <dc:subject/>
  <dc:title>Magnetic disks</dc:title>
</cp:coreProperties>
</file>