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F18-C51F-497E-850C-E1735AC3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2E0-3EBA-4A67-B073-104C23B3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F26-5062-4465-BE77-81925803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B80-59A5-4F13-AD3A-CDC14A39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7C8-5749-4B07-9BF1-8C0A703E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9608-FFC2-4623-8E3D-FCA0466E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50C8-7822-4971-B633-30D8B97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CBF2-2E94-457A-A2A7-370089C8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A6C4-97BB-4535-8BDC-E156D25A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493C-75DB-4DB3-A15A-586D3B6B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34CB-D04F-47E0-9AC4-C34FA3C8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7EB-AC46-4DAF-B87F-93C9537D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F3AE-65F1-4EAD-BAD0-F4A91D3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AB33-AB98-478E-B43C-4989984A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979F-C4CC-4604-BC4E-31FBCF0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0222-BC6A-4174-A018-606C8612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BFF2-AC49-4BA2-B20B-756BACCA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F0E-945E-4B36-86D3-91D3C82C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DDD-487F-4367-A51D-2600B56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C91-9144-4E7A-80BF-E641FA6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BAB-B6D3-4A2A-84A4-8510F793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F65-9C5B-4659-A8FD-FE789C1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C4B-92D3-43A6-81EE-2F931653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395-B6AB-43D0-AB87-A68694C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D2CC-82B9-4809-91B2-6A0CC00842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4BD-A934-4ABE-82FD-5D1A2EFBD2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-based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performance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-enabled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w schedu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52578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0640" y="54100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066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6720" y="1905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720" y="274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6720" y="3505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9680" y="42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036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928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5960" y="529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25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9240" y="529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64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2720" y="529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908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35760" y="529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905120"/>
            <a:ext cx="10670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743200"/>
            <a:ext cx="10670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4267080"/>
            <a:ext cx="30456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3657600"/>
            <a:ext cx="3045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3657600"/>
            <a:ext cx="304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267080"/>
            <a:ext cx="30456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657600"/>
            <a:ext cx="304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4267080"/>
            <a:ext cx="30456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3657600"/>
            <a:ext cx="3045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4267080"/>
            <a:ext cx="30492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066680" y="4765680"/>
            <a:ext cx="5325120" cy="459720"/>
            <a:chOff x="1066680" y="4765680"/>
            <a:chExt cx="5325120" cy="459720"/>
          </a:xfrm>
        </p:grpSpPr>
        <p:sp>
          <p:nvSpPr>
            <p:cNvPr id="185" name=""/>
            <p:cNvSpPr/>
            <p:nvPr/>
          </p:nvSpPr>
          <p:spPr>
            <a:xfrm>
              <a:off x="1066680" y="5105520"/>
              <a:ext cx="3810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7040" y="476568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Time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rther com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ment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ssion err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 inversion in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networks, a packet cannot be interrup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 is priority inver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priority message holds up higher-priority mess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n’t cause deadlock, but can slow down important commun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hop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ltihop networks, one node receives message, then retransmits to destination (or intermediat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114800"/>
            <a:ext cx="9144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4114800"/>
            <a:ext cx="9144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411480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4572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572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0" y="3546360"/>
            <a:ext cx="1828800" cy="797040"/>
            <a:chOff x="2286000" y="3546360"/>
            <a:chExt cx="1828800" cy="797040"/>
          </a:xfrm>
        </p:grpSpPr>
        <p:sp>
          <p:nvSpPr>
            <p:cNvPr id="199" name=""/>
            <p:cNvSpPr/>
            <p:nvPr/>
          </p:nvSpPr>
          <p:spPr>
            <a:xfrm>
              <a:off x="2666880" y="4114800"/>
              <a:ext cx="76212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4267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00200" y="354636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24280" y="3581280"/>
            <a:ext cx="1828800" cy="797040"/>
            <a:chOff x="4724280" y="3581280"/>
            <a:chExt cx="1828800" cy="797040"/>
          </a:xfrm>
        </p:grpSpPr>
        <p:sp>
          <p:nvSpPr>
            <p:cNvPr id="203" name=""/>
            <p:cNvSpPr/>
            <p:nvPr/>
          </p:nvSpPr>
          <p:spPr>
            <a:xfrm>
              <a:off x="5105160" y="4149720"/>
              <a:ext cx="76212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4302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38480" y="358128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16400" y="4572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8720" y="4572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performance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analysis is difficult in gener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cessor performance analysis is har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performance analysis is h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example: uncertainty in P1 finish time -&gt; uncertainty in P2 start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876920"/>
            <a:ext cx="83844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4876920"/>
            <a:ext cx="8380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5334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alysis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2 and P3 can delay each other, even though they are in separate tas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s in P1 propagate to P2, then P3, then to P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18288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3200400"/>
            <a:ext cx="129528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057400"/>
            <a:ext cx="9907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4724280"/>
            <a:ext cx="9907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3352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3886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2209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8769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0024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80024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80024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1" idx="2"/>
            <a:endCxn id="219" idx="2"/>
          </p:cNvCxnSpPr>
          <p:nvPr/>
        </p:nvCxnSpPr>
        <p:spPr>
          <a:xfrm flipV="1" rot="10800000">
            <a:off x="5638680" y="2437200"/>
            <a:ext cx="76680" cy="1143720"/>
          </a:xfrm>
          <a:prstGeom prst="bentConnector3">
            <a:avLst>
              <a:gd name="adj1" fmla="val 1021226"/>
            </a:avLst>
          </a:prstGeom>
          <a:ln w="2844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0" idx="2"/>
            <a:endCxn id="222" idx="2"/>
          </p:cNvCxnSpPr>
          <p:nvPr/>
        </p:nvCxnSpPr>
        <p:spPr>
          <a:xfrm flipV="1" rot="10800000">
            <a:off x="5714280" y="4114440"/>
            <a:ext cx="381600" cy="991440"/>
          </a:xfrm>
          <a:prstGeom prst="bentConnector3">
            <a:avLst>
              <a:gd name="adj1" fmla="val 296600"/>
            </a:avLst>
          </a:prstGeom>
          <a:ln w="28440">
            <a:solidFill>
              <a:srgbClr val="3366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wer bounds on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al requir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up process requirements over least-common multiple of periods, average over one peri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requir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 all transmissions in one peri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 platform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choo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and types of P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and types of networ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e a platform by allocating processes, scheduling processes and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-intensive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with I/O devices, then consider comput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ntory required devi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ritical deadlin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s devices that can share P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communication tim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PEs to go with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utation-intensive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with shortest-deadline ta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shortest-deadline tasks on separate 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for interference on critical commun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low-priority tasks to common PEs wherever po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ance loads wherever poss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understand delay for single mes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ay for multiple messages depends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toco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ices on net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-enabled embedded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-enabled embedded system: any embedded system that includes an Internet interface (e.g., refrigerato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appliance: embedded system designed for a particular Internet task (e.g. emai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er pri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 digital assistant (PD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 automation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Javac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platfor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-port camer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Semi NS486SXF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 Mbytes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emory-efficient Java Nanokern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avaca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1676520"/>
            <a:ext cx="51055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2819520"/>
            <a:ext cx="5181840" cy="3200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8520" y="32767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5029200"/>
            <a:ext cx="762120" cy="762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5257800"/>
            <a:ext cx="10666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4343400"/>
            <a:ext cx="2133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nano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505320"/>
            <a:ext cx="129564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2895480"/>
            <a:ext cx="1143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2971800"/>
            <a:ext cx="15242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ck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18288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ck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352320" y="24382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38098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sage de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mess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nten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a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xmtr overhead + network xmit time + rcvr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message de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transmission time domina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100 kbits/sec, one 8-bit 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bits in pack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pack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tart + address + data + st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1 + 8 + 8 + 1 = 18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required to transmit: 1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 instructions on 8 MHz controller adds 2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lay on xmtr, rcv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messa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essages can interfere with each other, analysis is more comple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total message dela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wait time for network + message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bitration and de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priority arbitration introduces unbounded delay for all but highest-priority de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ess higher-priority devices are known to have limited rates that allow lower devices to transm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nd-robin arbitration introduces bounded delay proportional to 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adjusting messages to reduce de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grap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2004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2004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49568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6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2280" y="415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60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95288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352680"/>
            <a:ext cx="99072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352680"/>
            <a:ext cx="99072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352680"/>
            <a:ext cx="99036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95280" y="2819520"/>
            <a:ext cx="6096240" cy="2361600"/>
            <a:chOff x="1295280" y="2819520"/>
            <a:chExt cx="6096240" cy="2361600"/>
          </a:xfrm>
        </p:grpSpPr>
        <p:grpSp>
          <p:nvGrpSpPr>
            <p:cNvPr id="113" name=""/>
            <p:cNvGrpSpPr/>
            <p:nvPr/>
          </p:nvGrpSpPr>
          <p:grpSpPr>
            <a:xfrm>
              <a:off x="1295280" y="3276720"/>
              <a:ext cx="6096240" cy="1904400"/>
              <a:chOff x="1295280" y="3276720"/>
              <a:chExt cx="6096240" cy="1904400"/>
            </a:xfrm>
          </p:grpSpPr>
          <p:sp>
            <p:nvSpPr>
              <p:cNvPr id="114" name=""/>
              <p:cNvSpPr/>
              <p:nvPr/>
            </p:nvSpPr>
            <p:spPr>
              <a:xfrm>
                <a:off x="1295280" y="3276720"/>
                <a:ext cx="358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971800" y="3580920"/>
                <a:ext cx="34290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057400" y="4038120"/>
                <a:ext cx="53341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427200" y="281952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l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19120" y="2479680"/>
            <a:ext cx="4900680" cy="3431520"/>
            <a:chOff x="519120" y="2479680"/>
            <a:chExt cx="4900680" cy="3431520"/>
          </a:xfrm>
        </p:grpSpPr>
        <p:sp>
          <p:nvSpPr>
            <p:cNvPr id="119" name=""/>
            <p:cNvSpPr/>
            <p:nvPr/>
          </p:nvSpPr>
          <p:spPr>
            <a:xfrm>
              <a:off x="51912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81240" y="484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86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00600" y="2479680"/>
              <a:ext cx="198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xecution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95880" y="545148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ransmission time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itial schedu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4864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0640" y="56386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066680" y="19807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72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720" y="2971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6720" y="3733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9680" y="4495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360" y="568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928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5960" y="552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25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9240" y="552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640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82720" y="552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908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35760" y="552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133720"/>
            <a:ext cx="10670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971800"/>
            <a:ext cx="10670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4495680"/>
            <a:ext cx="137160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4495680"/>
            <a:ext cx="1371600" cy="533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13716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66680" y="4952880"/>
            <a:ext cx="6636240" cy="459720"/>
            <a:chOff x="1066680" y="4952880"/>
            <a:chExt cx="6636240" cy="459720"/>
          </a:xfrm>
        </p:grpSpPr>
        <p:sp>
          <p:nvSpPr>
            <p:cNvPr id="148" name=""/>
            <p:cNvSpPr/>
            <p:nvPr/>
          </p:nvSpPr>
          <p:spPr>
            <a:xfrm>
              <a:off x="1066680" y="5257800"/>
              <a:ext cx="5181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160" y="495288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Time =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w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P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s one packet of d1, one packet of d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s partial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es to next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15T02:35:54Z</dcterms:modified>
  <cp:revision>49</cp:revision>
  <dc:subject/>
  <dc:title>No Slide Title</dc:title>
</cp:coreProperties>
</file>