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2B07-8C2D-481A-8257-D3C50572D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423E-1557-48DD-8F08-5C2C573A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6CBE-5BD6-4ECC-A50F-FAEF36525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D1BF-9B41-400F-9418-EF314A3A4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3D66-CA5E-42C8-92B5-FF0649FC8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55B1-9169-4FEE-A8E5-E36DF0C6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6609-061A-4568-8885-7D015EDA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42AD-496C-4B45-87B2-803F1121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CCF0-0EB5-41BA-9A71-A66EEA73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A6EE-458E-495D-8D2B-A703F135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E544-CC14-46CD-BE2B-6DA16567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7DCF-D177-4D97-9E18-B96922BD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46F8-F1D2-43A2-9D8B-1B9204C3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3B3D-8680-43B2-9146-AE89312D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88FC-1646-4D28-B29C-865D5C13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53CF-5732-4B10-8A0F-BDF06DDCC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CA7E-B839-4376-AC8C-0B44CE785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C54C-373E-4DB8-A80D-61B7C6AE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6FBF-C60A-4646-B9BD-F7FEB51A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8628-403A-423D-9AC0-BA0FFE1D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60D0-0775-4575-A35C-84A3C38C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CCF6-C907-4BAA-8136-6D6E72ED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D73A-1EF6-48C0-85CC-C9F11239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E2F3-6E5A-48D7-95C0-5809C2B0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2000 Morgan Kauf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Overheads for </a:t>
            </a: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Computers as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A338-45B6-4494-ACD6-E69FDCA962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60A9-76C6-4560-B865-27AE616E81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-oriented desig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fied Modeling Language (UML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ML cla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"/>
          <p:cNvSpPr/>
          <p:nvPr/>
        </p:nvSpPr>
        <p:spPr>
          <a:xfrm>
            <a:off x="2971800" y="1981080"/>
            <a:ext cx="31240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2514600"/>
            <a:ext cx="3124080" cy="1828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u_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4343400"/>
            <a:ext cx="312408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use_cli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_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181120" y="4724280"/>
            <a:ext cx="2961720" cy="501120"/>
            <a:chOff x="5181120" y="4724280"/>
            <a:chExt cx="2961720" cy="501120"/>
          </a:xfrm>
        </p:grpSpPr>
        <p:sp>
          <p:nvSpPr>
            <p:cNvPr id="121" name=""/>
            <p:cNvSpPr/>
            <p:nvPr/>
          </p:nvSpPr>
          <p:spPr>
            <a:xfrm flipH="1">
              <a:off x="5181120" y="4724280"/>
              <a:ext cx="16002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689520" y="476568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114440" y="2133720"/>
            <a:ext cx="4011120" cy="500760"/>
            <a:chOff x="4114440" y="2133720"/>
            <a:chExt cx="4011120" cy="500760"/>
          </a:xfrm>
        </p:grpSpPr>
        <p:sp>
          <p:nvSpPr>
            <p:cNvPr id="124" name=""/>
            <p:cNvSpPr/>
            <p:nvPr/>
          </p:nvSpPr>
          <p:spPr>
            <a:xfrm flipH="1">
              <a:off x="4114440" y="2133720"/>
              <a:ext cx="2590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12840" y="2174760"/>
              <a:ext cx="15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ass 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class interf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rations provide the abstract interface between the class’s implementation and other clas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may have arguments, return valu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operation can examine and/or modify the object’s sta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oose your interface properl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he interface is too small/specialize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 is hard to use for even one applicatio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arder to reu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he interface is too larg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becomes too cumbersome for designers to understand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may be too slow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 and implementation are probably bugg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lationships between objects and clas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Associ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objects communicate but one does not own the ot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Aggreg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 complex object is made of several smaller obje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Composi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ggregation in which owner does not allow access to its componen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Generaliz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define one class in terms of anot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ass deriv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22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want to define one class in terms of anot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class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inheri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ttributes, operations of base cla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4114800"/>
            <a:ext cx="21337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rived_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29000" y="5334120"/>
            <a:ext cx="213372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se_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267080" y="502848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41972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571640" y="4724280"/>
            <a:ext cx="3722760" cy="825480"/>
            <a:chOff x="4571640" y="4724280"/>
            <a:chExt cx="3722760" cy="825480"/>
          </a:xfrm>
        </p:grpSpPr>
        <p:sp>
          <p:nvSpPr>
            <p:cNvPr id="139" name=""/>
            <p:cNvSpPr/>
            <p:nvPr/>
          </p:nvSpPr>
          <p:spPr>
            <a:xfrm flipH="1" flipV="1">
              <a:off x="4571640" y="4835160"/>
              <a:ext cx="16002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82440" y="4724280"/>
              <a:ext cx="191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M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neraliz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ass derivation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1752480"/>
            <a:ext cx="31240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2286000"/>
            <a:ext cx="3124080" cy="1219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u_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0400" y="3505320"/>
            <a:ext cx="3124080" cy="1676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el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_pixel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use_cli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_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5486400"/>
            <a:ext cx="312444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W_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62720" y="5486400"/>
            <a:ext cx="31240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_map_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 rot="12781800">
            <a:off x="3809160" y="518112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 rot="8818200">
            <a:off x="5104440" y="5180400"/>
            <a:ext cx="30456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733560" y="5410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4120" y="54864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00200" y="457200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00200" y="4572000"/>
            <a:ext cx="5791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324480" y="1946160"/>
            <a:ext cx="1445760" cy="825480"/>
            <a:chOff x="6324480" y="1946160"/>
            <a:chExt cx="1445760" cy="825480"/>
          </a:xfrm>
        </p:grpSpPr>
        <p:sp>
          <p:nvSpPr>
            <p:cNvPr id="154" name=""/>
            <p:cNvSpPr/>
            <p:nvPr/>
          </p:nvSpPr>
          <p:spPr>
            <a:xfrm flipH="1">
              <a:off x="6324480" y="2209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95160" y="1946160"/>
              <a:ext cx="775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a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08760" y="396252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ived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ultiple inherit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1600200" y="2362320"/>
            <a:ext cx="228600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2362320"/>
            <a:ext cx="228600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4495680"/>
            <a:ext cx="27432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ltimedia_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14600" y="289548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00800" y="289548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1" idx="3"/>
            <a:endCxn id="162" idx="3"/>
          </p:cNvCxnSpPr>
          <p:nvPr/>
        </p:nvCxnSpPr>
        <p:spPr>
          <a:xfrm flipH="1" rot="16200000">
            <a:off x="4608360" y="1257840"/>
            <a:ext cx="2160" cy="3886920"/>
          </a:xfrm>
          <a:prstGeom prst="bentConnector3">
            <a:avLst>
              <a:gd name="adj1" fmla="val 3228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64" name=""/>
          <p:cNvSpPr/>
          <p:nvPr/>
        </p:nvSpPr>
        <p:spPr>
          <a:xfrm>
            <a:off x="4572000" y="3733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743200" y="1565280"/>
            <a:ext cx="3429000" cy="720720"/>
            <a:chOff x="2743200" y="1565280"/>
            <a:chExt cx="3429000" cy="720720"/>
          </a:xfrm>
        </p:grpSpPr>
        <p:sp>
          <p:nvSpPr>
            <p:cNvPr id="166" name=""/>
            <p:cNvSpPr/>
            <p:nvPr/>
          </p:nvSpPr>
          <p:spPr>
            <a:xfrm>
              <a:off x="3641400" y="1565280"/>
              <a:ext cx="164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ase clas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743200" y="190512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57800" y="190512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193120" y="5029200"/>
            <a:ext cx="2150280" cy="805680"/>
            <a:chOff x="2193120" y="5029200"/>
            <a:chExt cx="2150280" cy="805680"/>
          </a:xfrm>
        </p:grpSpPr>
        <p:sp>
          <p:nvSpPr>
            <p:cNvPr id="170" name=""/>
            <p:cNvSpPr/>
            <p:nvPr/>
          </p:nvSpPr>
          <p:spPr>
            <a:xfrm>
              <a:off x="2193120" y="5375160"/>
              <a:ext cx="17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rived cla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809880" y="502920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ks and associ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Lin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describes relationships between obje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Associ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describes relationship between clas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k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 defines the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contai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lationship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2819520"/>
            <a:ext cx="221004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3352680"/>
            <a:ext cx="2210040" cy="838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g = msg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 = 11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4495680"/>
            <a:ext cx="221004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5029200"/>
            <a:ext cx="2210040" cy="838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g = msg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 = 21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10080" y="3352680"/>
            <a:ext cx="221004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10080" y="3886200"/>
            <a:ext cx="2210040" cy="838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8120" y="3581280"/>
            <a:ext cx="23619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048120" y="4419720"/>
            <a:ext cx="23619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ssociation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2819520"/>
            <a:ext cx="297180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3352680"/>
            <a:ext cx="2971800" cy="838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g: ADPCM_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819520"/>
            <a:ext cx="243864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3352680"/>
            <a:ext cx="2438640" cy="838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35812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71800" y="3013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43760" y="301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9880" y="350532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75280" y="377496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68160" y="1793880"/>
            <a:ext cx="3294360" cy="1254240"/>
            <a:chOff x="668160" y="1793880"/>
            <a:chExt cx="3294360" cy="1254240"/>
          </a:xfrm>
        </p:grpSpPr>
        <p:sp>
          <p:nvSpPr>
            <p:cNvPr id="195" name=""/>
            <p:cNvSpPr/>
            <p:nvPr/>
          </p:nvSpPr>
          <p:spPr>
            <a:xfrm>
              <a:off x="2971800" y="2362320"/>
              <a:ext cx="9907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8160" y="1793880"/>
              <a:ext cx="282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# contained messa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5407200" y="1752480"/>
            <a:ext cx="3344400" cy="1371600"/>
            <a:chOff x="5407200" y="1752480"/>
            <a:chExt cx="3344400" cy="1371600"/>
          </a:xfrm>
        </p:grpSpPr>
        <p:sp>
          <p:nvSpPr>
            <p:cNvPr id="198" name=""/>
            <p:cNvSpPr/>
            <p:nvPr/>
          </p:nvSpPr>
          <p:spPr>
            <a:xfrm flipH="1">
              <a:off x="5562360" y="2362320"/>
              <a:ext cx="53316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407200" y="1752480"/>
              <a:ext cx="334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# containing message s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stem mode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 languages to describe system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across several levels of abstractio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within and between organiz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ock diagrams are a start, but don’t cover everyth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ereotyp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Stereotyp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recurring combination of elements in an object or cla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&lt;foo&gt;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havioral descrip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ways to describe behavio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iew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e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ate machin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"/>
          <p:cNvSpPr/>
          <p:nvPr/>
        </p:nvSpPr>
        <p:spPr>
          <a:xfrm>
            <a:off x="2362320" y="2895480"/>
            <a:ext cx="129528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38680" y="2895480"/>
            <a:ext cx="129564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57600" y="33526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5409720" y="32000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5409720" y="33526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889280" y="3504960"/>
            <a:ext cx="3017520" cy="1679040"/>
            <a:chOff x="1889280" y="3504960"/>
            <a:chExt cx="3017520" cy="1679040"/>
          </a:xfrm>
        </p:grpSpPr>
        <p:sp>
          <p:nvSpPr>
            <p:cNvPr id="211" name=""/>
            <p:cNvSpPr/>
            <p:nvPr/>
          </p:nvSpPr>
          <p:spPr>
            <a:xfrm flipV="1">
              <a:off x="2438280" y="3809520"/>
              <a:ext cx="3049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3123720" y="3504960"/>
              <a:ext cx="7621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889280" y="468936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27560" y="4724280"/>
              <a:ext cx="147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te 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326480" y="2251080"/>
            <a:ext cx="1335960" cy="1101600"/>
            <a:chOff x="4326480" y="2251080"/>
            <a:chExt cx="1335960" cy="1101600"/>
          </a:xfrm>
        </p:grpSpPr>
        <p:sp>
          <p:nvSpPr>
            <p:cNvPr id="216" name=""/>
            <p:cNvSpPr/>
            <p:nvPr/>
          </p:nvSpPr>
          <p:spPr>
            <a:xfrm flipH="1">
              <a:off x="4571640" y="2743200"/>
              <a:ext cx="3049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326480" y="2251080"/>
              <a:ext cx="133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vent-driven state machin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havioral descriptions are written as event-driven state machi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hine changes state when receiving an inpu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vent may come from inside or outside of the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ypes of ev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Sig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synchronous ev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C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synchronized communic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Tim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ctivated by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gnal ev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2362320"/>
            <a:ext cx="243828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&lt;signal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use_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3124080"/>
            <a:ext cx="2438280" cy="1219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orright: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, y: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3840" y="464832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2438280"/>
            <a:ext cx="129528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67280" y="3352680"/>
            <a:ext cx="99072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6858000" y="3962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04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0" y="4191120"/>
            <a:ext cx="129528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21760" y="3505320"/>
            <a:ext cx="31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use_click(x,y,butt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16120" y="552780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ll ev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"/>
          <p:cNvSpPr/>
          <p:nvPr/>
        </p:nvSpPr>
        <p:spPr>
          <a:xfrm>
            <a:off x="2362320" y="2895480"/>
            <a:ext cx="129528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38680" y="2895480"/>
            <a:ext cx="129564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657600" y="33526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5409720" y="32000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409720" y="33526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00400" y="236232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_box(10,5,3,2,bl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imer ev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2362320" y="2895480"/>
            <a:ext cx="129528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38680" y="2895480"/>
            <a:ext cx="129564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7600" y="33526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5409720" y="32000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409720" y="33526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654000" y="2514600"/>
            <a:ext cx="20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(time-val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 state machi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0" y="2895480"/>
            <a:ext cx="129528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43400" y="2895480"/>
            <a:ext cx="152388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t m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553080" y="2895480"/>
            <a:ext cx="152424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u 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09680" y="4724280"/>
            <a:ext cx="129564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67080" y="4648320"/>
            <a:ext cx="1752840" cy="990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igh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297180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467480" y="4952880"/>
            <a:ext cx="38124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91520" y="4876920"/>
            <a:ext cx="53316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066680" y="3048120"/>
            <a:ext cx="1219320" cy="304200"/>
            <a:chOff x="1066680" y="3048120"/>
            <a:chExt cx="1219320" cy="304200"/>
          </a:xfrm>
        </p:grpSpPr>
        <p:sp>
          <p:nvSpPr>
            <p:cNvPr id="257" name=""/>
            <p:cNvSpPr/>
            <p:nvPr/>
          </p:nvSpPr>
          <p:spPr>
            <a:xfrm>
              <a:off x="1066680" y="32000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flipV="1">
              <a:off x="2145240" y="3048120"/>
              <a:ext cx="14040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2145240" y="3200040"/>
              <a:ext cx="1404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3581280" y="3048120"/>
            <a:ext cx="762120" cy="304200"/>
            <a:chOff x="3581280" y="3048120"/>
            <a:chExt cx="762120" cy="304200"/>
          </a:xfrm>
        </p:grpSpPr>
        <p:sp>
          <p:nvSpPr>
            <p:cNvPr id="261" name=""/>
            <p:cNvSpPr/>
            <p:nvPr/>
          </p:nvSpPr>
          <p:spPr>
            <a:xfrm>
              <a:off x="3581280" y="32000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 flipV="1">
              <a:off x="4255560" y="3048120"/>
              <a:ext cx="8784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4255560" y="3200040"/>
              <a:ext cx="878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5867280" y="3048120"/>
            <a:ext cx="685800" cy="304200"/>
            <a:chOff x="5867280" y="3048120"/>
            <a:chExt cx="685800" cy="304200"/>
          </a:xfrm>
        </p:grpSpPr>
        <p:sp>
          <p:nvSpPr>
            <p:cNvPr id="265" name=""/>
            <p:cNvSpPr/>
            <p:nvPr/>
          </p:nvSpPr>
          <p:spPr>
            <a:xfrm>
              <a:off x="5867280" y="32000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flipV="1">
              <a:off x="6473520" y="3048120"/>
              <a:ext cx="7884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473520" y="3200040"/>
              <a:ext cx="788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7448040" y="3818520"/>
            <a:ext cx="343440" cy="1043640"/>
            <a:chOff x="7448040" y="3818520"/>
            <a:chExt cx="343440" cy="1043640"/>
          </a:xfrm>
        </p:grpSpPr>
        <p:sp>
          <p:nvSpPr>
            <p:cNvPr id="269" name=""/>
            <p:cNvSpPr/>
            <p:nvPr/>
          </p:nvSpPr>
          <p:spPr>
            <a:xfrm>
              <a:off x="7448040" y="3818520"/>
              <a:ext cx="219600" cy="10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7667640" y="4709880"/>
              <a:ext cx="12384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flipV="1">
              <a:off x="7492680" y="4772880"/>
              <a:ext cx="17460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045080" y="3350880"/>
            <a:ext cx="1205280" cy="1375200"/>
            <a:chOff x="1045080" y="3350880"/>
            <a:chExt cx="1205280" cy="1375200"/>
          </a:xfrm>
        </p:grpSpPr>
        <p:sp>
          <p:nvSpPr>
            <p:cNvPr id="273" name=""/>
            <p:cNvSpPr/>
            <p:nvPr/>
          </p:nvSpPr>
          <p:spPr>
            <a:xfrm>
              <a:off x="1045080" y="3350880"/>
              <a:ext cx="1205280" cy="137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2225880" y="4466520"/>
              <a:ext cx="24480" cy="25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 flipV="1">
              <a:off x="1996560" y="4667760"/>
              <a:ext cx="253800" cy="5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505320" y="5028840"/>
            <a:ext cx="761760" cy="305280"/>
            <a:chOff x="3505320" y="5028840"/>
            <a:chExt cx="761760" cy="305280"/>
          </a:xfrm>
        </p:grpSpPr>
        <p:sp>
          <p:nvSpPr>
            <p:cNvPr id="277" name=""/>
            <p:cNvSpPr/>
            <p:nvPr/>
          </p:nvSpPr>
          <p:spPr>
            <a:xfrm>
              <a:off x="3505320" y="51814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flipV="1">
              <a:off x="4179240" y="5028840"/>
              <a:ext cx="878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4179240" y="5181480"/>
              <a:ext cx="878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6019920" y="5028840"/>
            <a:ext cx="1371600" cy="305280"/>
            <a:chOff x="6019920" y="5028840"/>
            <a:chExt cx="1371600" cy="305280"/>
          </a:xfrm>
        </p:grpSpPr>
        <p:sp>
          <p:nvSpPr>
            <p:cNvPr id="281" name=""/>
            <p:cNvSpPr/>
            <p:nvPr/>
          </p:nvSpPr>
          <p:spPr>
            <a:xfrm>
              <a:off x="6019920" y="518148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7232760" y="5028840"/>
              <a:ext cx="1580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7232760" y="5181480"/>
              <a:ext cx="1580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89080" y="1717560"/>
            <a:ext cx="7354440" cy="4650840"/>
            <a:chOff x="289080" y="1717560"/>
            <a:chExt cx="7354440" cy="4650840"/>
          </a:xfrm>
        </p:grpSpPr>
        <p:sp>
          <p:nvSpPr>
            <p:cNvPr id="285" name=""/>
            <p:cNvSpPr/>
            <p:nvPr/>
          </p:nvSpPr>
          <p:spPr>
            <a:xfrm>
              <a:off x="289080" y="171756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66200" y="5908680"/>
              <a:ext cx="8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nis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7200" y="2286000"/>
              <a:ext cx="228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7467480" y="5486400"/>
              <a:ext cx="1526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755280" y="2209680"/>
            <a:ext cx="274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use_click(x,y,button)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_region(reg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59840" y="171756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62560" y="2147760"/>
            <a:ext cx="174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on = menu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_menu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88800" y="251460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_menu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0240" y="3886200"/>
            <a:ext cx="20368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on = drawin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_object(obj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43800" y="4267080"/>
            <a:ext cx="17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light(obj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quence diagra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ws sequence of operations over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s behaviors of multiple obje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-oriented desig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Object-oriented (OO) desig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 generalization of object-oriented programm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Obje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state + metho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provides each object with its own ident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s provide an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abstract interfa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objec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quence diagram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"/>
          <p:cNvSpPr/>
          <p:nvPr/>
        </p:nvSpPr>
        <p:spPr>
          <a:xfrm>
            <a:off x="914400" y="1828800"/>
            <a:ext cx="16002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76520" y="23623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33920" y="1828800"/>
            <a:ext cx="16002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1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95680" y="23623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00800" y="1828800"/>
            <a:ext cx="16002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162920" y="23623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23880" y="2514600"/>
            <a:ext cx="3049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43400" y="3200400"/>
            <a:ext cx="22860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010280" y="3352680"/>
            <a:ext cx="3049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010280" y="4800600"/>
            <a:ext cx="3049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28800" y="3200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0" y="33526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48006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46000" y="2666880"/>
            <a:ext cx="26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use_click(x,y,butt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67320" y="294480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_menu(x,y,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69840" y="441972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_menu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380880" y="3581280"/>
            <a:ext cx="1067040" cy="762120"/>
          </a:xfrm>
          <a:prstGeom prst="flowChartPunchedCard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51000" y="3581280"/>
            <a:ext cx="196920" cy="152640"/>
          </a:xfrm>
          <a:prstGeom prst="rtTriangl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9528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-oriented design helps us organize a desig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is a transportable system design langua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s structural and behavioral description primitiv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O implementation in C++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ass display 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ixels : pixeltype[IMAX,JMAX]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isplay() { 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ixeltype pixel(int i, int j) { return pixels[i,j]; 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oid set_pixel(pixeltype val, int i, int j) { pixels[i,j] = val; 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O implementation in C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ypedef struct { pixels: pixeltype[IMAX,JMAX]; } display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play d1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xeltype pixelval(pixel *px, int i, int j) { return px[i,j]; 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s and clas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object typ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efines the object’s state elements but state values may change over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efines the methods used to interact with all objects of that typ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has its own sta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O design princip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objects will closely correspond to real-world obje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objects may be useful only for description or implement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s provide interfaces to read/write state, hiding the object’s implementation from the rest of the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M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ed by Booch et 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-oriented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ual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at many levels of abstractio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le for all aspects of desig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ML objec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4191120" y="2362320"/>
            <a:ext cx="312408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1: 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2895480"/>
            <a:ext cx="3124080" cy="1828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els: array[] of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u_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370880" y="2666880"/>
            <a:ext cx="2057400" cy="1447920"/>
          </a:xfrm>
          <a:prstGeom prst="flowChartPunchedCard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els i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D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2666880"/>
            <a:ext cx="380880" cy="304920"/>
          </a:xfrm>
          <a:prstGeom prst="rtTriangl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371600" y="4038120"/>
            <a:ext cx="1377360" cy="1415880"/>
            <a:chOff x="1371600" y="4038120"/>
            <a:chExt cx="1377360" cy="1415880"/>
          </a:xfrm>
        </p:grpSpPr>
        <p:sp>
          <p:nvSpPr>
            <p:cNvPr id="105" name=""/>
            <p:cNvSpPr/>
            <p:nvPr/>
          </p:nvSpPr>
          <p:spPr>
            <a:xfrm flipV="1">
              <a:off x="1371600" y="4038120"/>
              <a:ext cx="2286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31360" y="4994280"/>
              <a:ext cx="131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571640" y="1488960"/>
            <a:ext cx="2028960" cy="949320"/>
            <a:chOff x="4571640" y="1488960"/>
            <a:chExt cx="2028960" cy="949320"/>
          </a:xfrm>
        </p:grpSpPr>
        <p:sp>
          <p:nvSpPr>
            <p:cNvPr id="108" name=""/>
            <p:cNvSpPr/>
            <p:nvPr/>
          </p:nvSpPr>
          <p:spPr>
            <a:xfrm flipH="1">
              <a:off x="4571640" y="1828800"/>
              <a:ext cx="3049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35600" y="1488960"/>
              <a:ext cx="166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ject 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333760" y="1870200"/>
            <a:ext cx="2182320" cy="720720"/>
            <a:chOff x="5333760" y="1870200"/>
            <a:chExt cx="2182320" cy="720720"/>
          </a:xfrm>
        </p:grpSpPr>
        <p:sp>
          <p:nvSpPr>
            <p:cNvPr id="111" name=""/>
            <p:cNvSpPr/>
            <p:nvPr/>
          </p:nvSpPr>
          <p:spPr>
            <a:xfrm flipH="1">
              <a:off x="5333760" y="2133720"/>
              <a:ext cx="5331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03360" y="1870200"/>
              <a:ext cx="15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ass 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715000" y="3809520"/>
            <a:ext cx="2063880" cy="2253960"/>
            <a:chOff x="5715000" y="3809520"/>
            <a:chExt cx="2063880" cy="2253960"/>
          </a:xfrm>
        </p:grpSpPr>
        <p:sp>
          <p:nvSpPr>
            <p:cNvPr id="114" name=""/>
            <p:cNvSpPr/>
            <p:nvPr/>
          </p:nvSpPr>
          <p:spPr>
            <a:xfrm flipH="1" flipV="1">
              <a:off x="5715000" y="3809520"/>
              <a:ext cx="14479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59840" y="5603760"/>
              <a:ext cx="131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7T23:54:30Z</dcterms:created>
  <dc:creator>Preferred Customer</dc:creator>
  <dc:description/>
  <dc:language>en-US</dc:language>
  <cp:lastModifiedBy>Preferred Customer</cp:lastModifiedBy>
  <dcterms:modified xsi:type="dcterms:W3CDTF">2000-09-22T00:50:04Z</dcterms:modified>
  <cp:revision>123</cp:revision>
  <dc:subject/>
  <dc:title>Networking for Embedded Systems</dc:title>
</cp:coreProperties>
</file>