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83BE-9AEA-4BDF-A3AD-FC5385E46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57FA-4AD6-4CDA-84EB-2EC17EAF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1F1F-0F14-4EC0-9579-498021C91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C7CD-AB7B-4814-AD63-BF9B4B08F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96EE-D3B5-4953-A965-96F9C8056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88FD-1D3A-49C0-9BCA-23F3C942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4F91-6220-45A7-8892-3263AEDE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1313-7A02-4E3C-ABF2-C808F2FD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E82D-0805-4A67-A8B0-603ABED3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F495-96E3-4656-B561-CF340332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786B-EF39-464D-BF04-1A5D585D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02EB-DE43-41E2-A925-34988F78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3A8C-A0E7-475D-AA2E-335CEECF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E417-1D16-4394-95AF-B4BD6847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80D4-658B-4383-B19D-37B2D5CC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F341-8053-474B-916A-F12B9DEB0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D278-1455-4802-972A-89DB9B091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26ED-1806-4667-B224-3E3D219B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2717-7B6B-4750-B9BE-B397F4FE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E722-A01F-4392-8EC9-ACEBCBE6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9A69-9E96-4EA8-95A5-8E71B21D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6741-E0AB-4656-BEAC-F5B6DF0B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AEE6-EEF0-43AB-8168-6CBD758D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4FEB-066A-4E6E-87C0-5CE839B3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© 2000 Morgan Kauf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Overheads for </a:t>
            </a: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Computers as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637B-1056-45D7-8DDB-2BD2A46E28B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B8E6-565D-4897-9CA3-CBEEEC3DB5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/O devic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/O devic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ial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s and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bo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/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ouchscreen position sens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4495680"/>
            <a:ext cx="670572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3886200"/>
            <a:ext cx="670572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62320" y="3886200"/>
            <a:ext cx="609480" cy="6094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3886200"/>
            <a:ext cx="609480" cy="6094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3886200"/>
            <a:ext cx="609480" cy="6094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4267080"/>
            <a:ext cx="6858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267080"/>
            <a:ext cx="6858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2743200"/>
            <a:ext cx="121896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60948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09480" y="3352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84872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773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92468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924680" y="47242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8077320" y="47239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600200" y="2870280"/>
            <a:ext cx="2577960" cy="2583720"/>
            <a:chOff x="1600200" y="2870280"/>
            <a:chExt cx="2577960" cy="2583720"/>
          </a:xfrm>
        </p:grpSpPr>
        <p:sp>
          <p:nvSpPr>
            <p:cNvPr id="180" name=""/>
            <p:cNvSpPr/>
            <p:nvPr/>
          </p:nvSpPr>
          <p:spPr>
            <a:xfrm>
              <a:off x="3124080" y="3886200"/>
              <a:ext cx="990720" cy="609480"/>
            </a:xfrm>
            <a:custGeom>
              <a:avLst/>
              <a:gdLst/>
              <a:ahLst/>
              <a:rect l="l" t="t" r="r" b="b"/>
              <a:pathLst>
                <a:path w="624" h="384">
                  <a:moveTo>
                    <a:pt x="0" y="0"/>
                  </a:moveTo>
                  <a:cubicBezTo>
                    <a:pt x="116" y="192"/>
                    <a:pt x="232" y="384"/>
                    <a:pt x="336" y="384"/>
                  </a:cubicBezTo>
                  <a:cubicBezTo>
                    <a:pt x="440" y="384"/>
                    <a:pt x="532" y="192"/>
                    <a:pt x="624" y="0"/>
                  </a:cubicBezTo>
                </a:path>
              </a:pathLst>
            </a:custGeom>
            <a:noFill/>
            <a:ln w="572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73320" y="2870280"/>
              <a:ext cx="1104840" cy="1511280"/>
            </a:xfrm>
            <a:custGeom>
              <a:avLst/>
              <a:gdLst/>
              <a:ahLst/>
              <a:rect l="l" t="t" r="r" b="b"/>
              <a:pathLst>
                <a:path w="696" h="952">
                  <a:moveTo>
                    <a:pt x="80" y="112"/>
                  </a:moveTo>
                  <a:cubicBezTo>
                    <a:pt x="0" y="208"/>
                    <a:pt x="80" y="504"/>
                    <a:pt x="128" y="640"/>
                  </a:cubicBezTo>
                  <a:cubicBezTo>
                    <a:pt x="176" y="776"/>
                    <a:pt x="288" y="952"/>
                    <a:pt x="368" y="928"/>
                  </a:cubicBezTo>
                  <a:cubicBezTo>
                    <a:pt x="448" y="904"/>
                    <a:pt x="568" y="640"/>
                    <a:pt x="608" y="496"/>
                  </a:cubicBezTo>
                  <a:cubicBezTo>
                    <a:pt x="648" y="352"/>
                    <a:pt x="696" y="128"/>
                    <a:pt x="608" y="64"/>
                  </a:cubicBezTo>
                  <a:cubicBezTo>
                    <a:pt x="520" y="0"/>
                    <a:pt x="160" y="16"/>
                    <a:pt x="80" y="112"/>
                  </a:cubicBez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600200" y="487692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46120" y="4994280"/>
              <a:ext cx="10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olt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57600" y="449568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gital-to-analog convers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resistor tre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429000" y="2895120"/>
            <a:ext cx="2361960" cy="457560"/>
            <a:chOff x="3429000" y="2895120"/>
            <a:chExt cx="2361960" cy="457560"/>
          </a:xfrm>
        </p:grpSpPr>
        <p:sp>
          <p:nvSpPr>
            <p:cNvPr id="188" name=""/>
            <p:cNvSpPr/>
            <p:nvPr/>
          </p:nvSpPr>
          <p:spPr>
            <a:xfrm>
              <a:off x="3429000" y="31240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4038480" y="28951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90760" y="289548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419360" y="289548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47960" y="289548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4876560" y="3047400"/>
              <a:ext cx="1526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29200" y="304776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429000" y="3657240"/>
            <a:ext cx="2361960" cy="457560"/>
            <a:chOff x="3429000" y="3657240"/>
            <a:chExt cx="2361960" cy="457560"/>
          </a:xfrm>
        </p:grpSpPr>
        <p:sp>
          <p:nvSpPr>
            <p:cNvPr id="196" name=""/>
            <p:cNvSpPr/>
            <p:nvPr/>
          </p:nvSpPr>
          <p:spPr>
            <a:xfrm>
              <a:off x="3429000" y="38862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038480" y="36572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90760" y="365760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4419360" y="365760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47960" y="365760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4876560" y="3809520"/>
              <a:ext cx="1526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29200" y="38098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429000" y="4419360"/>
            <a:ext cx="2361960" cy="457560"/>
            <a:chOff x="3429000" y="4419360"/>
            <a:chExt cx="2361960" cy="457560"/>
          </a:xfrm>
        </p:grpSpPr>
        <p:sp>
          <p:nvSpPr>
            <p:cNvPr id="204" name=""/>
            <p:cNvSpPr/>
            <p:nvPr/>
          </p:nvSpPr>
          <p:spPr>
            <a:xfrm>
              <a:off x="3429000" y="46483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4038480" y="441936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90760" y="441972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4419360" y="441972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47960" y="441972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4876560" y="4571640"/>
              <a:ext cx="1526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029200" y="45720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429000" y="5105160"/>
            <a:ext cx="2361960" cy="457560"/>
            <a:chOff x="3429000" y="5105160"/>
            <a:chExt cx="2361960" cy="457560"/>
          </a:xfrm>
        </p:grpSpPr>
        <p:sp>
          <p:nvSpPr>
            <p:cNvPr id="212" name=""/>
            <p:cNvSpPr/>
            <p:nvPr/>
          </p:nvSpPr>
          <p:spPr>
            <a:xfrm>
              <a:off x="3429000" y="53341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4038480" y="510516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190760" y="510552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4419360" y="510552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647960" y="510552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4876560" y="5257440"/>
              <a:ext cx="1526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2920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 flipV="1">
            <a:off x="5791320" y="3048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3800" y="2438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3440" y="32004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3440" y="39625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3440" y="46483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83360" y="286056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86320" y="3657600"/>
            <a:ext cx="56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86320" y="4343400"/>
            <a:ext cx="56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86320" y="5029200"/>
            <a:ext cx="56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80720" y="270828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lash A/D convers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-bit result requires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mparato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3161880" y="3009960"/>
            <a:ext cx="76212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3352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36232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5400000">
            <a:off x="3161880" y="3924360"/>
            <a:ext cx="76212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426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81952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3161880" y="4762440"/>
            <a:ext cx="76212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5105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819520" y="5105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2971800"/>
            <a:ext cx="129528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819520" y="33523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73640" y="3013200"/>
            <a:ext cx="53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6728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6728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672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414600" y="55278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ual-slope convers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counter to time required to charge/discharge capacit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rging, then discharging eliminates non-lineariti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 rot="5400000">
            <a:off x="2300400" y="4481640"/>
            <a:ext cx="914400" cy="790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1523520" y="48769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004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988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8128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57600" y="5334120"/>
            <a:ext cx="304920" cy="75960"/>
          </a:xfrm>
          <a:custGeom>
            <a:avLst/>
            <a:gdLst/>
            <a:ahLst/>
            <a:rect l="l" t="t" r="r" b="b"/>
            <a:pathLst>
              <a:path w="192" h="48">
                <a:moveTo>
                  <a:pt x="0" y="48"/>
                </a:moveTo>
                <a:cubicBezTo>
                  <a:pt x="32" y="24"/>
                  <a:pt x="64" y="0"/>
                  <a:pt x="96" y="0"/>
                </a:cubicBezTo>
                <a:cubicBezTo>
                  <a:pt x="128" y="0"/>
                  <a:pt x="160" y="24"/>
                  <a:pt x="19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988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3657600" y="57142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51040" y="4648320"/>
            <a:ext cx="53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00600" y="4648320"/>
            <a:ext cx="1295280" cy="10666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ample-and-hol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d in any A/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403848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988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86200" y="4267080"/>
            <a:ext cx="304920" cy="76320"/>
          </a:xfrm>
          <a:custGeom>
            <a:avLst/>
            <a:gdLst/>
            <a:ahLst/>
            <a:rect l="l" t="t" r="r" b="b"/>
            <a:pathLst>
              <a:path w="192" h="48">
                <a:moveTo>
                  <a:pt x="0" y="48"/>
                </a:moveTo>
                <a:cubicBezTo>
                  <a:pt x="32" y="24"/>
                  <a:pt x="64" y="0"/>
                  <a:pt x="96" y="0"/>
                </a:cubicBezTo>
                <a:cubicBezTo>
                  <a:pt x="128" y="0"/>
                  <a:pt x="160" y="24"/>
                  <a:pt x="19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384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886200" y="464760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1240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038480" y="3809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29200" y="3352680"/>
            <a:ext cx="160020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3809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743200" y="3505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460880" y="3581280"/>
            <a:ext cx="53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imers and count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y simila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tim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incremented by a periodic signal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coun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incremented by an asynchronous, occasional sign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llover causes interrup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tchdog tim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chdog timer is periodically reset by system tim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watchdog is not reset, it generates an interrupt to reset the ho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4267080"/>
            <a:ext cx="1752840" cy="1447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4419720"/>
            <a:ext cx="1371600" cy="12189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chd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5334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191120" y="4648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26120" y="428148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ru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27920" y="496728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witch debounc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witch must be debounced to multiple contacts caused by eliminate mechanical bounc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459756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209680" y="3987720"/>
            <a:ext cx="91440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459756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895480" y="3429000"/>
            <a:ext cx="5334120" cy="1244520"/>
            <a:chOff x="2895480" y="3429000"/>
            <a:chExt cx="5334120" cy="1244520"/>
          </a:xfrm>
        </p:grpSpPr>
        <p:sp>
          <p:nvSpPr>
            <p:cNvPr id="101" name=""/>
            <p:cNvSpPr/>
            <p:nvPr/>
          </p:nvSpPr>
          <p:spPr>
            <a:xfrm>
              <a:off x="2895480" y="3987720"/>
              <a:ext cx="533520" cy="685800"/>
            </a:xfrm>
            <a:prstGeom prst="line">
              <a:avLst/>
            </a:prstGeom>
            <a:ln w="28440">
              <a:solidFill>
                <a:srgbClr val="ff66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24280" y="3429000"/>
              <a:ext cx="3505320" cy="1181160"/>
            </a:xfrm>
            <a:custGeom>
              <a:avLst/>
              <a:gdLst/>
              <a:ahLst/>
              <a:rect l="l" t="t" r="r" b="b"/>
              <a:pathLst>
                <a:path w="2208" h="744">
                  <a:moveTo>
                    <a:pt x="0" y="736"/>
                  </a:moveTo>
                  <a:cubicBezTo>
                    <a:pt x="56" y="424"/>
                    <a:pt x="112" y="112"/>
                    <a:pt x="192" y="112"/>
                  </a:cubicBezTo>
                  <a:cubicBezTo>
                    <a:pt x="272" y="112"/>
                    <a:pt x="400" y="744"/>
                    <a:pt x="480" y="736"/>
                  </a:cubicBezTo>
                  <a:cubicBezTo>
                    <a:pt x="560" y="728"/>
                    <a:pt x="600" y="72"/>
                    <a:pt x="672" y="64"/>
                  </a:cubicBezTo>
                  <a:cubicBezTo>
                    <a:pt x="744" y="56"/>
                    <a:pt x="792" y="672"/>
                    <a:pt x="912" y="688"/>
                  </a:cubicBezTo>
                  <a:cubicBezTo>
                    <a:pt x="1032" y="704"/>
                    <a:pt x="1264" y="152"/>
                    <a:pt x="1392" y="160"/>
                  </a:cubicBezTo>
                  <a:cubicBezTo>
                    <a:pt x="1520" y="168"/>
                    <a:pt x="1592" y="744"/>
                    <a:pt x="1680" y="736"/>
                  </a:cubicBezTo>
                  <a:cubicBezTo>
                    <a:pt x="1768" y="728"/>
                    <a:pt x="1832" y="224"/>
                    <a:pt x="1920" y="112"/>
                  </a:cubicBezTo>
                  <a:cubicBezTo>
                    <a:pt x="2008" y="0"/>
                    <a:pt x="2108" y="32"/>
                    <a:pt x="2208" y="64"/>
                  </a:cubicBezTo>
                </a:path>
              </a:pathLst>
            </a:custGeom>
            <a:noFill/>
            <a:ln w="284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ncoded keyboar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rray of switches is read by an encod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N-key rollov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members multiple key depress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572000" y="426672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2705040" y="4533840"/>
            <a:ext cx="1524240" cy="990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285640" y="5029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35268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34080" y="39276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05520" y="4572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48006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638680" y="4647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868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6324480" y="426672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10280" y="4572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62520" y="5410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572000" y="50292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5410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638680" y="5410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324480" y="50292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E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use resistor to limit curren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2895480" y="2971800"/>
            <a:ext cx="1295640" cy="2514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32004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15000" y="3200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38098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562720" y="39625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62720" y="41911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562720" y="44197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46483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86400" y="5029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86400" y="50292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715000" y="50288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334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1500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62720" y="5715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57150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715000" y="571464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43600" y="5105520"/>
            <a:ext cx="457200" cy="759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867280" y="5334120"/>
            <a:ext cx="457200" cy="759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7-segment LCD displa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use parallel or multiplexed inpu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886200" y="2895480"/>
            <a:ext cx="1219320" cy="228600"/>
          </a:xfrm>
          <a:prstGeom prst="parallelogram">
            <a:avLst>
              <a:gd name="adj" fmla="val 13334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3962520"/>
            <a:ext cx="1219320" cy="228600"/>
          </a:xfrm>
          <a:prstGeom prst="parallelogram">
            <a:avLst>
              <a:gd name="adj" fmla="val 13334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4952880"/>
            <a:ext cx="1219320" cy="228600"/>
          </a:xfrm>
          <a:prstGeom prst="parallelogram">
            <a:avLst>
              <a:gd name="adj" fmla="val 13334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rot="16200000">
            <a:off x="4532760" y="4381560"/>
            <a:ext cx="1219320" cy="228600"/>
          </a:xfrm>
          <a:prstGeom prst="parallelogram">
            <a:avLst>
              <a:gd name="adj" fmla="val 13334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rot="16200000">
            <a:off x="4456440" y="3390840"/>
            <a:ext cx="1219320" cy="228600"/>
          </a:xfrm>
          <a:prstGeom prst="parallelogram">
            <a:avLst>
              <a:gd name="adj" fmla="val 13334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rot="16200000">
            <a:off x="3313440" y="4457520"/>
            <a:ext cx="1218960" cy="228600"/>
          </a:xfrm>
          <a:prstGeom prst="parallelogram">
            <a:avLst>
              <a:gd name="adj" fmla="val 13330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rot="16200000">
            <a:off x="3237480" y="3467160"/>
            <a:ext cx="1219320" cy="228600"/>
          </a:xfrm>
          <a:prstGeom prst="parallelogram">
            <a:avLst>
              <a:gd name="adj" fmla="val 13334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ypes of high-resolution displa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thode ray tube (CR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quid crystal display (LC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sma,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ouchscre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ludes input and output devi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put device is a two-dimensional voltmet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3200400" y="3429000"/>
            <a:ext cx="1828800" cy="2286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2520" y="3886200"/>
            <a:ext cx="3045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962520" y="3885840"/>
            <a:ext cx="3045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7T23:54:30Z</dcterms:created>
  <dc:creator>Preferred Customer</dc:creator>
  <dc:description/>
  <dc:language>en-US</dc:language>
  <cp:lastModifiedBy>Preferred Customer</cp:lastModifiedBy>
  <dcterms:modified xsi:type="dcterms:W3CDTF">2000-02-29T03:03:09Z</dcterms:modified>
  <cp:revision>61</cp:revision>
  <dc:subject/>
  <dc:title>Networking for Embedded Systems</dc:title>
</cp:coreProperties>
</file>