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23F3-4EA8-4D47-A40E-FA1A2F97C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MF detection was too expensive to run on the CP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hose to put analog detectors on line cards to avoid designing a separate DTMF c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ere building commercial PBXs, manufacturing cost may be more important than design time and you may choose the DTMF c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pse set of processes into a table + l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ollapse in this case because data arrivals are very regular, computations are very uni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960 busincludes upper-right co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communication paths not connected to bus allow deadline-driven communication between other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itecture reminiscent of PC: CPU, support chip, I/O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itecture also reminiscen t of P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memory is not directly connected to CP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tasks of a PB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 creep related to second-system syndrome (Brook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special-purpose hardware for speech,  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ware less reminiscent of PC platform than were Newton, Env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itecture not so reminiscent of PC as were P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special-purpose hardware for MPEG deco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D-I graphics renders on-screen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be able to build 1 billion transistor chips in large volumes fairly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ready put enough transistors on a single chip to build a complete low-end PC, including main memory, CPU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-hook/on-hook is most conf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have huge designer productivity to build billion-transistor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need customized archite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need new verification strate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bus and memory to transfer call data between line c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read one value from and write one value to each pone in the call on every s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one per row/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ing DTMF is relatively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get a dial tone until a DTMF detector is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machine for a c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both sides of the c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walked through this scenario, we realized that we had forgotten the Call-&gt;On-hook tran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should not interfere with each other---specify as parallel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ordination is required for billing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mercial PBXs are built on PC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973-CDFD-4691-AC95-533218F8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6BB-B956-4362-965C-36BC6147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9FB-03CB-47A1-B645-4431A6B4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CEE-01D4-45FB-9FB7-D0B8151E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0625-CC7E-4610-AD23-617E9D62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6661-BC40-4C69-9D9A-C2A04C5E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5413-97EA-4864-BEB7-61696348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2FD6-82AE-4C78-ABB3-05CB5B06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5783-B289-4912-B044-595F6471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8536-A794-43AC-A4DF-CF5386FE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201F-1D9D-4426-84E7-2B1F74A6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928-461E-4D69-A933-0BEE1C22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E584-F8B8-4D73-9064-12146CFB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7E91-D90F-44C5-AD53-4445FD4C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A53E-AC3D-48C5-B258-706D6BBC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F70C-BC83-46D2-9A4B-94158490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644D-0E0A-4A86-AF26-3F259E87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FB3-D4A1-4B88-BE04-34D0B05F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0C1-1101-41DC-9B65-B5CB3946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E49-47E9-4956-BAE1-E68EDF89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1183-7D9E-4EEE-B2F2-C2AA3EDE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25E-D08A-45BA-86C1-20834571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519-55F2-40D7-B60B-34E874DD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D13-18D1-4B4E-AF6E-160F75CF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A410-DD0D-4B56-AAF7-646E2A6229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8796-305E-40A0-921D-F98DBAF4BE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design techniq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branch exchange (PBX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k-jet pri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-top box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-on-silic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TMF sens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process on CP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lots of CPU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filter bank on line c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 in volu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P on separate ca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ew desig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590920"/>
            <a:ext cx="121932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962520"/>
            <a:ext cx="1523880" cy="838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62920" y="2133720"/>
            <a:ext cx="761760" cy="12189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22096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7057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153280" y="2133720"/>
            <a:ext cx="533520" cy="1143000"/>
            <a:chOff x="8153280" y="2133720"/>
            <a:chExt cx="533520" cy="1143000"/>
          </a:xfrm>
        </p:grpSpPr>
        <p:sp>
          <p:nvSpPr>
            <p:cNvPr id="199" name=""/>
            <p:cNvSpPr/>
            <p:nvPr/>
          </p:nvSpPr>
          <p:spPr>
            <a:xfrm flipH="1" rot="16200000">
              <a:off x="7810200" y="2552760"/>
              <a:ext cx="990360" cy="30492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 rot="16200000">
              <a:off x="8267760" y="2171880"/>
              <a:ext cx="457200" cy="38088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 rot="16200000">
              <a:off x="8267760" y="2857680"/>
              <a:ext cx="457200" cy="38088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 flipH="1">
            <a:off x="792432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62920" y="4191120"/>
            <a:ext cx="761760" cy="12189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70572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8153280" y="4191120"/>
            <a:ext cx="533520" cy="1143000"/>
            <a:chOff x="8153280" y="4191120"/>
            <a:chExt cx="533520" cy="1143000"/>
          </a:xfrm>
        </p:grpSpPr>
        <p:sp>
          <p:nvSpPr>
            <p:cNvPr id="206" name=""/>
            <p:cNvSpPr/>
            <p:nvPr/>
          </p:nvSpPr>
          <p:spPr>
            <a:xfrm flipH="1" rot="16200000">
              <a:off x="7810200" y="4610160"/>
              <a:ext cx="990360" cy="30492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 rot="16200000">
              <a:off x="8267760" y="4229280"/>
              <a:ext cx="457200" cy="38088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 rot="16200000">
              <a:off x="8267760" y="4915080"/>
              <a:ext cx="457200" cy="38088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H="1">
            <a:off x="792432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62920" y="3505320"/>
            <a:ext cx="160020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F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7057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2209680"/>
            <a:ext cx="30492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4267080"/>
            <a:ext cx="30492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2666880"/>
            <a:ext cx="30456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-per-call is bad impleme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xt switch per call per 1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oll calls into one loo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oop iteration is one call for one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=0; i&lt;n_calls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* from 1 to 2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= read(call[i].line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(call[i].line2,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* from 2 to 1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= read(call[i].line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(call[i].line1,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P DesignJet drafting plot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ots up to 36 inches wide at 300 DP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s a variety of task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ommunica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s language interpreta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steriza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ice contr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plotting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1828800"/>
            <a:ext cx="137160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GL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1828800"/>
            <a:ext cx="137160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2590920"/>
            <a:ext cx="13716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3505320"/>
            <a:ext cx="2057400" cy="76176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181480" y="2895120"/>
            <a:ext cx="3048120" cy="1981440"/>
            <a:chOff x="5181480" y="2895120"/>
            <a:chExt cx="3048120" cy="1981440"/>
          </a:xfrm>
        </p:grpSpPr>
        <p:sp>
          <p:nvSpPr>
            <p:cNvPr id="226" name=""/>
            <p:cNvSpPr/>
            <p:nvPr/>
          </p:nvSpPr>
          <p:spPr>
            <a:xfrm>
              <a:off x="6248520" y="2895480"/>
              <a:ext cx="1981080" cy="19810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31240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3080" y="34290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373356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3080" y="40384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53080" y="4343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96080" y="31240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96080" y="34290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96080" y="373356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96080" y="40384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96080" y="4343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7480" y="4343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8880" y="4343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0280" y="4343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81680" y="4343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181480" y="2895120"/>
              <a:ext cx="1067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81480" y="4267080"/>
              <a:ext cx="1067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200400" y="4572000"/>
            <a:ext cx="1905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5562720"/>
            <a:ext cx="6858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3885840" y="4952880"/>
            <a:ext cx="533520" cy="205740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22860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419360" y="22860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utilization is importa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6 inches X large X 300 DPI X n bits/pixel is a lot of mem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clever algorithms to minimize raster memory requir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 real-time contr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 concurrency: read new data, rasterize, control print he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P DesignJet hardwar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981080"/>
            <a:ext cx="978120" cy="97812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960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38680" y="2057400"/>
            <a:ext cx="901800" cy="8254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15000" y="3048120"/>
            <a:ext cx="673200" cy="749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91520" y="1905120"/>
            <a:ext cx="977760" cy="9777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91520" y="3048120"/>
            <a:ext cx="977760" cy="9777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48320" y="3962520"/>
            <a:ext cx="977760" cy="9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4191120"/>
            <a:ext cx="673200" cy="749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5257800"/>
            <a:ext cx="673200" cy="749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1280" y="3200400"/>
            <a:ext cx="978120" cy="9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3276720"/>
            <a:ext cx="825480" cy="825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4267080"/>
            <a:ext cx="977760" cy="978120"/>
          </a:xfrm>
          <a:prstGeom prst="rect">
            <a:avLst/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805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3429000"/>
            <a:ext cx="1206360" cy="673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EP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99040" y="1679400"/>
            <a:ext cx="0" cy="22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5240" y="2432160"/>
            <a:ext cx="10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56320" y="2432160"/>
            <a:ext cx="82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0120" y="2441520"/>
            <a:ext cx="0" cy="7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89840" y="319392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0120" y="3203640"/>
            <a:ext cx="0" cy="11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9840" y="433692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095800" y="342252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2320" y="411804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9600" y="372744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562640" y="3575160"/>
            <a:ext cx="54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1920" y="4489560"/>
            <a:ext cx="74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94320" y="4498920"/>
            <a:ext cx="0" cy="10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04040" y="5556240"/>
            <a:ext cx="112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79920" y="4956120"/>
            <a:ext cx="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61320" y="5327640"/>
            <a:ext cx="865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362320" y="4724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5410080"/>
            <a:ext cx="14479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94920" y="552456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5029200"/>
            <a:ext cx="182880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3848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arly architectural deci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se Intel 80960KA as main process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d parsing, rasterization control, print engine contr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d bus reduced pin cou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ld be upgraded to floating-point if necessa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modular I/O to host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d not use disk for local stor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MB RAM (SIMM sockets for mor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AS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 interfac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or suppor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o processing performed by 8052 microcontroll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ster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ot is generated 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wath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swath mem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s are generated in row order by main process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s are fed to pens in column or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 interface ASIC transforms row order to column or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flow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"/>
          <p:cNvSpPr/>
          <p:nvPr/>
        </p:nvSpPr>
        <p:spPr>
          <a:xfrm>
            <a:off x="3581280" y="1905120"/>
            <a:ext cx="978120" cy="97776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960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1981080"/>
            <a:ext cx="901800" cy="8254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15000" y="2971800"/>
            <a:ext cx="673200" cy="749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91520" y="1828800"/>
            <a:ext cx="977760" cy="9777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91520" y="2971800"/>
            <a:ext cx="977760" cy="9777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3886200"/>
            <a:ext cx="977760" cy="9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43800" y="4114800"/>
            <a:ext cx="673200" cy="749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43800" y="5181480"/>
            <a:ext cx="673200" cy="74952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124080"/>
            <a:ext cx="978120" cy="978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3200400"/>
            <a:ext cx="825480" cy="825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4191120"/>
            <a:ext cx="977760" cy="977760"/>
          </a:xfrm>
          <a:prstGeom prst="rect">
            <a:avLst/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805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3352680"/>
            <a:ext cx="1206360" cy="673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EP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99040" y="1603440"/>
            <a:ext cx="0" cy="22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5240" y="2355840"/>
            <a:ext cx="10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56320" y="2355840"/>
            <a:ext cx="82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80120" y="2365200"/>
            <a:ext cx="0" cy="7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89840" y="311796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80120" y="3127320"/>
            <a:ext cx="0" cy="11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89840" y="426096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095800" y="334656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22320" y="404172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9600" y="365112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562640" y="3498840"/>
            <a:ext cx="54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41920" y="4413240"/>
            <a:ext cx="74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94320" y="4422600"/>
            <a:ext cx="0" cy="105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4040" y="5479920"/>
            <a:ext cx="112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79920" y="4879800"/>
            <a:ext cx="0" cy="365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61320" y="5251320"/>
            <a:ext cx="865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362320" y="4648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5334120"/>
            <a:ext cx="14479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94920" y="544824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182880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648320" y="1447920"/>
            <a:ext cx="4307400" cy="3441600"/>
            <a:chOff x="4648320" y="1447920"/>
            <a:chExt cx="4307400" cy="3441600"/>
          </a:xfrm>
        </p:grpSpPr>
        <p:sp>
          <p:nvSpPr>
            <p:cNvPr id="332" name=""/>
            <p:cNvSpPr/>
            <p:nvPr/>
          </p:nvSpPr>
          <p:spPr>
            <a:xfrm>
              <a:off x="4648320" y="1841400"/>
              <a:ext cx="2819160" cy="1435320"/>
            </a:xfrm>
            <a:custGeom>
              <a:avLst/>
              <a:gdLst/>
              <a:ahLst/>
              <a:rect l="l" t="t" r="r" b="b"/>
              <a:pathLst>
                <a:path w="1776" h="904">
                  <a:moveTo>
                    <a:pt x="0" y="88"/>
                  </a:moveTo>
                  <a:cubicBezTo>
                    <a:pt x="524" y="44"/>
                    <a:pt x="1048" y="0"/>
                    <a:pt x="1344" y="136"/>
                  </a:cubicBezTo>
                  <a:cubicBezTo>
                    <a:pt x="1640" y="272"/>
                    <a:pt x="1708" y="588"/>
                    <a:pt x="1776" y="9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10280" y="2133720"/>
              <a:ext cx="1371600" cy="2755800"/>
            </a:xfrm>
            <a:custGeom>
              <a:avLst/>
              <a:gdLst/>
              <a:ahLst/>
              <a:rect l="l" t="t" r="r" b="b"/>
              <a:pathLst>
                <a:path w="888" h="1824">
                  <a:moveTo>
                    <a:pt x="24" y="184"/>
                  </a:moveTo>
                  <a:cubicBezTo>
                    <a:pt x="12" y="92"/>
                    <a:pt x="0" y="0"/>
                    <a:pt x="24" y="232"/>
                  </a:cubicBezTo>
                  <a:cubicBezTo>
                    <a:pt x="48" y="464"/>
                    <a:pt x="24" y="1328"/>
                    <a:pt x="168" y="1576"/>
                  </a:cubicBezTo>
                  <a:cubicBezTo>
                    <a:pt x="312" y="1824"/>
                    <a:pt x="600" y="1772"/>
                    <a:pt x="888" y="17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86040" y="1447920"/>
              <a:ext cx="34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parsing and raster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296720" y="2590920"/>
            <a:ext cx="4202280" cy="1117440"/>
            <a:chOff x="1296720" y="2590920"/>
            <a:chExt cx="4202280" cy="1117440"/>
          </a:xfrm>
        </p:grpSpPr>
        <p:sp>
          <p:nvSpPr>
            <p:cNvPr id="336" name=""/>
            <p:cNvSpPr/>
            <p:nvPr/>
          </p:nvSpPr>
          <p:spPr>
            <a:xfrm>
              <a:off x="3352680" y="2641680"/>
              <a:ext cx="2146320" cy="1066680"/>
            </a:xfrm>
            <a:custGeom>
              <a:avLst/>
              <a:gdLst/>
              <a:ahLst/>
              <a:rect l="l" t="t" r="r" b="b"/>
              <a:pathLst>
                <a:path w="1352" h="672">
                  <a:moveTo>
                    <a:pt x="768" y="16"/>
                  </a:moveTo>
                  <a:cubicBezTo>
                    <a:pt x="756" y="8"/>
                    <a:pt x="744" y="0"/>
                    <a:pt x="816" y="16"/>
                  </a:cubicBezTo>
                  <a:cubicBezTo>
                    <a:pt x="888" y="32"/>
                    <a:pt x="1144" y="16"/>
                    <a:pt x="1200" y="112"/>
                  </a:cubicBezTo>
                  <a:cubicBezTo>
                    <a:pt x="1256" y="208"/>
                    <a:pt x="1352" y="512"/>
                    <a:pt x="1152" y="592"/>
                  </a:cubicBezTo>
                  <a:cubicBezTo>
                    <a:pt x="952" y="672"/>
                    <a:pt x="476" y="632"/>
                    <a:pt x="0" y="59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96720" y="2590920"/>
              <a:ext cx="240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swath gen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500560" y="3670200"/>
            <a:ext cx="1334880" cy="1435320"/>
            <a:chOff x="2500560" y="3670200"/>
            <a:chExt cx="1334880" cy="1435320"/>
          </a:xfrm>
        </p:grpSpPr>
        <p:sp>
          <p:nvSpPr>
            <p:cNvPr id="339" name=""/>
            <p:cNvSpPr/>
            <p:nvPr/>
          </p:nvSpPr>
          <p:spPr>
            <a:xfrm>
              <a:off x="3124080" y="3670200"/>
              <a:ext cx="711360" cy="1435320"/>
            </a:xfrm>
            <a:custGeom>
              <a:avLst/>
              <a:gdLst/>
              <a:ahLst/>
              <a:rect l="l" t="t" r="r" b="b"/>
              <a:pathLst>
                <a:path w="448" h="904">
                  <a:moveTo>
                    <a:pt x="0" y="88"/>
                  </a:moveTo>
                  <a:cubicBezTo>
                    <a:pt x="160" y="44"/>
                    <a:pt x="320" y="0"/>
                    <a:pt x="384" y="136"/>
                  </a:cubicBezTo>
                  <a:cubicBezTo>
                    <a:pt x="448" y="272"/>
                    <a:pt x="416" y="588"/>
                    <a:pt x="384" y="9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00560" y="415620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draw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gital telephone swi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-end switches are highly reli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seconds downtime per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ies, homes install private branch exchanges (PBXs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com featur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long distance char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o processor controls stepper mo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riage processor must write, read pen alignment mar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or support ASIC provides multiple functions: interrupt and mailbox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on controller decodes position of print carriage and paper; watchdogs serv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 interface ASI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 to i960 bus, swath memory, carriage AS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 interface reads pixels from swath in predetermined pattern using pixel address gener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support bidirectional printing since head prints both w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rriage ASI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faces to carriage processor bus, pen interface ASIC, servo controll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s timing control registers using the CPU b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ay registers add correction for pen align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velopment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 shuffling algorithm for pen interface/carriage ASICs was prototyped in 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t emulators for ASICs to allow parallel development of i960 software and hard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development environ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otter software could be run on Unix workstation or target platfo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d in I/O and print engine subsys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engine was emulated on host with X window interface showing swath st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in-house R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P-GL/2 parser was legacy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development environment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wrote vector/raster converter from assembly language to C to port to i96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gdb960 as monitor debugger on target system, communicating with h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nt panel developed on PC, tested by user interface designers, marke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er loading designed by mechanical engine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sonal digital assi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portable, specialized information devi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cost for consumer marke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ly smal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-powere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-ri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e Newt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modern P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al used ARM 610; later version used StrongA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operations in Runt ASIC: DMA, real-time clock, video interface, audio, PCM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written in NewtonScript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wton hardwar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"/>
          <p:cNvSpPr/>
          <p:nvPr/>
        </p:nvSpPr>
        <p:spPr>
          <a:xfrm>
            <a:off x="1447920" y="1828800"/>
            <a:ext cx="152388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 6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57600" y="1828800"/>
            <a:ext cx="1371600" cy="914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62720" y="1828800"/>
            <a:ext cx="1371600" cy="914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3352680"/>
            <a:ext cx="11430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95280" y="4267080"/>
            <a:ext cx="1752840" cy="1143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1790640" y="5676480"/>
            <a:ext cx="685800" cy="4572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91800" y="57150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3352680"/>
            <a:ext cx="1600200" cy="6858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ial I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4343400"/>
            <a:ext cx="160020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5880" y="5105520"/>
            <a:ext cx="1295640" cy="1066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0211000">
            <a:off x="7010280" y="5257800"/>
            <a:ext cx="838440" cy="152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3" idx="1"/>
            <a:endCxn id="359" idx="2"/>
          </p:cNvCxnSpPr>
          <p:nvPr/>
        </p:nvCxnSpPr>
        <p:spPr>
          <a:xfrm flipV="1">
            <a:off x="2360520" y="2742840"/>
            <a:ext cx="1983240" cy="3161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066680" y="289548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304812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6232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29492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29492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3400" y="3276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M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1960" y="365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00600" y="27432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71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343040" y="3581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343040" y="4572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2940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048120" y="4724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0481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torola Envoy hardwar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1905120"/>
            <a:ext cx="1676520" cy="533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CM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1905120"/>
            <a:ext cx="1752480" cy="5331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B 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57800" y="1905120"/>
            <a:ext cx="1752480" cy="5331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B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71800" y="3276720"/>
            <a:ext cx="1219320" cy="10666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19520" y="4876920"/>
            <a:ext cx="13716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4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19320" y="3429000"/>
            <a:ext cx="990360" cy="7621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4876920"/>
            <a:ext cx="11430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43600" y="3276720"/>
            <a:ext cx="1447920" cy="53316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67280" y="4114800"/>
            <a:ext cx="1752840" cy="609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5029200"/>
            <a:ext cx="990720" cy="6094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391520" y="4952880"/>
            <a:ext cx="144756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ch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87" idx="2"/>
            <a:endCxn id="389" idx="2"/>
          </p:cNvCxnSpPr>
          <p:nvPr/>
        </p:nvCxnSpPr>
        <p:spPr>
          <a:xfrm flipH="1" rot="16200000">
            <a:off x="3904200" y="210240"/>
            <a:ext cx="2520" cy="44578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1911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5760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2767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895120" y="297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6560" y="281952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ic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09680" y="3733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419040" y="3542760"/>
            <a:ext cx="685800" cy="4572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907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1460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133720" y="5181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69343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94" idx="1"/>
            <a:endCxn id="396" idx="1"/>
          </p:cNvCxnSpPr>
          <p:nvPr/>
        </p:nvCxnSpPr>
        <p:spPr>
          <a:xfrm flipH="1" flipV="1" rot="10800000">
            <a:off x="5943240" y="3543120"/>
            <a:ext cx="2160" cy="1791360"/>
          </a:xfrm>
          <a:prstGeom prst="bentConnector3">
            <a:avLst>
              <a:gd name="adj1" fmla="val -401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 flipH="1">
            <a:off x="5333760" y="4419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19076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20211000">
            <a:off x="7924680" y="4876920"/>
            <a:ext cx="838440" cy="152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ephone switch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ish telephone cal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switch, find other phone lin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side switch, find route to other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 voice samples between ph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 call time for bil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maintenance access to swit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eature cree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tend to add features to system during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s power consup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mechanical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software design more compl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thrashing can reduce battery lif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DA power suppl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must be designed to gracefully handle low battery pow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power loss can destroy lots of data in 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rt Battery System puts electronics in battery to measure battery perform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foP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dersen et al: advanced networked multimedia information appli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performed many functions on remote systems to increase battery lif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de use of specialized hardware units to reduce power consumption over software implement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foPad hardwar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1905120"/>
            <a:ext cx="2210040" cy="9144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05120" y="3048120"/>
            <a:ext cx="1447560" cy="8380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4114800"/>
            <a:ext cx="190512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ompr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76520" y="5257800"/>
            <a:ext cx="16002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943600" y="3124080"/>
            <a:ext cx="1295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280" y="4267080"/>
            <a:ext cx="23623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board/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867280" y="5257800"/>
            <a:ext cx="2438640" cy="68580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8320" y="28195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276720" y="5562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276720" y="45720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3352320" y="33526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-top box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between cable/satellite and TV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levis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clude back channel for purchas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y cost-sensitive mark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-top box in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"/>
          <p:cNvSpPr/>
          <p:nvPr/>
        </p:nvSpPr>
        <p:spPr>
          <a:xfrm>
            <a:off x="3429000" y="3657600"/>
            <a:ext cx="289548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3809880"/>
            <a:ext cx="2590920" cy="15242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228600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-top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81280" y="26668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923040" y="4421520"/>
            <a:ext cx="1583280" cy="1749240"/>
            <a:chOff x="923040" y="4421520"/>
            <a:chExt cx="1583280" cy="1749240"/>
          </a:xfrm>
        </p:grpSpPr>
        <p:sp>
          <p:nvSpPr>
            <p:cNvPr id="441" name=""/>
            <p:cNvSpPr/>
            <p:nvPr/>
          </p:nvSpPr>
          <p:spPr>
            <a:xfrm rot="1807200">
              <a:off x="1219320" y="4572000"/>
              <a:ext cx="990360" cy="1447920"/>
            </a:xfrm>
            <a:prstGeom prst="rect">
              <a:avLst/>
            </a:prstGeom>
            <a:solidFill>
              <a:srgbClr val="5e57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807200">
              <a:off x="1683720" y="476136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807200">
              <a:off x="1881360" y="48762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807200">
              <a:off x="2079000" y="499068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807200">
              <a:off x="1568880" y="49590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807200">
              <a:off x="1766520" y="507384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807200">
              <a:off x="1964160" y="518868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07200">
              <a:off x="1454040" y="515664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807200">
              <a:off x="1652040" y="527148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807200">
              <a:off x="1849680" y="53863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8007200">
              <a:off x="1276920" y="5434200"/>
              <a:ext cx="228600" cy="228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207200">
              <a:off x="1606320" y="5626080"/>
              <a:ext cx="228600" cy="228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2120760" y="2743200"/>
            <a:ext cx="1613160" cy="1905120"/>
          </a:xfrm>
          <a:custGeom>
            <a:avLst/>
            <a:gdLst/>
            <a:ahLst/>
            <a:rect l="l" t="t" r="r" b="b"/>
            <a:pathLst>
              <a:path w="1016" h="1200">
                <a:moveTo>
                  <a:pt x="8" y="1152"/>
                </a:moveTo>
                <a:cubicBezTo>
                  <a:pt x="28" y="1176"/>
                  <a:pt x="48" y="1200"/>
                  <a:pt x="56" y="1152"/>
                </a:cubicBezTo>
                <a:cubicBezTo>
                  <a:pt x="64" y="1104"/>
                  <a:pt x="0" y="920"/>
                  <a:pt x="56" y="864"/>
                </a:cubicBezTo>
                <a:cubicBezTo>
                  <a:pt x="112" y="808"/>
                  <a:pt x="336" y="880"/>
                  <a:pt x="392" y="816"/>
                </a:cubicBezTo>
                <a:cubicBezTo>
                  <a:pt x="448" y="752"/>
                  <a:pt x="328" y="544"/>
                  <a:pt x="392" y="480"/>
                </a:cubicBezTo>
                <a:cubicBezTo>
                  <a:pt x="456" y="416"/>
                  <a:pt x="720" y="496"/>
                  <a:pt x="776" y="432"/>
                </a:cubicBezTo>
                <a:cubicBezTo>
                  <a:pt x="832" y="368"/>
                  <a:pt x="688" y="168"/>
                  <a:pt x="728" y="96"/>
                </a:cubicBezTo>
                <a:cubicBezTo>
                  <a:pt x="768" y="24"/>
                  <a:pt x="892" y="12"/>
                  <a:pt x="1016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71600" y="324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104840" y="1486440"/>
            <a:ext cx="1523160" cy="1523160"/>
            <a:chOff x="1104840" y="1486440"/>
            <a:chExt cx="1523160" cy="1523160"/>
          </a:xfrm>
        </p:grpSpPr>
        <p:sp>
          <p:nvSpPr>
            <p:cNvPr id="456" name=""/>
            <p:cNvSpPr/>
            <p:nvPr/>
          </p:nvSpPr>
          <p:spPr>
            <a:xfrm rot="6927000">
              <a:off x="1294560" y="1676160"/>
              <a:ext cx="1143000" cy="1143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 rot="6926400">
              <a:off x="1675800" y="2057040"/>
              <a:ext cx="381240" cy="38088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612800" y="1994040"/>
              <a:ext cx="163800" cy="3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374920" y="2438280"/>
            <a:ext cx="1054080" cy="330480"/>
          </a:xfrm>
          <a:custGeom>
            <a:avLst/>
            <a:gdLst/>
            <a:ahLst/>
            <a:rect l="l" t="t" r="r" b="b"/>
            <a:pathLst>
              <a:path w="664" h="208">
                <a:moveTo>
                  <a:pt x="40" y="0"/>
                </a:moveTo>
                <a:cubicBezTo>
                  <a:pt x="20" y="8"/>
                  <a:pt x="0" y="16"/>
                  <a:pt x="40" y="48"/>
                </a:cubicBezTo>
                <a:cubicBezTo>
                  <a:pt x="80" y="80"/>
                  <a:pt x="176" y="176"/>
                  <a:pt x="280" y="192"/>
                </a:cubicBezTo>
                <a:cubicBezTo>
                  <a:pt x="384" y="208"/>
                  <a:pt x="524" y="176"/>
                  <a:pt x="664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21000" y="171756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TV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324480" y="2666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299360" y="2403360"/>
            <a:ext cx="11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0060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343400" y="40384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ilips fiber-to-curb box hard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236232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28800" y="1981080"/>
            <a:ext cx="160020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2057400"/>
            <a:ext cx="12952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781680" y="2133720"/>
            <a:ext cx="12956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81680" y="3124080"/>
            <a:ext cx="129564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67480" y="4648320"/>
            <a:ext cx="10670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5181480"/>
            <a:ext cx="14475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-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5257800"/>
            <a:ext cx="15238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M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3505320"/>
            <a:ext cx="1066680" cy="5331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47920" y="4343400"/>
            <a:ext cx="91440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4191120"/>
            <a:ext cx="7621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" y="4876920"/>
            <a:ext cx="7621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5486400"/>
            <a:ext cx="7621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4419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218960" y="4724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219320" y="48769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29000" y="213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4290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352320" y="3657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200400" y="5486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95680" y="3429000"/>
            <a:ext cx="1371600" cy="533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00800" y="213372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6095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4008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84872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5345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48520" y="4495680"/>
            <a:ext cx="990360" cy="457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934320" y="1371600"/>
            <a:ext cx="990360" cy="457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91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62320" y="4572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ber-to-curb box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1828800"/>
            <a:ext cx="205740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19720" y="1828800"/>
            <a:ext cx="205740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19320" y="274320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00200" y="3124080"/>
            <a:ext cx="1828800" cy="5335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-9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00200" y="3657600"/>
            <a:ext cx="1295280" cy="5335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0200" y="4191120"/>
            <a:ext cx="762120" cy="5331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429000" y="3124080"/>
            <a:ext cx="2895480" cy="5335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95480" y="3657600"/>
            <a:ext cx="342900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95480" y="4038480"/>
            <a:ext cx="3429000" cy="152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62320" y="4191120"/>
            <a:ext cx="3962160" cy="53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16200000">
            <a:off x="-723600" y="3085560"/>
            <a:ext cx="28191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/monitor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43920" y="5105520"/>
            <a:ext cx="101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E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84400" y="5181480"/>
            <a:ext cx="138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o/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3400" y="518148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-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98400" y="5029200"/>
            <a:ext cx="115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285640" y="47242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0040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197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1500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69640" y="4952880"/>
            <a:ext cx="14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467840" y="3352680"/>
            <a:ext cx="8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77480" y="1752480"/>
            <a:ext cx="16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34320" y="4724280"/>
            <a:ext cx="457200" cy="1219320"/>
          </a:xfrm>
          <a:custGeom>
            <a:avLst/>
            <a:gdLst>
              <a:gd name="textAreaLeft" fmla="*/ 0 w 457200"/>
              <a:gd name="textAreaRight" fmla="*/ 16488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0" y="2819520"/>
            <a:ext cx="457200" cy="1904760"/>
          </a:xfrm>
          <a:custGeom>
            <a:avLst/>
            <a:gdLst>
              <a:gd name="textAreaLeft" fmla="*/ 0 w 457200"/>
              <a:gd name="textAreaRight" fmla="*/ 164880 w 4572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0" y="16002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s-on-silic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uild significant embedded systems on single chi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high-performance CPU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performance and lower pow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c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 flipV="1">
            <a:off x="1371600" y="2133720"/>
            <a:ext cx="632448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ore’s Law (Sematech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7" name=""/>
          <p:cNvSpPr/>
          <p:nvPr/>
        </p:nvSpPr>
        <p:spPr>
          <a:xfrm>
            <a:off x="1066680" y="556272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06668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7000" y="453708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9160" y="22860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73400" y="571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7524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4400" y="4800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1440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0200" y="4952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9800" y="571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388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1629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752120" y="41911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25320" y="37339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on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7314840" y="25909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321240" y="3352680"/>
            <a:ext cx="22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ion-trans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-on-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ephone termi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istinct telephone conne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ine car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PBX/subscriber line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ff-hoo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ctive teleph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n-hoo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active teleph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runk l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phone lines between switch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O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plain old telephone service (analog, no fancy servic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challeng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e-based design: can’t take time to design gates, lines of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 architect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terogeneous multiprocesso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 memory sys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urnaround ti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’t probe interior direc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uter-controlled telephone switc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bits sampl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A law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 period (8 kHz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s are I/O de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r bus is swit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666880"/>
            <a:ext cx="12193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4038480"/>
            <a:ext cx="1523880" cy="838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2209680"/>
            <a:ext cx="761760" cy="12193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228600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4419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93432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381880" y="2209680"/>
            <a:ext cx="533520" cy="1143000"/>
            <a:chOff x="8381880" y="2209680"/>
            <a:chExt cx="533520" cy="1143000"/>
          </a:xfrm>
        </p:grpSpPr>
        <p:sp>
          <p:nvSpPr>
            <p:cNvPr id="108" name=""/>
            <p:cNvSpPr/>
            <p:nvPr/>
          </p:nvSpPr>
          <p:spPr>
            <a:xfrm flipH="1" rot="16200000">
              <a:off x="8038800" y="2628720"/>
              <a:ext cx="990360" cy="30492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 rot="16200000">
              <a:off x="8496360" y="2247840"/>
              <a:ext cx="457200" cy="38088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 rot="16200000">
              <a:off x="8496360" y="2933640"/>
              <a:ext cx="457200" cy="38088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H="1">
            <a:off x="81529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91520" y="4267080"/>
            <a:ext cx="761760" cy="12193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381880" y="4267080"/>
            <a:ext cx="533520" cy="1143000"/>
            <a:chOff x="8381880" y="4267080"/>
            <a:chExt cx="533520" cy="1143000"/>
          </a:xfrm>
        </p:grpSpPr>
        <p:sp>
          <p:nvSpPr>
            <p:cNvPr id="115" name=""/>
            <p:cNvSpPr/>
            <p:nvPr/>
          </p:nvSpPr>
          <p:spPr>
            <a:xfrm flipH="1" rot="16200000">
              <a:off x="8038800" y="4686120"/>
              <a:ext cx="990360" cy="30492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 rot="16200000">
              <a:off x="8496360" y="4305240"/>
              <a:ext cx="457200" cy="38088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 rot="16200000">
              <a:off x="8496360" y="4991040"/>
              <a:ext cx="457200" cy="38088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H="1">
            <a:off x="815292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638680" y="2730600"/>
            <a:ext cx="2273400" cy="2146320"/>
            <a:chOff x="5638680" y="2730600"/>
            <a:chExt cx="2273400" cy="2146320"/>
          </a:xfrm>
        </p:grpSpPr>
        <p:sp>
          <p:nvSpPr>
            <p:cNvPr id="120" name=""/>
            <p:cNvSpPr/>
            <p:nvPr/>
          </p:nvSpPr>
          <p:spPr>
            <a:xfrm>
              <a:off x="5638680" y="4038480"/>
              <a:ext cx="304920" cy="838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3600" y="2730600"/>
              <a:ext cx="1968480" cy="1790640"/>
            </a:xfrm>
            <a:custGeom>
              <a:avLst/>
              <a:gdLst/>
              <a:ahLst/>
              <a:rect l="l" t="t" r="r" b="b"/>
              <a:pathLst>
                <a:path w="1240" h="1128">
                  <a:moveTo>
                    <a:pt x="1200" y="56"/>
                  </a:moveTo>
                  <a:cubicBezTo>
                    <a:pt x="1220" y="48"/>
                    <a:pt x="1240" y="40"/>
                    <a:pt x="1152" y="56"/>
                  </a:cubicBezTo>
                  <a:cubicBezTo>
                    <a:pt x="1064" y="72"/>
                    <a:pt x="776" y="0"/>
                    <a:pt x="672" y="152"/>
                  </a:cubicBezTo>
                  <a:cubicBezTo>
                    <a:pt x="568" y="304"/>
                    <a:pt x="640" y="808"/>
                    <a:pt x="528" y="968"/>
                  </a:cubicBezTo>
                  <a:cubicBezTo>
                    <a:pt x="416" y="1128"/>
                    <a:pt x="208" y="1120"/>
                    <a:pt x="0" y="111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638680" y="4038480"/>
            <a:ext cx="2210040" cy="838440"/>
            <a:chOff x="5638680" y="4038480"/>
            <a:chExt cx="2210040" cy="838440"/>
          </a:xfrm>
        </p:grpSpPr>
        <p:sp>
          <p:nvSpPr>
            <p:cNvPr id="123" name=""/>
            <p:cNvSpPr/>
            <p:nvPr/>
          </p:nvSpPr>
          <p:spPr>
            <a:xfrm>
              <a:off x="5638680" y="4038480"/>
              <a:ext cx="304920" cy="838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43600" y="4419720"/>
              <a:ext cx="1905120" cy="457200"/>
            </a:xfrm>
            <a:custGeom>
              <a:avLst/>
              <a:gdLst/>
              <a:ahLst/>
              <a:rect l="l" t="t" r="r" b="b"/>
              <a:pathLst>
                <a:path w="1200" h="288">
                  <a:moveTo>
                    <a:pt x="0" y="0"/>
                  </a:moveTo>
                  <a:cubicBezTo>
                    <a:pt x="272" y="4"/>
                    <a:pt x="544" y="8"/>
                    <a:pt x="672" y="48"/>
                  </a:cubicBezTo>
                  <a:cubicBezTo>
                    <a:pt x="800" y="88"/>
                    <a:pt x="680" y="200"/>
                    <a:pt x="768" y="240"/>
                  </a:cubicBezTo>
                  <a:cubicBezTo>
                    <a:pt x="856" y="280"/>
                    <a:pt x="1028" y="284"/>
                    <a:pt x="1200" y="28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al-tone multi-frequency (DTMF): tones define row, column of k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be held for 0.1 se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21337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21337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133720"/>
            <a:ext cx="7617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30481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30481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3048120"/>
            <a:ext cx="7617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39625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9625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91520" y="3962520"/>
            <a:ext cx="7617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48769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48769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4876920"/>
            <a:ext cx="7617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105520" y="1905120"/>
            <a:ext cx="3200400" cy="4038480"/>
            <a:chOff x="5105520" y="1905120"/>
            <a:chExt cx="3200400" cy="4038480"/>
          </a:xfrm>
        </p:grpSpPr>
        <p:sp>
          <p:nvSpPr>
            <p:cNvPr id="140" name=""/>
            <p:cNvSpPr/>
            <p:nvPr/>
          </p:nvSpPr>
          <p:spPr>
            <a:xfrm flipV="1">
              <a:off x="5638680" y="1905120"/>
              <a:ext cx="0" cy="4038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705720" y="1905120"/>
              <a:ext cx="0" cy="4038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772400" y="1905120"/>
              <a:ext cx="0" cy="4038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105520" y="2514600"/>
              <a:ext cx="32004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105520" y="3429000"/>
              <a:ext cx="32004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105520" y="4343400"/>
              <a:ext cx="32004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105520" y="5257800"/>
              <a:ext cx="32004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ll  sta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8954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h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1828800"/>
            <a:ext cx="198108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v ri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2666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-h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4952880"/>
            <a:ext cx="106668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9528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41911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5400" y="167652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eiv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3600" y="46893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c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057400" y="2209320"/>
            <a:ext cx="1905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2209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133720" y="3048120"/>
            <a:ext cx="4876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17880" y="202248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4960" y="194616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off-h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34280" y="2971800"/>
            <a:ext cx="2103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n-h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3657600"/>
            <a:ext cx="838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5334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781680" y="49525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77240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89280" y="38512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off-h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6680" y="449568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decoder 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93360" y="5299200"/>
            <a:ext cx="13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6600" y="3352680"/>
            <a:ext cx="16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-h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549440" y="1488960"/>
            <a:ext cx="6070680" cy="1787760"/>
            <a:chOff x="1549440" y="1488960"/>
            <a:chExt cx="6070680" cy="1787760"/>
          </a:xfrm>
        </p:grpSpPr>
        <p:sp>
          <p:nvSpPr>
            <p:cNvPr id="173" name=""/>
            <p:cNvSpPr/>
            <p:nvPr/>
          </p:nvSpPr>
          <p:spPr>
            <a:xfrm>
              <a:off x="1549440" y="1612800"/>
              <a:ext cx="6070680" cy="1663920"/>
            </a:xfrm>
            <a:custGeom>
              <a:avLst/>
              <a:gdLst/>
              <a:ahLst/>
              <a:rect l="l" t="t" r="r" b="b"/>
              <a:pathLst>
                <a:path w="3824" h="1048">
                  <a:moveTo>
                    <a:pt x="224" y="904"/>
                  </a:moveTo>
                  <a:cubicBezTo>
                    <a:pt x="112" y="976"/>
                    <a:pt x="0" y="1048"/>
                    <a:pt x="320" y="904"/>
                  </a:cubicBezTo>
                  <a:cubicBezTo>
                    <a:pt x="640" y="760"/>
                    <a:pt x="1560" y="80"/>
                    <a:pt x="2144" y="40"/>
                  </a:cubicBezTo>
                  <a:cubicBezTo>
                    <a:pt x="2728" y="0"/>
                    <a:pt x="3276" y="332"/>
                    <a:pt x="3824" y="66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0760" y="1488960"/>
              <a:ext cx="9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Lin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76520" y="3352680"/>
            <a:ext cx="5867280" cy="1955880"/>
            <a:chOff x="1676520" y="3352680"/>
            <a:chExt cx="5867280" cy="1955880"/>
          </a:xfrm>
        </p:grpSpPr>
        <p:sp>
          <p:nvSpPr>
            <p:cNvPr id="176" name=""/>
            <p:cNvSpPr/>
            <p:nvPr/>
          </p:nvSpPr>
          <p:spPr>
            <a:xfrm>
              <a:off x="1676520" y="3352680"/>
              <a:ext cx="5867280" cy="1955880"/>
            </a:xfrm>
            <a:custGeom>
              <a:avLst/>
              <a:gdLst/>
              <a:ahLst/>
              <a:rect l="l" t="t" r="r" b="b"/>
              <a:pathLst>
                <a:path w="3696" h="1232">
                  <a:moveTo>
                    <a:pt x="0" y="48"/>
                  </a:moveTo>
                  <a:cubicBezTo>
                    <a:pt x="132" y="464"/>
                    <a:pt x="264" y="880"/>
                    <a:pt x="720" y="1056"/>
                  </a:cubicBezTo>
                  <a:cubicBezTo>
                    <a:pt x="1176" y="1232"/>
                    <a:pt x="2272" y="1160"/>
                    <a:pt x="2736" y="1104"/>
                  </a:cubicBezTo>
                  <a:cubicBezTo>
                    <a:pt x="3200" y="1048"/>
                    <a:pt x="3344" y="904"/>
                    <a:pt x="3504" y="720"/>
                  </a:cubicBezTo>
                  <a:cubicBezTo>
                    <a:pt x="3664" y="536"/>
                    <a:pt x="3680" y="268"/>
                    <a:pt x="369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52160" y="4308480"/>
              <a:ext cx="9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Lin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H="1">
            <a:off x="1980720" y="2895480"/>
            <a:ext cx="52578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BX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s are parallel proces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3048120"/>
            <a:ext cx="48006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coordination, billing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403848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6668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403848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4008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2560" y="4191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gerswitch syste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 platfo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 calls over ISA b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 cards are custom de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07-14T21:14:23Z</dcterms:modified>
  <cp:revision>67</cp:revision>
  <dc:subject/>
  <dc:title>No Slide Title</dc:title>
</cp:coreProperties>
</file>