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14F-0D27-4A7E-A83A-728229AE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C65-4121-4E99-866F-0C1AA43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2D2-8BC1-47E8-B0C7-516AAE6E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708-BB22-4F5F-91C4-E130A725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E9C1-0AAA-4CF5-AF83-86FDF5D0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51C9-3AD8-4292-835C-45F5F81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0F3-F6E7-442C-AF46-A3B04972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D193-CD14-4994-BCA4-196CBAD6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D9F5-C576-45F5-BB2E-D69CEB3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D695-EE5A-4FCE-833B-773E1AD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B829-E54C-4C10-BEEB-DD91759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D88-B7F5-4D02-9FA9-DACD9BE3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5184-9E62-4D63-8303-402EFFD3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270-0E3F-47E0-BD8C-EC315D1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D4C-0CE7-4AF3-9F65-85B63A9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CC58-E4DE-4BA7-B5A9-27F4C3E3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A304-3326-4192-A791-E950C939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931-B6DE-4BC0-9CD1-AFEC9CAC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A4C-E150-4D41-93AD-7FA949A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C18-735C-42D4-B9C8-2C030A6D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B6E-8D0B-4C8A-BBF7-AA55332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AEA-827D-4C7E-8672-99B80B6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D82-100F-4F14-9B1A-DE4E1FF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3B8-3F49-45AD-AD5E-CC36CFD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C1D-DCAF-4D58-8A94-CFF7035C28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2C2A-B88C-4375-9517-56492F33C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initiation discip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iodic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xecutes on (almost) eve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eriodic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xecutes on dem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ing aperiodic process sets is harder---must consider worst-case combinations of process activatio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ing requirements on 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i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val between process activ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itiation interv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ciprocal of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itiation 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at which process becomes rea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ad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at which process must fini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ing viol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if a process doesn’t finish by its deadli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rd dead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ystem fails if mis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ft dead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user may notice, but system doesn’t necessarily f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pace Shuttle software err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 Shuttle’s first launch was delayed by a software timing err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control system PASS and backup system B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FS failed to synchronize with P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o one routine added delay that threw off start time calcu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in 67 chance of timing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ocess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process commun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P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OS provides mechanisms so that processes can pass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 of seman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ending process waits for respons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ending process contin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C sty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em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 have some memory in comm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operate to avoid destroying/missing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pa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 send messages along a communication channel---no common address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emory on a bu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51814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971800"/>
            <a:ext cx="160020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200400"/>
            <a:ext cx="16002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657600"/>
            <a:ext cx="2311200" cy="1689120"/>
          </a:xfrm>
          <a:custGeom>
            <a:avLst/>
            <a:gdLst/>
            <a:ahLst/>
            <a:rect l="l" t="t" r="r" b="b"/>
            <a:pathLst>
              <a:path w="1456" h="1064">
                <a:moveTo>
                  <a:pt x="96" y="480"/>
                </a:moveTo>
                <a:cubicBezTo>
                  <a:pt x="48" y="660"/>
                  <a:pt x="0" y="840"/>
                  <a:pt x="192" y="912"/>
                </a:cubicBezTo>
                <a:cubicBezTo>
                  <a:pt x="384" y="984"/>
                  <a:pt x="1040" y="1064"/>
                  <a:pt x="1248" y="912"/>
                </a:cubicBezTo>
                <a:cubicBezTo>
                  <a:pt x="1456" y="760"/>
                  <a:pt x="1448" y="380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657600"/>
            <a:ext cx="2628720" cy="1689120"/>
          </a:xfrm>
          <a:custGeom>
            <a:avLst/>
            <a:gdLst/>
            <a:ahLst/>
            <a:rect l="l" t="t" r="r" b="b"/>
            <a:pathLst>
              <a:path w="1656" h="1064">
                <a:moveTo>
                  <a:pt x="1536" y="480"/>
                </a:moveTo>
                <a:cubicBezTo>
                  <a:pt x="1596" y="660"/>
                  <a:pt x="1656" y="840"/>
                  <a:pt x="1440" y="912"/>
                </a:cubicBezTo>
                <a:cubicBezTo>
                  <a:pt x="1224" y="984"/>
                  <a:pt x="480" y="1064"/>
                  <a:pt x="240" y="912"/>
                </a:cubicBezTo>
                <a:cubicBezTo>
                  <a:pt x="0" y="760"/>
                  <a:pt x="0" y="38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ce condition in shared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when two CPUs try to write the same lo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1 reads flag and sees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2 reads flag and sees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1 sets flag to one and writes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2 sets flag to one and overwrites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omic test-and-s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can be solved with an atomic test-and-s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bus operation reads memory location, tests it, writes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test-and-set provided by SW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R r0,SEMAPH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R r1,#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FLAG SWP r1,r1,[r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NZ GET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reg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itical reg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ction of code that cannot be interrupted by another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shared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ng I/O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ng system controls resour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gets the CP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/O takes pl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memo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important resource is the CPU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access controlled by the schedu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maph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maph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S primitive for controlling access to critical reg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access to semaphore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(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critical region op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semaphore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(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 pa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passing on a networ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1814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4475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495680"/>
            <a:ext cx="14475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311560" y="4952880"/>
            <a:ext cx="4546440" cy="838440"/>
            <a:chOff x="2311560" y="4952880"/>
            <a:chExt cx="4546440" cy="838440"/>
          </a:xfrm>
        </p:grpSpPr>
        <p:sp>
          <p:nvSpPr>
            <p:cNvPr id="186" name=""/>
            <p:cNvSpPr/>
            <p:nvPr/>
          </p:nvSpPr>
          <p:spPr>
            <a:xfrm>
              <a:off x="2311560" y="4952880"/>
              <a:ext cx="4546440" cy="533520"/>
            </a:xfrm>
            <a:custGeom>
              <a:avLst/>
              <a:gdLst/>
              <a:ahLst/>
              <a:rect l="l" t="t" r="r" b="b"/>
              <a:pathLst>
                <a:path w="2864" h="336">
                  <a:moveTo>
                    <a:pt x="80" y="0"/>
                  </a:moveTo>
                  <a:cubicBezTo>
                    <a:pt x="40" y="0"/>
                    <a:pt x="0" y="0"/>
                    <a:pt x="80" y="48"/>
                  </a:cubicBezTo>
                  <a:cubicBezTo>
                    <a:pt x="160" y="96"/>
                    <a:pt x="168" y="248"/>
                    <a:pt x="560" y="288"/>
                  </a:cubicBezTo>
                  <a:cubicBezTo>
                    <a:pt x="952" y="328"/>
                    <a:pt x="2048" y="336"/>
                    <a:pt x="2432" y="288"/>
                  </a:cubicBezTo>
                  <a:cubicBezTo>
                    <a:pt x="2816" y="240"/>
                    <a:pt x="2840" y="120"/>
                    <a:pt x="286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5334120"/>
              <a:ext cx="1447920" cy="457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data dependen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process may not be able to start until another finish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ependencies defined in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 grap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rocesses in one task run at the sam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2860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2860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80988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9718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86240" y="29718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50292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operating system fun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/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cess can be in one of three st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ecu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the CP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u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ai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22860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419112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419112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86040" y="297180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2437920"/>
            <a:ext cx="9144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648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971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7238520" y="251424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52000" y="2529000"/>
            <a:ext cx="110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360" y="3276720"/>
            <a:ext cx="76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6252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2880" y="46483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7600" y="3048120"/>
            <a:ext cx="1256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em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3440" y="2895480"/>
            <a:ext cx="6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ng system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needs to keep track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ioriti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stat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activation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may be crea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ally before system star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ally during exec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bedded vs. general-purpose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tations try to avoid starving processes of CPU ac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 = access to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systems must meet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processes may not run for a long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-driven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rocess has a prio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goes to highest-priority process that is rea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ies determine scheduling polic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rior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varying prior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-driven schedul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rocess has a fixed priority (1 highes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st-priority ready process gets CP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continues until done or wait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: priority 1, execution time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2: priority 2, execution time 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3: priority 3, execution time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-driven schedul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8769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5720" y="5562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560" y="2362320"/>
            <a:ext cx="1761120" cy="1253880"/>
            <a:chOff x="457560" y="2362320"/>
            <a:chExt cx="1761120" cy="1253880"/>
          </a:xfrm>
        </p:grpSpPr>
        <p:sp>
          <p:nvSpPr>
            <p:cNvPr id="116" name=""/>
            <p:cNvSpPr/>
            <p:nvPr/>
          </p:nvSpPr>
          <p:spPr>
            <a:xfrm>
              <a:off x="853920" y="293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560" y="2362320"/>
              <a:ext cx="176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 read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286360" y="2362320"/>
            <a:ext cx="1913400" cy="1253880"/>
            <a:chOff x="2286360" y="2362320"/>
            <a:chExt cx="1913400" cy="1253880"/>
          </a:xfrm>
        </p:grpSpPr>
        <p:sp>
          <p:nvSpPr>
            <p:cNvPr id="119" name=""/>
            <p:cNvSpPr/>
            <p:nvPr/>
          </p:nvSpPr>
          <p:spPr>
            <a:xfrm>
              <a:off x="2682720" y="293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360" y="2362320"/>
              <a:ext cx="19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 read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=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743560" y="1905120"/>
            <a:ext cx="1913400" cy="1711080"/>
            <a:chOff x="2743560" y="1905120"/>
            <a:chExt cx="1913400" cy="1711080"/>
          </a:xfrm>
        </p:grpSpPr>
        <p:sp>
          <p:nvSpPr>
            <p:cNvPr id="122" name=""/>
            <p:cNvSpPr/>
            <p:nvPr/>
          </p:nvSpPr>
          <p:spPr>
            <a:xfrm>
              <a:off x="3048120" y="2286000"/>
              <a:ext cx="15840" cy="13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560" y="1905120"/>
              <a:ext cx="19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 read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=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1040" y="51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87840" y="48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6400" y="5181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160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97720" y="48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6640" y="5181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7148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962520"/>
            <a:ext cx="190476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3962520"/>
            <a:ext cx="12956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62520"/>
            <a:ext cx="251460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cheduling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we meet all deadli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able to meet deadlines in all ca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CPU horsepower do we need to meet our deadli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09:22:26Z</dcterms:modified>
  <cp:revision>60</cp:revision>
  <dc:subject/>
  <dc:title>No Slide Title</dc:title>
</cp:coreProperties>
</file>