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537-1BBD-43D9-94CB-8F970A62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8C8-4666-4152-890C-38D9AE45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67A-C285-4C2E-AFA1-2CC2BEAF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288-98D3-4679-A1CE-17284770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B262-54C3-4238-BB60-3757AB41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EAAA-72B1-4F0D-A1A0-90E80594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B1C9-37EF-4738-BA55-72664E92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96FB-5878-41F0-B9D0-39530C57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00EC-7072-4692-AACA-F24DF2B1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1EAA-33F3-454E-9636-DCA1ECE5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9298-4963-47FE-BF95-B44367C6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AF7-A642-44F3-9CB2-9EC5D5ED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BE1E-DAF2-4C44-A900-EE74D7F1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8029-D232-4854-9CD7-F44A19B6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9D79-8D12-4999-9054-6FDDFA56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BD66-0587-49EA-890D-A7688910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93AC-2F04-4E8C-8DE0-8C67928D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681-F47D-4684-91A3-8FFCA351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224E-9721-402C-9CD8-196B623A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4F7-5960-4515-825D-3DF107D5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5FDA-B366-4B9B-B01F-12BF9A96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D78-FF50-4738-9F58-BA2BB50E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FED-A533-4AFF-892B-AD3B3189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F34-876D-498D-84A6-8AE30E93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2043-5832-4773-8E66-AD64ABA866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DAE6-57BA-4B4D-B35F-D75EA93155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and oper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 for proc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ocess abstra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xt switc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ask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es and UM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in POSI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process with for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ent process keeps executing old program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d process executes new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2133720"/>
            <a:ext cx="1447920" cy="1447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4114800"/>
            <a:ext cx="1447920" cy="144792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4114800"/>
            <a:ext cx="1447920" cy="14479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790960" y="3581280"/>
            <a:ext cx="6094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34320" y="3581280"/>
            <a:ext cx="6094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k(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rk process creates chil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did = fork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childid == 0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* child operations *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* parent operations *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ecv(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ays child co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did = fork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childid == 0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v(“mychild”,childarg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ror(“execv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2819520" y="3657240"/>
            <a:ext cx="2286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9080" y="4232160"/>
            <a:ext cx="25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with child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xt switch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controls when the context is switch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s the context switch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-operative multitas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ovement on co-routi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des context switching mechanis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relies on processes to give up CP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process allows a context switch at cswitch() ca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e scheduler chooses which process runs nex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lems with co-operative multitas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errors can keep other processes o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never gives up CPU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aits too long to switch, missing inp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xt switch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copy all registers to activation record, keeping proper return value for P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copy new activation record into CPU st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program that copies the context keep its own contex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xt switching in AR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ve old pro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MIA r13,{r0-r14}^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RS r0,SPS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MDB r13,{r0,r15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new pro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R r0,NEXTPR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R r13,[r0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MDB r13,{r0,r14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R SPSR,r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MIA r13,{r0-r14}^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S pc,r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eemptive multitas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powerful form of multitask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 controls when contexts switch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 determines what process runs nex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imer to call OS, switch contex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4343400"/>
            <a:ext cx="137160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5029200" y="4724280"/>
            <a:ext cx="129528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191120" y="4648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73840" y="42051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low of control with preem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5720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79880" y="46134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3657600"/>
            <a:ext cx="18288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65760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3657600"/>
            <a:ext cx="18288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365760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3657600"/>
            <a:ext cx="182880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64520" y="24796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73640" y="300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7600" y="2514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 multiple processe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es help us manage timing complexit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o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in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eemptive context switch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r interrupt gives control to OS, which saves interrupted process’s state in an activation rec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 chooses next process to r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 installs desired activation record as current CPU stat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 not use interrupt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ould change the interrupt vector at every period, b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ould need management code anywa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ould have to know the next period’s process at the start of the current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and UM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cess is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ctive 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--independent thread of contr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2895480"/>
            <a:ext cx="274320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Clas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3657600"/>
            <a:ext cx="27432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Operation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4572000"/>
            <a:ext cx="27432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3276720"/>
            <a:ext cx="2743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440" y="46483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2895480"/>
            <a:ext cx="2743200" cy="2819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ML sign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ig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object that is passed between processes for active communic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3809880"/>
            <a:ext cx="266688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mm: data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ing with active obj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mix normal and active objec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124080"/>
            <a:ext cx="2438640" cy="53352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: processClas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5257800"/>
            <a:ext cx="2743200" cy="53352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: mast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4267080"/>
            <a:ext cx="2590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: wrap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34290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457200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7440" y="342900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raw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8480" y="434340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at: full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engine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r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ankshaft sen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el/air mix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xygen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lman fil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2666880"/>
            <a:ext cx="137160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3048120"/>
            <a:ext cx="10666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5067360" y="2400120"/>
            <a:ext cx="76176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3505320"/>
            <a:ext cx="15228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345800">
            <a:off x="5014440" y="3409920"/>
            <a:ext cx="304920" cy="16099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1609920"/>
              <a:gd name="textAreaBottom" fmla="*/ 1595160 h 1609920"/>
            </a:gdLst>
            <a:ahLst/>
            <a:rect l="textAreaLeft" t="textAreaTop" r="textAreaRight" b="textAreaBottom"/>
            <a:pathLst>
              <a:path w="21600" h="113935">
                <a:moveTo>
                  <a:pt x="3600" y="0"/>
                </a:moveTo>
                <a:arcTo wR="3600" hR="3600" stAng="16200000" swAng="-5400000"/>
                <a:lnTo>
                  <a:pt x="0" y="110335"/>
                </a:lnTo>
                <a:arcTo wR="3600" hR="3600" stAng="10800000" swAng="-5400000"/>
                <a:lnTo>
                  <a:pt x="18000" y="1139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4724280"/>
            <a:ext cx="838440" cy="8384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5029200"/>
            <a:ext cx="228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3124080"/>
            <a:ext cx="12952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9920" y="4114800"/>
            <a:ext cx="1676160" cy="1066680"/>
          </a:xfrm>
          <a:custGeom>
            <a:avLst/>
            <a:gdLst/>
            <a:ahLst/>
            <a:rect l="l" t="t" r="r" b="b"/>
            <a:pathLst>
              <a:path w="1056" h="672">
                <a:moveTo>
                  <a:pt x="48" y="672"/>
                </a:moveTo>
                <a:cubicBezTo>
                  <a:pt x="24" y="660"/>
                  <a:pt x="0" y="648"/>
                  <a:pt x="144" y="624"/>
                </a:cubicBezTo>
                <a:cubicBezTo>
                  <a:pt x="288" y="600"/>
                  <a:pt x="768" y="632"/>
                  <a:pt x="912" y="528"/>
                </a:cubicBezTo>
                <a:cubicBezTo>
                  <a:pt x="1056" y="424"/>
                  <a:pt x="1032" y="212"/>
                  <a:pt x="100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1739880"/>
            <a:ext cx="2209680" cy="1384200"/>
          </a:xfrm>
          <a:custGeom>
            <a:avLst/>
            <a:gdLst/>
            <a:ahLst/>
            <a:rect l="l" t="t" r="r" b="b"/>
            <a:pathLst>
              <a:path w="1392" h="872">
                <a:moveTo>
                  <a:pt x="0" y="248"/>
                </a:moveTo>
                <a:cubicBezTo>
                  <a:pt x="412" y="124"/>
                  <a:pt x="824" y="0"/>
                  <a:pt x="1056" y="104"/>
                </a:cubicBezTo>
                <a:cubicBezTo>
                  <a:pt x="1288" y="208"/>
                  <a:pt x="1340" y="540"/>
                  <a:pt x="1392" y="8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fe without proce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urns into a m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ruptions of one task for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ghetti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22096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80920" y="23763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2286000"/>
            <a:ext cx="38124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3124080"/>
            <a:ext cx="38124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3733920"/>
            <a:ext cx="381240" cy="5331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4267080"/>
            <a:ext cx="381240" cy="838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5105520"/>
            <a:ext cx="381240" cy="5331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36520" y="2174760"/>
            <a:ext cx="214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_cod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_cod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C) C_cod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_cod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(x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C: C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D: 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-routi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R r14,co2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1a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R r13,co1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 r15,r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1b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R r13,co1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 r15,r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1c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2a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R r13,co2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 r15,r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2b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R r13,co2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 r15,r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2c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213372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819520" y="2286000"/>
            <a:ext cx="2209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24382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752480" y="3276720"/>
            <a:ext cx="320040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41911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048120" y="3885840"/>
            <a:ext cx="19810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41911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27160" y="148896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-routi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152388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-routi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-routine method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ke subroutine, but caller determines the return add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-routines voluntarily give up control to other co-routi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ttern of control transfers is embedded in the 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cess is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nique execu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a prog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copies of a program may run simultaneously or at different ti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cess has its own sta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rating system manages proc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and CP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ctivation recor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opy of process st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witc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CPU context goes ou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CPU context goes 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2133720"/>
            <a:ext cx="2133360" cy="2590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55080" y="4343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2438280"/>
            <a:ext cx="1371600" cy="4572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86600" y="3124080"/>
            <a:ext cx="137160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2133720"/>
            <a:ext cx="1905120" cy="37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24382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3429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560" y="44197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171840" y="3200040"/>
            <a:ext cx="106668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095880" y="3962160"/>
            <a:ext cx="106704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8120" y="541008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hread = lightweight proc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 process that shares memory space with other proc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entra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bility of a program to be executed several times with the same resul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Wayne Wolf</cp:lastModifiedBy>
  <dcterms:modified xsi:type="dcterms:W3CDTF">2000-07-13T09:19:28Z</dcterms:modified>
  <cp:revision>52</cp:revision>
  <dc:subject/>
  <dc:title>No Slide Title</dc:title>
</cp:coreProperties>
</file>