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1826-D665-4151-985A-FBAF6B209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C456-9769-4B36-950B-38493B9BD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A513-D9B2-4460-9E4F-F85350267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7B55-7157-4321-9C48-365256EBD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52663-C079-460C-A98F-E06D391B8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6546D-66BD-4168-AFB1-2503F2605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92AB0-88AF-4E6D-90B6-F85BCCB79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EB6C5-F49A-454A-A1C1-AB710CDB3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1E139-2D4D-4FBC-A6C4-1215925B2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0D9FA-A205-4D65-A9A0-F51640F89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05338-3F85-499F-85A6-6ABFA7FF2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780A-9B8F-4B0E-8FDC-AAE988745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2C2D1-B0F1-4585-A08A-1689C117F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5B731-A0A7-4719-A66B-2F83352DA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A4B96-8CA9-44B4-BFF5-6A3CF169D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F5D7F-644C-4C7D-AAA1-4C6A1035B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2FBE2-FF53-4454-B820-F044B3E39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60DE-E8EA-4E5E-8866-1719FADD1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64A9-2FF0-4294-88A2-37B2D8017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1CC5-394D-40A9-A4A0-44550C6C6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BFFB-8B89-45DF-9EE7-92477A3B1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3A06-031D-4590-A7BE-45230BFBD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3278-95D1-4593-80C8-77F7815B6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17CF-9870-4681-AAC2-89CCC4AD0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© 2000 Morgan Kaufm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Overheads for </a:t>
            </a:r>
            <a:r>
              <a:rPr b="0" i="1" lang="en-US" sz="1400" spc="-1" strike="noStrike">
                <a:solidFill>
                  <a:srgbClr val="5e574e"/>
                </a:solidFill>
                <a:latin typeface="Arial"/>
              </a:rPr>
              <a:t>Computers as Compon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468DF-8E1D-4979-B895-7E4C87E78B9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38125-6169-41E2-BAAA-4B0AFDE2F55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nstruction set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er architecture taxonom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sembly languag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ssembly languag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e-to-one with instructions (more or less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sic featur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instruction per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bels provide names for addresses (usually in first column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ructions often start in later column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umns run to end of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RM assembly language exampl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label1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ADR r4,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LDR r0,[r4] ; a com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ADR r4,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LDR r1,[r4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UB r0,r0,r1 ; com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seudo-op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assembler directives don’t correspond directly to instruction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current addres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 storag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von Neumann architectur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mory holds data, instruction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entral processing unit (CPU) fetches instructions from memor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CPU and memory distinguishes programmable compute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PU registers help out: program counter (PC), instruction register (IR), general-purpose registers, etc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PU + memor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"/>
          <p:cNvSpPr/>
          <p:nvPr/>
        </p:nvSpPr>
        <p:spPr>
          <a:xfrm>
            <a:off x="1371600" y="1981080"/>
            <a:ext cx="2209680" cy="358164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952880" y="2743200"/>
            <a:ext cx="2286000" cy="2743200"/>
          </a:xfrm>
          <a:prstGeom prst="rect">
            <a:avLst/>
          </a:prstGeom>
          <a:solidFill>
            <a:srgbClr val="00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57800" y="3276720"/>
            <a:ext cx="1600200" cy="53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3581280" y="320040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581280" y="396252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642480" y="2708280"/>
            <a:ext cx="109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718440" y="347040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257800" y="4343400"/>
            <a:ext cx="160020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371600" y="4343400"/>
            <a:ext cx="2209680" cy="53352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DD r5,r1,r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19120" y="438480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716800" y="3276720"/>
            <a:ext cx="637920" cy="4597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3657240" y="3276360"/>
            <a:ext cx="1981080" cy="152280"/>
          </a:xfrm>
          <a:prstGeom prst="line">
            <a:avLst/>
          </a:prstGeom>
          <a:ln w="381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581280" y="4114800"/>
            <a:ext cx="1828800" cy="304920"/>
          </a:xfrm>
          <a:prstGeom prst="line">
            <a:avLst/>
          </a:prstGeom>
          <a:ln w="381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343400"/>
            <a:ext cx="2210040" cy="53352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DD r5,r1,r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Harvard architectur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"/>
          <p:cNvSpPr/>
          <p:nvPr/>
        </p:nvSpPr>
        <p:spPr>
          <a:xfrm>
            <a:off x="5257800" y="2362320"/>
            <a:ext cx="2286000" cy="2743200"/>
          </a:xfrm>
          <a:prstGeom prst="rect">
            <a:avLst/>
          </a:prstGeom>
          <a:solidFill>
            <a:srgbClr val="00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562720" y="2895480"/>
            <a:ext cx="160020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143000" y="2514600"/>
            <a:ext cx="2743200" cy="9144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143000" y="4114800"/>
            <a:ext cx="2743200" cy="9144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 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886200" y="266688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86200" y="342900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947400" y="2174760"/>
            <a:ext cx="109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23000" y="293688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3886200" y="419112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886200" y="495288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947400" y="3699000"/>
            <a:ext cx="109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023000" y="446076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von Neumann vs. Harvard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rvard can’t use self-modifying cod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rvard allows two simultaneous memory fetch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st DSPs use Harvard architecture for streaming data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memory bandwidth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predictable bandwidth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ISC vs. CISC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lex instruction set computer (</a:t>
            </a:r>
            <a:r>
              <a:rPr b="0" lang="en-US" sz="3200" spc="-1" strike="noStrike">
                <a:solidFill>
                  <a:srgbClr val="ff0033"/>
                </a:solidFill>
                <a:latin typeface="Tahoma"/>
              </a:rPr>
              <a:t>CISC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addressing modes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operation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duced instruction set computer (</a:t>
            </a:r>
            <a:r>
              <a:rPr b="0" lang="en-US" sz="3200" spc="-1" strike="noStrike">
                <a:solidFill>
                  <a:srgbClr val="ff0033"/>
                </a:solidFill>
                <a:latin typeface="Tahoma"/>
              </a:rPr>
              <a:t>RISC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/store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ipelinable instruction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nstruction set characteristic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xed vs. variable lengt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ressing mod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umber of operand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ypes of operand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rogramming mode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ahoma"/>
              </a:rPr>
              <a:t>Programming mode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registers visible to the programm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registers are not visible (IR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ultiple implementation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ccessful architectures have several implementation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ying clock speeds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bus widths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cache sizes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Wayne Wolf</dc:creator>
  <dc:description/>
  <dc:language>en-US</dc:language>
  <cp:lastModifiedBy>Preferred Customer</cp:lastModifiedBy>
  <dcterms:modified xsi:type="dcterms:W3CDTF">2000-08-23T02:15:38Z</dcterms:modified>
  <cp:revision>63</cp:revision>
  <dc:subject/>
  <dc:title>SHARC programming model</dc:title>
</cp:coreProperties>
</file>