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61A-216B-41D0-AF7E-BF6B46D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A11-1140-4BB3-93E0-187D75AA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AFA-ED44-48D6-A0D4-F63AE52F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758-AF44-4A99-8DFF-D4B4B793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AB3-08DC-4968-A9D7-84B7DAD4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4D7F-FE75-403D-8579-937483F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9D3-A4C0-4EA9-8158-BA7420E6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71B-30F7-4322-9169-C79B53E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0F4-951E-4029-9C82-24D32AA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ACEC-7A89-46C1-9C6D-205EF74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422-B05F-496F-AF3E-2B3DB2D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10D-8EDD-41F4-A1B9-8F8971E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D25-0100-4C1F-A696-D9CFAF7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2312-0B77-4430-861A-7EE12B2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D000-0EF0-443E-8996-00A63C2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3EDA-4333-4D29-8C1E-D70653BA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BC8C-7765-45D1-B1B0-31593979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4A4-1134-4316-94AE-FF5F0A9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9B5-C8DE-4A76-8D3E-775EE68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313-05D4-4E46-B496-27A6A5E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E82-79EB-420C-88A1-5A4F5FE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845-BA40-4B6D-9EA4-A5409D0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15A-D714-48A7-9649-CDC6061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BCC-258D-4960-B21F-07287F19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A2A-B823-40AA-9012-89E62AF3D8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D05-93CB-4B1A-96B8-9B3689B8C8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video accel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828800"/>
            <a:ext cx="1295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Motion-esti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51460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124080"/>
            <a:ext cx="3808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124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3733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1720" y="2631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-mv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0920" y="32004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44956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0920" y="39625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66880" y="5410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0920" y="48769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7880" y="2819520"/>
            <a:ext cx="2057400" cy="76176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819520"/>
            <a:ext cx="380880" cy="15228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80160" y="4343400"/>
            <a:ext cx="2057400" cy="114300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34340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large amount of mem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roblock has 256 pixe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area has 1,089 pix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eed external memory (especially if buffering multiple macroblocks/search are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on estimator organ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80880" y="3657240"/>
            <a:ext cx="21337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057400" y="2133000"/>
            <a:ext cx="160020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057400" y="4876200"/>
            <a:ext cx="160020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200400" y="2285640"/>
            <a:ext cx="1600200" cy="533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581280"/>
            <a:ext cx="68580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00400" y="5028840"/>
            <a:ext cx="1600200" cy="533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828800"/>
            <a:ext cx="914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3276720"/>
            <a:ext cx="16002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590920"/>
            <a:ext cx="9144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5562720"/>
            <a:ext cx="91440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954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19920" y="388584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82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9080" y="403848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520" y="369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22096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3124080"/>
            <a:ext cx="8384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213336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267080" y="2895480"/>
            <a:ext cx="9144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xel sche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95520" y="1886040"/>
          <a:ext cx="590220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886040"/>
                    <a:ext cx="5902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2286000" y="2971800"/>
            <a:ext cx="3657600" cy="1752480"/>
            <a:chOff x="2286000" y="2971800"/>
            <a:chExt cx="3657600" cy="1752480"/>
          </a:xfrm>
        </p:grpSpPr>
        <p:sp>
          <p:nvSpPr>
            <p:cNvPr id="184" name=""/>
            <p:cNvSpPr/>
            <p:nvPr/>
          </p:nvSpPr>
          <p:spPr>
            <a:xfrm>
              <a:off x="2286000" y="2971800"/>
              <a:ext cx="175248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3809880"/>
              <a:ext cx="182880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24080" y="3317760"/>
              <a:ext cx="103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(0,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95480" y="4800600"/>
            <a:ext cx="3810240" cy="501120"/>
            <a:chOff x="2895480" y="4800600"/>
            <a:chExt cx="3810240" cy="501120"/>
          </a:xfrm>
        </p:grpSpPr>
        <p:sp>
          <p:nvSpPr>
            <p:cNvPr id="188" name=""/>
            <p:cNvSpPr/>
            <p:nvPr/>
          </p:nvSpPr>
          <p:spPr>
            <a:xfrm>
              <a:off x="2895480" y="4800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4800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6720" y="484200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(0,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requires a large amount of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imple patterns with obvious answers for initial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ct sample data from JPEG pictures for more realistic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accelerator f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ock motion esti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ne step in video com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 two-dimensional corre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114800"/>
            <a:ext cx="1676520" cy="16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114800"/>
            <a:ext cx="6094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4114800"/>
            <a:ext cx="6098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267080"/>
            <a:ext cx="60948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60984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ck motion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EG divides frame into 16 x 16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cro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motion esti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for best match within a search r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similarity with sum-of-absolute-differences (SA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M(i,j) - S(i-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j-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st ma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match produces motion vector for motion bloc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200400"/>
            <a:ext cx="2438280" cy="243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733920"/>
            <a:ext cx="7621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19720" y="4114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 search algorith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x = 0; besty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sad = MAXSA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ox = - SEARCHSIZE; ox &lt; SEARCHSIZE; ox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oy = -SEARCHSIZE; oy &lt; SEARCHSIZE; oy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result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MBSIZE; i++) {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j=0; j&lt;MBSIZE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+= iabs(mb[i][j] - search[i-ox+XCENTER][j-oy-YCENTER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 search algorithm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result &lt;= bestsad) { bestsad = result; bestx = ox; besty = oy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uta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BSIZE = 16, SEARCHSIZE = 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area is 8 + 8 + 1 in each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perfo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(16 x 16) x (17 x 17) = 73984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F format has 352 x 288 frames -&gt; 22 x 18 macroblo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1752480"/>
          <a:ext cx="6667560" cy="718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667560" cy="71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data types, basic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on-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2209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y : 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819520"/>
            <a:ext cx="22096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182880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cro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362320"/>
            <a:ext cx="23623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[] : pixel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819520"/>
            <a:ext cx="2362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1828800"/>
            <a:ext cx="2362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arch-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362320"/>
            <a:ext cx="23623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[] : pixel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819520"/>
            <a:ext cx="2362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9625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4495680"/>
            <a:ext cx="2209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4952880"/>
            <a:ext cx="22096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962520"/>
            <a:ext cx="26668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on-esti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495680"/>
            <a:ext cx="2666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952880"/>
            <a:ext cx="2666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-mv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22T02:43:41Z</dcterms:modified>
  <cp:revision>42</cp:revision>
  <dc:subject/>
  <dc:title>No Slide Title</dc:title>
</cp:coreProperties>
</file>