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2A4-06CB-4F48-B113-6D5D4CA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DDA-A3BD-4F75-9D2D-EC816B3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AFF-CD41-43C2-BC05-564A3501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86F-A5BB-4B2A-8859-C05B905C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FA4B-CB8D-4F4E-AE0C-FBCAC24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D46-194D-48E0-9FCB-0998D86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42C-E3AA-405F-989C-D25C6495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C8CC-E9F4-4D74-A0B1-7113DC5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717F-D2E6-4F32-BCE6-2C00E9C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654-FE9D-4C7B-BCF8-08683870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89E2-9A9B-4358-B368-0E81FA2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6AB-D324-44E2-8561-5285CBB0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738-8ABD-4887-913B-98C9C2A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5D8-A009-4C07-857F-9EBBFBA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5E12-316F-4416-8BFE-3EB3296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87BE-EFFA-4FAF-B79E-56B6C9E6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44B6-2558-448A-8C06-7154F1AA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F21-4F42-45B0-9A72-2B79774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5D0-687B-4609-A9E1-7422BFB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B10-EC5C-4E1F-B9A8-B96BFB9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231-8638-4962-BB98-6596280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1CB-2C33-4ADE-9305-6FB623B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1C9-E94C-47AE-AA76-9F4AFFA1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EE8-AE4D-4A29-9C24-2EF743A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9B9-1C79-4A6B-9636-31AE4D20B0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C4CC-4D17-485F-9937-E811917DE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mbedded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in embedded computing system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MW 850i brake and stability control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nti-lock brake system (ABS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umps brakes to reduce skid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utomatic stability control (ASC+T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rols engine to improve st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 and ASC+T communic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 was introduced first---needed to interface to existing ABS mo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1828800"/>
            <a:ext cx="7391520" cy="4343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MW 850i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8954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057400"/>
            <a:ext cx="106704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438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8954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2057400"/>
            <a:ext cx="106704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181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7242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715000"/>
            <a:ext cx="106668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181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7242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715000"/>
            <a:ext cx="106668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733920"/>
            <a:ext cx="990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3657600"/>
            <a:ext cx="1447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au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590560" y="304776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590560" y="45720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410080" y="3124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572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43200" y="449532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819160" y="22096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33920" y="2133360"/>
            <a:ext cx="21333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4956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stics of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phisticated function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tim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to tight deadlines by small t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complex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have to run sophisticated algorithms or multiple algorith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phone, laser pri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provide sophisticated user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-time op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finish operations by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Hard real ti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issing deadline causes fail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ft real ti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issing deadline results in degraded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ystems ar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ulti-r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ust handle operations at widely varying r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n-func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embedded systems are mass-market items that must have low manufacturing co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memory, microprocessor pow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consumption is critical in battery-powered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ive power consumption increases system cost even in wall-powered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te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designed by a small team of design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must meet tight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month market window is comm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miss back-to-school window for calc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use microprocessor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s: field-programmable gate arrays (FPGAs), custom logic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are often very efficient: can use same logic to perform many different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simplify the design of families of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erformance parad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use much more logic to implement a function than does custom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microprocessors are often at least as f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ily pipelin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design tea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ressive VLSI techn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 logic is a clear winner for low power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microprocessors offer features to help control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design techniques can help reduce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mbedded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ny device that includes a programmable computer but is not itself a general-purpose comp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dvantage of application characteristics to optimize the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ll the general-purpose bells and whist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llenges in embedded syste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hardware do we ne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big is the CPU? Mem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eet our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hardware or cleverer softwa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inimize pow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 off unnecessary logic? Reduce memory ac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llenges, etc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really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specification corre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the implementation meet the spe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est for real-time characteristi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est on real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work on the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bility, controlla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our development platfo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method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dure for designing a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your methodology helps you ensure you didn’t skip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, software engineering tools, computer-aided design (CAD) tools, etc., can be used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automate methodology step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the methodology it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speed,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ity and user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requirements (physical size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ls of abst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8288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6576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495680"/>
            <a:ext cx="19810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19810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p-down vs. bottom-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-down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most abstract descri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to most detai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from small components to big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design uses both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pwise refin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level of abstraction, we 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design to determine characteristics of the current state of the desig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ref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design to add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in language description of what the user wants and expects to g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developed in several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ing directly to custom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ing to marketing representativ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ing prototypes to users for com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vs. non-func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as a function of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functional 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required to compute outpu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, weight, etc.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r 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61960" y="1893960"/>
          <a:ext cx="6145200" cy="41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893960"/>
                    <a:ext cx="6145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676520"/>
            <a:ext cx="7315200" cy="457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bedding a compu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3270240"/>
            <a:ext cx="1359000" cy="13590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2360" y="4489560"/>
            <a:ext cx="977760" cy="1511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5880" y="3187800"/>
            <a:ext cx="990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25880" y="2044800"/>
            <a:ext cx="99072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198520"/>
            <a:ext cx="0" cy="36561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0640" y="394956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4160" y="265428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4160" y="379728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509256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4089240" cy="4089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8040" y="2502000"/>
            <a:ext cx="12938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018040" y="3645000"/>
            <a:ext cx="12938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18360" y="2279520"/>
            <a:ext cx="1663560" cy="673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18360" y="3346560"/>
            <a:ext cx="1663560" cy="672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522288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GPS moving map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809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map obtains position from GPS, paints map from local data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752480"/>
            <a:ext cx="3657600" cy="434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17524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616120"/>
            <a:ext cx="3657600" cy="1727280"/>
          </a:xfrm>
          <a:custGeom>
            <a:avLst/>
            <a:gdLst/>
            <a:ahLst/>
            <a:rect l="l" t="t" r="r" b="b"/>
            <a:pathLst>
              <a:path w="2304" h="1088">
                <a:moveTo>
                  <a:pt x="0" y="1088"/>
                </a:moveTo>
                <a:cubicBezTo>
                  <a:pt x="312" y="720"/>
                  <a:pt x="624" y="352"/>
                  <a:pt x="1008" y="176"/>
                </a:cubicBezTo>
                <a:cubicBezTo>
                  <a:pt x="1392" y="0"/>
                  <a:pt x="1848" y="16"/>
                  <a:pt x="230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1520" y="56386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: 40 13 lon: 32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76560" y="2479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527520" y="37598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ch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nee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or automotive use. Show major roads and landma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t least 400 x 600 pixel screen. Three buttons max. Pop-up men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erform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p should scroll smoothly. No more than 1 sec power-up. Lock onto GPS within 15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$500 street price = approx. $100 cost of goods s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need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hysical size/weig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hould fit in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ower consum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hould run for 8 hours on four AA batte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2760" y="1893960"/>
          <a:ext cx="443700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893960"/>
                    <a:ext cx="44370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re precise description of the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imply a particular architectu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input to the architecture design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include functional and non-functiona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executable or may be in mathematical form for proof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received from GP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required to satisfy user reques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perations needed to keep the system run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jor components go satisfying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s, peripheral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programs and their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take into account functional and non-functional specif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block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666880"/>
            <a:ext cx="1371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2666880"/>
            <a:ext cx="1371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42670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4191120"/>
            <a:ext cx="1371600" cy="144756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909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362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38080" y="2361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86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3505320"/>
            <a:ext cx="15238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858000" y="3200040"/>
            <a:ext cx="304920" cy="762120"/>
            <a:chOff x="6858000" y="3200040"/>
            <a:chExt cx="304920" cy="762120"/>
          </a:xfrm>
        </p:grpSpPr>
        <p:sp>
          <p:nvSpPr>
            <p:cNvPr id="228" name=""/>
            <p:cNvSpPr/>
            <p:nvPr/>
          </p:nvSpPr>
          <p:spPr>
            <a:xfrm>
              <a:off x="7010280" y="32004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3200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010280" y="32000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191120" y="20574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438280"/>
            <a:ext cx="11430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724280"/>
            <a:ext cx="15238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076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40044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9076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438280"/>
            <a:ext cx="1447920" cy="1067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438280"/>
            <a:ext cx="1143000" cy="1371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19720"/>
            <a:ext cx="1143000" cy="99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soft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898560" y="27846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2666880"/>
            <a:ext cx="16002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2666880"/>
            <a:ext cx="16002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191120"/>
            <a:ext cx="16002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4191120"/>
            <a:ext cx="16002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7080" y="2708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11444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276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digital assistant (PD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 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obile: engine, brakes, dash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v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hold applia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keyboard (scans key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ing hardware and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pend time architecting the system before you start 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components are ready-made,  some can be modified from existing designs, others must be designed from scrat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integ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ogether the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bugs appear only at this s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a plan for integrating components to uncover bugs quickly, test as much functionality as early as poss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computers are all around 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ystems have complex embedded hardware and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pose many design challenges: design time, deadlines, power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 help us manage the desig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his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1940’s: MIT Whirlwind computer was designed for real-time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ly designed to control an aircraft sim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microprocessor was Intel 4004 in early 1970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-35 calculator used several chips to implement a microprocessor in 197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history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obiles used microprocessor-based engine controllers starting in 1970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fuel/air mixture, engine ti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modes of operation: warm-up, cruise, hill climb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lower emissions, better fuel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processor varie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icrocontroller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cludes I/O devices, on-board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igital signal processor (DSP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croprocessor optimized for digital signal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embedded word sizes: 8-bit, 16-bit, 32-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control: front panel of microwave ove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 EOS 3 has three micro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-bit RISC CPU runs autofocus and eye control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 TV: channel selectio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TV: programmable CPUs + hardwired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motive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high-end automobile may have 100 microprocess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bit microcontroller checks seat bel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controllers run dashboard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/32-bit microprocessor controls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8-21T02:27:38Z</dcterms:modified>
  <cp:revision>92</cp:revision>
  <dc:subject/>
  <dc:title>Networking for Embedded Systems</dc:title>
</cp:coreProperties>
</file>