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CCC-899D-46B9-98CB-9AEA93D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C6A-175C-400D-81E2-1C8B3C9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E04-BFA3-474E-9002-4F5F35D2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104-1A31-4654-B520-1A034231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0F4E-61F5-4D22-95E8-800CB3D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30D3-8579-4AD6-BD04-8F64217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E24-29AD-4FBF-9656-AA49B031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B328-63E1-422A-BEEB-0E09993D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6FC-CF66-46FE-85CC-B6DE3D6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903-6E9E-44A1-A1E6-AD5E930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573E-5719-461D-8109-19EE50D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045-35E7-4699-9DE6-401AD9F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C2F-B255-48C9-A1EB-A03FC23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0BBA-2028-4CAC-BAC6-8C9CF4F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9AC-F94E-45F0-8C9D-7C879B4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B35-B73A-462D-A38F-0582E689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0AC-A178-47FA-B895-10C4140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55D-8CB7-4C8D-9B9F-BBAC8D2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1F4-B12E-4BF3-89F6-E3DB0036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62C-6718-4BE5-B69D-1616BBEA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993-E7B5-40BE-81C6-D0C4DD8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52C-BB62-4952-9AAC-0C22FAE1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8C0-13FA-4589-A9CA-89264FE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54F-28D7-4415-861B-9179B68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DEB7-0931-4940-AF7C-92F464C131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61E-1043-47ED-8AF2-9A28849DB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and 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visor mode, exceptions, tra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ek and po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HLL interf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peek(char *location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*location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poke(char *location, char newval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*location) = newval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y/wait out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way to program dev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structions to test when device is r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rrent_char = mystr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*current_char != ‘\0’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CHAR,*current_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OUT_STATUS) !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rrent_char++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taneous busy/wait input and out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* read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IN_STATUS) =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har = (char)peek(IN_DAT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* write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DATA,a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STATUS,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peek(OUT_STATUS) != 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y/wait is very ineffici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can’t do other work while testing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do simultaneous I/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allow a device to change the flow of control in the CP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subroutine call to handl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1676520" cy="1676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286000"/>
            <a:ext cx="297180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14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657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524200" y="3085560"/>
            <a:ext cx="221004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8954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380952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572000" y="342864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790640" y="3162240"/>
            <a:ext cx="1295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4400" y="22860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7760" y="29718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8800" y="3581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/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4114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43200" y="2743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23960" y="3162240"/>
            <a:ext cx="1295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subroutine call mech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forces next instruction to be a subroutine call to a predetermined lo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address is saved to resume executing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foreground 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physical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nd device are connected by CPU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nd device handsha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ice asserts interrupt reque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asserts interrupt acknowledge when it can handle the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haracter I/O handl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put_handler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char = peek(IN_DATA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otchar = TRU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ke(IN_STATUS,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output_handler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nterrupt-driven main pro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gotchar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DATA,acha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ke(OUT_STATUS,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otchar = FALS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nterrupt I/O with buff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ue for charac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2971800"/>
            <a:ext cx="6858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9000" y="3962160"/>
            <a:ext cx="1256760" cy="1069560"/>
            <a:chOff x="1449000" y="3962160"/>
            <a:chExt cx="1256760" cy="1069560"/>
          </a:xfrm>
        </p:grpSpPr>
        <p:sp>
          <p:nvSpPr>
            <p:cNvPr id="182" name=""/>
            <p:cNvSpPr/>
            <p:nvPr/>
          </p:nvSpPr>
          <p:spPr>
            <a:xfrm flipV="1">
              <a:off x="1981080" y="3962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9000" y="45720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360" y="45720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286000" y="3962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449000" y="2971800"/>
            <a:ext cx="2018520" cy="2059920"/>
            <a:chOff x="1449000" y="2971800"/>
            <a:chExt cx="2018520" cy="2059920"/>
          </a:xfrm>
        </p:grpSpPr>
        <p:grpSp>
          <p:nvGrpSpPr>
            <p:cNvPr id="187" name=""/>
            <p:cNvGrpSpPr/>
            <p:nvPr/>
          </p:nvGrpSpPr>
          <p:grpSpPr>
            <a:xfrm>
              <a:off x="1449000" y="3962160"/>
              <a:ext cx="2018520" cy="1069560"/>
              <a:chOff x="1449000" y="3962160"/>
              <a:chExt cx="2018520" cy="106956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1981080" y="39621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9000" y="45720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95120" y="457200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048120" y="39621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28800" y="2971800"/>
              <a:ext cx="685800" cy="9144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de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includes some non-digital compon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digital interface to CP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038480"/>
            <a:ext cx="1676520" cy="1676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733920"/>
            <a:ext cx="297180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962520"/>
            <a:ext cx="7617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105520"/>
            <a:ext cx="7617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372280" y="453384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3434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638680" y="525744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419720" y="43434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419720" y="48769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ffer-based input hand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input_handler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acha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full_buffer()) error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{ achar = peek(IN_DATA); add_char(achar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ke(IN_STATUS,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chars ==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poke(OUT_DATA,remove_char(); poke(OUT_STATUS,1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752480"/>
            <a:ext cx="14475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2438280"/>
            <a:ext cx="94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4880" y="297180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657600"/>
            <a:ext cx="94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9280" y="487692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4880" y="556272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5812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48640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954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4724280"/>
            <a:ext cx="304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22860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429000"/>
            <a:ext cx="3045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41148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257800"/>
            <a:ext cx="3045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bugging interrupt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 forget to change regist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ground program can exhibit mysterious bu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gs will be hard to repeat---depend on interrupt ti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ies and ve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echanisms allow us to make interrupts more specif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Prior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 what interrupt gets CPU fir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Ve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rmine what code is called for each type of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chanisms are orthogonal: most CPUs provide bo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oritized interrup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191120"/>
            <a:ext cx="1676520" cy="16761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057400"/>
            <a:ext cx="129528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419112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L2 .. 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3" idx="1"/>
          </p:cNvCxnSpPr>
          <p:nvPr/>
        </p:nvCxnSpPr>
        <p:spPr>
          <a:xfrm flipH="1" rot="10800000">
            <a:off x="1980720" y="1599480"/>
            <a:ext cx="5639760" cy="3429720"/>
          </a:xfrm>
          <a:prstGeom prst="bentConnector3">
            <a:avLst>
              <a:gd name="adj1" fmla="val -4053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266688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720" y="308916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6000" y="297180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42840" y="2971800"/>
            <a:ext cx="16002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29000" y="2971440"/>
            <a:ext cx="38862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priorit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Mask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rupt with priority lower than current priority is not recognized until pending interrupt is 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Non-maskable interru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NM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highest-priority, never mas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used for power-d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rioritiz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1752480"/>
            <a:ext cx="838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1752480"/>
            <a:ext cx="838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1752480"/>
            <a:ext cx="838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2286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2860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2590920"/>
            <a:ext cx="3045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105520"/>
            <a:ext cx="5335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4290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191120"/>
            <a:ext cx="3045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5909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2590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5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3200400"/>
            <a:ext cx="304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20040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352320" y="28954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52680" y="358128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29000" y="4495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76720" y="5715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3581280"/>
            <a:ext cx="304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4495680"/>
            <a:ext cx="304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ve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different devices to be handled by different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vector t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39625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44197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48769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334120"/>
            <a:ext cx="3047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080" y="38862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vector acquis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182880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182880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819520"/>
            <a:ext cx="16002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3657600"/>
            <a:ext cx="16002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495680"/>
            <a:ext cx="16002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657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73356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nterrupt mechanis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2203560" y="4791240"/>
            <a:ext cx="1143000" cy="6094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79720" y="4791240"/>
            <a:ext cx="1067040" cy="6094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6040" y="1666800"/>
            <a:ext cx="762120" cy="6098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48560" y="18194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46200" y="1971720"/>
            <a:ext cx="61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6920" y="2276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40320" y="204804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3960" y="227664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981080"/>
            <a:ext cx="2733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imes New Roman"/>
              </a:rPr>
              <a:t>Assume priority selection is handled before this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965320" y="3114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83120" y="273384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2886120"/>
            <a:ext cx="1131840" cy="52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3240" y="36482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02880" y="359712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3960720"/>
            <a:ext cx="113184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45600" y="4971960"/>
            <a:ext cx="897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3240" y="53276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2880" y="527688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3240" y="448776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02880" y="443700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68440" y="5099040"/>
            <a:ext cx="61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3280" y="4819680"/>
            <a:ext cx="301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47480" y="4971960"/>
            <a:ext cx="1073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ou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66800" y="5099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61360" y="4819680"/>
            <a:ext cx="25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811600" y="4259160"/>
            <a:ext cx="0" cy="5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1600" y="4259160"/>
            <a:ext cx="106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8480" y="4876920"/>
            <a:ext cx="11322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7560" y="5640480"/>
            <a:ext cx="18954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table[vecto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75160" y="2581200"/>
            <a:ext cx="1600200" cy="10670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0000" y="2668680"/>
            <a:ext cx="18190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 priority &gt; current prior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2600" y="171756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: 8251 U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Universal asynchronous receiver transmi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U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: provides serial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251 functions are integrated into standard PC interface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many communication parameters to be programm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cknowledges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sends v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calls hand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processes requ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restores state to foreground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rces of interrupt overhe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execu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mechanism overh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save/rest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e-related penal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-related penal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7 supports two types of interrup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interrupt requests (FIQ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 requests (IRQ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table starts at location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 proced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a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PC. Copy CPSR to SPS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bits in CPSR to record interru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C to v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r responsibi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e proper P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e CPSR from SPS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interrupt disable fla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terrupt lat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t-case latency to respond to interrupt is 27 cyc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ycles to synchronize external requ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20 cycles to complete current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ycles for data ab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ycles to enter interrupt handling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s are vectored and priorit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ies are fixed: reset highest, user SW interrupt 3 low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ctors are also fixed. Vector is offset in vector table.  Table starts at 0x20000 in internal memory, 0x40000 in external memory.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: must be executing or IDLE/IDLE1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Output appropriate interrupt vector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ush PC value onto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Set bit in interrupt latch regi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Set IMASKP to current nesting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retu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ted by RTI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Return to address at top of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op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Pop status stack if appropri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Clear bits in interrupt latch register and IMASK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terrupt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 of respon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: synchronization and latching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: recogni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cycles: brancing to v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latency: 3 cyc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or vector interrupts have 6 cycle lat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ervisor m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provide protective barriers between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memory corru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upervisor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manage the various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does not have a supervisor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ial commun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s are transmitted separate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9528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1280" y="4917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4114800"/>
            <a:ext cx="990720" cy="83808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114800"/>
            <a:ext cx="990360" cy="838080"/>
          </a:xfrm>
          <a:prstGeom prst="hexagon">
            <a:avLst>
              <a:gd name="adj" fmla="val 2954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114800"/>
            <a:ext cx="990360" cy="838080"/>
          </a:xfrm>
          <a:prstGeom prst="hexagon">
            <a:avLst>
              <a:gd name="adj" fmla="val 29543"/>
              <a:gd name="vf" fmla="val 115470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7720" y="4191120"/>
            <a:ext cx="1447560" cy="761760"/>
            <a:chOff x="837720" y="4191120"/>
            <a:chExt cx="1447560" cy="761760"/>
          </a:xfrm>
        </p:grpSpPr>
        <p:sp>
          <p:nvSpPr>
            <p:cNvPr id="107" name=""/>
            <p:cNvSpPr/>
            <p:nvPr/>
          </p:nvSpPr>
          <p:spPr>
            <a:xfrm flipH="1">
              <a:off x="2133000" y="4572000"/>
              <a:ext cx="152280" cy="380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76160" y="4952880"/>
              <a:ext cx="4572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200" y="4191120"/>
              <a:ext cx="228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7720" y="4191120"/>
              <a:ext cx="6094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53800" y="4191120"/>
            <a:ext cx="1447560" cy="761760"/>
            <a:chOff x="6553800" y="4191120"/>
            <a:chExt cx="1447560" cy="761760"/>
          </a:xfrm>
        </p:grpSpPr>
        <p:sp>
          <p:nvSpPr>
            <p:cNvPr id="112" name=""/>
            <p:cNvSpPr/>
            <p:nvPr/>
          </p:nvSpPr>
          <p:spPr>
            <a:xfrm>
              <a:off x="6553800" y="4572000"/>
              <a:ext cx="152280" cy="380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720" y="4952880"/>
              <a:ext cx="4572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163280" y="4191120"/>
              <a:ext cx="228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880" y="4191120"/>
              <a:ext cx="6094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94360" y="3241800"/>
            <a:ext cx="7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4360" y="43084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30480" y="4267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1640" y="4232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upervisor m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WI instruction to enter supervisor mode, similar to subrout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 CODE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PC to 0x08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gument to SWI is passed to supervisor mode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s CPSR in SPS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ce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nally detected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are synchronous with instructions but unpredic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 exception mechanism on top of interrupt mech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are usually prioritized and vector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Tra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oftware interru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 an exception generated by an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upervisor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uses SWI instruction for tra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offers three levels of software interrup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by setting bits in IRPTL regi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-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Co-process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dded function unit that is called by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units are often structured as co-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llows up to 16 designer-selected co-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co-processor uses units 1 and 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ial communication parame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ud (bit)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bits per charac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/no pa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/odd pa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of stop bit (1, 1.5, 2 bi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251 CPU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1676160" cy="1676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286000"/>
            <a:ext cx="3276720" cy="251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514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657600"/>
            <a:ext cx="762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05320"/>
            <a:ext cx="83808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2680" y="3699000"/>
            <a:ext cx="8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11430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ming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ypes of instructions can support I/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-purpose I/O instruction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-mapped load/stor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l x86 provid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ructions. Most other CPUs use memory-mapped I/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structions do not preclude memory-mapped I/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emory-mapp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location for dev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V1 EQU 0x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/write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1,#DEV1 ; set up device ad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 ; read DEV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#8 ; set up value to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 r0,[r1] ; write value to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emory mapp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must be in external memory space (above 0x400000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DM to control ac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0 = 0x40000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0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DM(I0,M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8T03:01:04Z</dcterms:modified>
  <cp:revision>119</cp:revision>
  <dc:subject/>
  <dc:title>SHARC programming model</dc:title>
</cp:coreProperties>
</file>