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2E8-3986-4ADD-852C-6F0E3A58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8BF-8A60-42BD-A35D-FD2B2623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8EE-E648-45A3-A4F1-E3615FC8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EA9-FD93-4422-9E8F-BA4A4E3F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5876-423A-4E4D-8910-2E295180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E39A-3042-4FD9-B21D-6EFB3782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6C45-B508-4CF4-8005-D1096DFD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C3DF-47CF-4586-AEAB-20A131BF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065F-D392-4BE6-985F-7279C50D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5B08-CBAA-488D-AE73-5F87DE80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D545-ABD1-4B8F-90E5-760A616E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E7C-07C1-4D3F-B01A-D2E76422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3CB7-8113-4AAE-97FD-93D11C7C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CA7F-5A83-472D-BBB2-AB0C6F2C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6DDD-A7F6-458B-A4CA-D68935AB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69FA-4A98-4B77-ADE6-C5F53C9D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42CC-84EB-4F33-B15F-42C3BC70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9A3-8747-42BF-9CC5-4891A6E1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185-0501-4170-B402-999DD1EF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87A-C1AB-40B5-9C96-5A9C0B6D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1DF-224B-4AD6-B09C-FE095822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536-1679-489B-80CD-2A940524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E1F-430E-423C-B0A4-32F9F1C0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713-80E4-4166-A5CE-6FC9C853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F9AB-BE2B-4F8C-BA93-A0BF6B8FE5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B0A3-591A-42F2-80E8-77A700F142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design techniq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y assur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MU Capability Maturity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ve levels of organizational maturit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it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poorly organized process, depends on individu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epea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basic tracking mechanis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fin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processes documented and standardiz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nag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makes detailed measur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ptimiz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measurements used for improve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flipH="1">
            <a:off x="1371600" y="3657600"/>
            <a:ext cx="6477120" cy="2133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 and testing are important throughout the design fl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rly bugs are more expensive to fi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295280" y="39625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57913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75320" y="59086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90520" y="466164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to 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105520" y="4800600"/>
            <a:ext cx="2743200" cy="990720"/>
          </a:xfrm>
          <a:prstGeom prst="rtTriangl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ing 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ifying requirements and spec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typ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typing languag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-existing syst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scenario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l techniq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re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eetings to catch design fla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, low-c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en by experiments to be effec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ther people in the project/company to help spot design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review play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sign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present design to rest of team, make cha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view lead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coordinates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view scrib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akes notes of meet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view audi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ooks for bu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fore the design re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eam prepares documents used to describe the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 recruits audience, coordinates meetings, distributes handouts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dience members familiarize themselves with the documents before they go to the mee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review mee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 keeps meeting moving; scribe takes no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present the desig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handou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at is going 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through detai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review audi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for any proble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design consistent with the specifi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interface correc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well is the component’s internal architecture design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d they use good design/coding practic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testing strategy adequat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llow-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make suggested cha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chan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 checks on results of changes, may distribute to audience for further review or additional revie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asu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ments help ground our belief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our practices really wor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y work where we think they wor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measurem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gs found at different stages of desig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gs as a function of ti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gs in different types of componen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bugs are fou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ality assur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Qu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udged by how well product satisfies its intended fun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easured in different ways for different kinds of produ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Quality assur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makes sure that all stages of the design process help to deliver a quality produ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rac-25 Medical Imager (Leveson and Turne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 known accidents: radiation overdoses leading to death and serious inju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diation gun controlled by PDP-1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 major software compon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d dat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task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rupt ser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rac-25 tas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atment monitor controlled and monitored setup and delivery of treatment in eight pha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o task controlled radiation g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sekeeper task took care of status interlocks and limit chec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eatment monitor tas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at was main monitor tas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ght subrouti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at rescheduled itself after every subrout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 timing r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ing-dependent use of mode and energ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keyboard handler sets completion behavior before operator changes mode/energy data, Datent task will not detect the change, but Hand task wi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 timing err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parameters made by operator may show on screen but not be sensed by Datent tas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accident caused by entering mode/energy, changing mode/energy, returning to command line in 8 seco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lled operators typed faster, more likely to exercise bu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veson and Turner observ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ed limited safety analysis: guessed at error probabilities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d not use mechanical backups to check machine ope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overly complex programs written in unreliable sty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SO 900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ed by International Standards organiz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s to a broad range indust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ntrates on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idation based on extensive documentation of organization’s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Wayne Wolf</cp:lastModifiedBy>
  <dcterms:modified xsi:type="dcterms:W3CDTF">2000-07-13T13:35:01Z</dcterms:modified>
  <cp:revision>85</cp:revision>
  <dc:subject/>
  <dc:title>No Slide Title</dc:title>
</cp:coreProperties>
</file>