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1D7-87A4-401A-BA52-A1CD0718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BD8-ECD8-4A95-A865-DAE34B14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39F9-830C-4BC7-8065-2D33F8F0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A8C-1688-4CEE-8EE5-99935B38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5599-5DFF-468C-B230-E076BDA1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039B-15A6-4BE8-B8A3-1788FE01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3EDD-96BE-4229-B976-538766E4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79D2-27A1-4AE2-8E19-869CAEA0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161E-4C90-4DD7-8B8E-F503D168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473B-9D2C-401C-93DD-E8E13F75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AAF6-B6DF-4452-81CA-27DD8EDA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B83-4BF3-4B34-839C-01EA588C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BAD0-CB0F-4AD9-BC48-CA2E421A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6883-CE20-47C6-9E7F-A5676322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9473-B18C-419C-98F7-EABBEC5F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532A-321E-4B1C-94D1-E62CA036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FC83-9AF1-45E9-A741-6FF29808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D15-6F92-49BB-947B-ECCFA842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EE8-A32D-4683-9F82-6E112AB0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660-25E1-4420-9356-6ACD6288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3C2-2F5D-4225-9B02-42CDE87C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149-560B-42E3-9CDF-00B462D4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129-0BAB-46B0-81C5-5E724ED8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B82-A515-4B67-AB94-4F98F943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F11E-5EDD-411A-BCFB-B02B9F1229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419D-8E8F-44B5-9138-16ED268A87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gram design and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fl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statement trans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optimiz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nd just-in-time compil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dure sta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1981080"/>
            <a:ext cx="1295280" cy="160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1752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8640" y="1981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2438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1(int 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2(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581280"/>
            <a:ext cx="1295280" cy="160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8880" y="4842000"/>
            <a:ext cx="17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4480" y="324180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05320" y="4572000"/>
            <a:ext cx="4628880" cy="609480"/>
            <a:chOff x="3505320" y="4572000"/>
            <a:chExt cx="4628880" cy="609480"/>
          </a:xfrm>
        </p:grpSpPr>
        <p:sp>
          <p:nvSpPr>
            <p:cNvPr id="186" name=""/>
            <p:cNvSpPr/>
            <p:nvPr/>
          </p:nvSpPr>
          <p:spPr>
            <a:xfrm>
              <a:off x="3505320" y="4572000"/>
              <a:ext cx="1295280" cy="380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76920" y="4572000"/>
              <a:ext cx="228600" cy="6094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63120" y="4613400"/>
              <a:ext cx="29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accessed relative to 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procedure lin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CS (ARM Procedure Call Standar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0-r3 pass parameters into procedure. Extra parameters are put on stack fr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0 holds return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4-r7 hold register val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11 is frame pointer, r13 is stack poin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10 holds limiting address on stack size to check for stack over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struc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types of data structures use different data layou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fsets into data structure can be computed at compile time, others must be computed at ru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e-dimensional array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array name points to 0th ele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2971800"/>
            <a:ext cx="20574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505320"/>
            <a:ext cx="20574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038480"/>
            <a:ext cx="20574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320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9480" y="301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70560" y="347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*(a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2590920"/>
            <a:ext cx="20574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wo-dimensional array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umn-major layo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2743200"/>
            <a:ext cx="20574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3276720"/>
            <a:ext cx="20574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4495680"/>
            <a:ext cx="20574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2590920"/>
            <a:ext cx="20574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5029200"/>
            <a:ext cx="20574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45800" y="49942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[i*M+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6600" y="3657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67400" y="2743200"/>
            <a:ext cx="4413960" cy="2253600"/>
            <a:chOff x="1967400" y="2743200"/>
            <a:chExt cx="4413960" cy="2253600"/>
          </a:xfrm>
        </p:grpSpPr>
        <p:sp>
          <p:nvSpPr>
            <p:cNvPr id="212" name=""/>
            <p:cNvSpPr/>
            <p:nvPr/>
          </p:nvSpPr>
          <p:spPr>
            <a:xfrm>
              <a:off x="5486400" y="2743200"/>
              <a:ext cx="228600" cy="14479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29200" y="31654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362320" y="2971440"/>
              <a:ext cx="838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62320" y="4038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76520" y="453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67400" y="385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uc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s within structures are static offse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2971800"/>
            <a:ext cx="160020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411480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2590920"/>
            <a:ext cx="1600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18440" y="28605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0520" y="3165480"/>
            <a:ext cx="37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field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field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mystru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mystruct a, *aptr = &amp;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102440" y="3006720"/>
            <a:ext cx="1115280" cy="1143000"/>
            <a:chOff x="7102440" y="3006720"/>
            <a:chExt cx="1115280" cy="1143000"/>
          </a:xfrm>
        </p:grpSpPr>
        <p:sp>
          <p:nvSpPr>
            <p:cNvPr id="227" name=""/>
            <p:cNvSpPr/>
            <p:nvPr/>
          </p:nvSpPr>
          <p:spPr>
            <a:xfrm>
              <a:off x="7102440" y="30067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63640" y="335268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by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26120" y="4038480"/>
            <a:ext cx="1854720" cy="459720"/>
            <a:chOff x="7026120" y="4038480"/>
            <a:chExt cx="1854720" cy="459720"/>
          </a:xfrm>
        </p:grpSpPr>
        <p:sp>
          <p:nvSpPr>
            <p:cNvPr id="230" name=""/>
            <p:cNvSpPr/>
            <p:nvPr/>
          </p:nvSpPr>
          <p:spPr>
            <a:xfrm flipH="1">
              <a:off x="7026120" y="4226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43440" y="4038480"/>
              <a:ext cx="133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(aptr+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pression simpl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ant fold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+1 =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b + a*c = a*(b+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ngth redu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2 = a&lt;&lt;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ad code elimi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d 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define DEBUG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DEBUG) dbg(p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liminated by analysis of control flow, constant fol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2590920"/>
            <a:ext cx="1371600" cy="990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3962520"/>
            <a:ext cx="12952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g(p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816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6" idx="3"/>
            <a:endCxn id="239" idx="3"/>
          </p:cNvCxnSpPr>
          <p:nvPr/>
        </p:nvCxnSpPr>
        <p:spPr>
          <a:xfrm flipH="1">
            <a:off x="7467480" y="3085920"/>
            <a:ext cx="76680" cy="114372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38676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29760" y="255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477120" y="3809880"/>
            <a:ext cx="761400" cy="914400"/>
            <a:chOff x="6477120" y="3809880"/>
            <a:chExt cx="761400" cy="914400"/>
          </a:xfrm>
        </p:grpSpPr>
        <p:sp>
          <p:nvSpPr>
            <p:cNvPr id="245" name=""/>
            <p:cNvSpPr/>
            <p:nvPr/>
          </p:nvSpPr>
          <p:spPr>
            <a:xfrm flipV="1">
              <a:off x="6477120" y="3809880"/>
              <a:ext cx="685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6552720" y="3809880"/>
              <a:ext cx="685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324480" y="2514240"/>
            <a:ext cx="1067040" cy="1295640"/>
            <a:chOff x="6324480" y="2514240"/>
            <a:chExt cx="1067040" cy="1295640"/>
          </a:xfrm>
        </p:grpSpPr>
        <p:sp>
          <p:nvSpPr>
            <p:cNvPr id="248" name=""/>
            <p:cNvSpPr/>
            <p:nvPr/>
          </p:nvSpPr>
          <p:spPr>
            <a:xfrm flipV="1">
              <a:off x="6324480" y="2590920"/>
              <a:ext cx="106704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6324480" y="2514240"/>
              <a:ext cx="106704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dure inli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s procedure linkage overhea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 foo(a,b,c) { return a + b - c;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= foo(w,x,y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= w + x + 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loop overhea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opportunities for pipelinin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memory system perform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i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strategy (Wirth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ation = translation + 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determines quality of co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CPU resourc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access schedulin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unrol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s loop overhead, enables some other optimiz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0; i&lt;4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] = b[i] * c[i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0; i&lt;2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*2] = b[i*2] * c[i*2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*2+1] = b[i*2+1] * c[i*2+1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fusion and distrib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sion combines two loops into 1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0; i&lt;N; i++) a[i] = b[i] * 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j=0; j&lt;N; j++) w[j] = c[j] * d[j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0; i&lt;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] = b[i] * 5; w[i] = c[i] * d[i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ion breaks one loop into tw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optimizations within loop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ti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s one loop into a nest of loo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order of accesses within arr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cache behav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tiling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=0; i&lt;N; i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j=0; j&lt;N; j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[i] = a[i,j]*b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114800" y="1905120"/>
            <a:ext cx="4749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=0; i&lt;N; i+=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j=0; j&lt;N; j+=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i=0; ii&lt;min(i+2,n); ii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jj=0; jj&lt;min(j+2,N); jj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[ii] = a[ii,jj]*b[i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3886200"/>
            <a:ext cx="2209680" cy="2209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114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4495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990360" y="4114800"/>
            <a:ext cx="205740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3886200"/>
            <a:ext cx="2209680" cy="2209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388620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100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100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990360" y="449568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990360" y="4876920"/>
            <a:ext cx="205740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52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990360" y="5257800"/>
            <a:ext cx="205740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409720" y="39625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409720" y="4267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388620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244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324120" y="39625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324120" y="4267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172200" y="3962160"/>
            <a:ext cx="15228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086600" y="3962160"/>
            <a:ext cx="15228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ray pad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array elements to change mapping into cach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053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35053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35053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4419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4419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90920" y="4419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61040" y="560376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35053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35053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35053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4419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62720" y="4419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77120" y="4419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3600" y="56386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1520" y="35053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91520" y="44197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62120" y="3505320"/>
            <a:ext cx="2743200" cy="1828800"/>
            <a:chOff x="762120" y="3505320"/>
            <a:chExt cx="2743200" cy="1828800"/>
          </a:xfrm>
        </p:grpSpPr>
        <p:sp>
          <p:nvSpPr>
            <p:cNvPr id="306" name=""/>
            <p:cNvSpPr/>
            <p:nvPr/>
          </p:nvSpPr>
          <p:spPr>
            <a:xfrm>
              <a:off x="762120" y="3505320"/>
              <a:ext cx="2743200" cy="9144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120" y="4419720"/>
              <a:ext cx="914400" cy="9144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648320" y="3505320"/>
            <a:ext cx="365760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gister allo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register to hold each variabl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ifespan of varible in the regis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case: within basic bl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gister lifetime grap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 = a + b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= c + w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c +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46483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27600" y="47656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114800" y="1905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940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8680" y="251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59400" y="28954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8680" y="3200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040" y="3505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58680" y="3809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5868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3960" y="480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22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21000" y="480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88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7680" y="480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2286000"/>
            <a:ext cx="3045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2590920"/>
            <a:ext cx="3045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971800"/>
            <a:ext cx="1219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3352680"/>
            <a:ext cx="3049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29200" y="3657600"/>
            <a:ext cx="1219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86600" y="4267080"/>
            <a:ext cx="3049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43600" y="4038480"/>
            <a:ext cx="3049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468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62680" y="2438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62680" y="297180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truction schedu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pipelined machines do not need instruction scheduling: any order of instructions that satisfies data dependencies runs equally fa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ipelined machines, execution time of one instruction depends on the nearby instructions: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pc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ervation t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ervation table relates instructions/time to CPU re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/inst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2362320"/>
            <a:ext cx="358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0800" y="1981080"/>
            <a:ext cx="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38880" y="1981080"/>
            <a:ext cx="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pipeli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s instructions across loop it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s instruction latency in iteration i by inserting instructions from iteration i+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c compilation pha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676520"/>
            <a:ext cx="12952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514600"/>
            <a:ext cx="4038480" cy="6094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sing, symbo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3429000"/>
            <a:ext cx="2895840" cy="7621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hine-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tim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4419720"/>
            <a:ext cx="2895840" cy="7617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hine-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tim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5410080"/>
            <a:ext cx="190512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pipelining in SHAR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0; i&lt;N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 += a[i]*b[i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 three iter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tch array elements a, b for iterati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y a,b for iterati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dot product for iterati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-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pipelining in SHARC, cont’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* first iteration performed outside loop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=a[0]; bi=b[0]; p=ai*b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* initiate loads used in second iteration; remaining loads will be performed inside the loop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2; i&lt;N-2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=a[i]; bi=b[i]; /* fetch for next cycle’s multiply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= ai*bi; /* multiply for next iteration’s sum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 += p; /* make sum using p from last iteration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 += p; p=ai*bi; sum +=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pipelining ti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20968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=a[i]; bi=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274320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ai*b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3276720"/>
            <a:ext cx="22096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+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274320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=a[i]; bi=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3276720"/>
            <a:ext cx="22100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ai*b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81280" y="380988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+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3276720"/>
            <a:ext cx="22096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=a[i]; bi=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1320" y="380988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ai*b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434340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+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90720" y="2819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8720" y="32418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3276720"/>
            <a:ext cx="739152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61840" y="33177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1360" y="525780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i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7360" y="525780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i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3720" y="525780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truction sele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everal ways to implement an operation or sequence of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 operations as graphs, match possible instruction sequences onto grap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1828800" y="54864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209680" y="52578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52578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33720" y="4572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666520" y="4572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32080" y="58323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26320" y="58323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49528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952880" y="4724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4724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19920" y="49528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4724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400440" y="4724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54100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47242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7924680" y="51814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51814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487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3815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21160" y="54864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2400" y="54864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4880" y="59436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ng your compi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various optimization levels (-O1, -O2, et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mixed compiler/assembler output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ing compiler output requires c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nes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hand-tweaked c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preters and JIT compil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ranslates and executes program statements on-the-f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JIT compil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ompiles small sections of code into instructions during program execu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minates some translation overhe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requires more 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ment translation and optim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code is translated into intermediate form such as CDF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FG is transformed/optimiz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FG is translated into instructions with optimization deci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re further optimiz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ithmetic expres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b + 5*(c-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737000" y="26319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0" y="56800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4382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4382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35053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45720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22860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257800" y="22860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23623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43800" y="23623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971800"/>
            <a:ext cx="7617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705360" y="2971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276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171840" y="40384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0800" y="182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6744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4324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2976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7692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43200" y="2286000"/>
            <a:ext cx="1143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3352680"/>
            <a:ext cx="1143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4419720"/>
            <a:ext cx="1143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0"/>
            <a:ext cx="1143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ithmetic expressions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22760" y="1886040"/>
            <a:ext cx="401328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R r4,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 r1,[r4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R r4,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 r2,[r4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 r3,r1,r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349720" y="56037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3623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3623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34290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44956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209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447560" y="22096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2860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733560" y="22860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895480"/>
            <a:ext cx="762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895480" y="28954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200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3962520"/>
            <a:ext cx="3045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9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575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3336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1952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7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3352680"/>
            <a:ext cx="40129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R r4,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 r1,[r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R r4,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 r5,[r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B r6,r4,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800600"/>
            <a:ext cx="401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 r7,r6,#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5105520"/>
            <a:ext cx="4012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 r8,r7,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43040" y="56037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code gen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(a+b &gt;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= 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= 7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2743200"/>
            <a:ext cx="1981080" cy="609480"/>
          </a:xfrm>
          <a:prstGeom prst="hexagon">
            <a:avLst>
              <a:gd name="adj" fmla="val 81261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b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743200"/>
            <a:ext cx="106704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3962520"/>
            <a:ext cx="10666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048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3" idx="2"/>
          </p:cNvCxnSpPr>
          <p:nvPr/>
        </p:nvCxnSpPr>
        <p:spPr>
          <a:xfrm rot="5400000">
            <a:off x="5485680" y="3124080"/>
            <a:ext cx="1829520" cy="228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3352680"/>
            <a:ext cx="251460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2209680"/>
            <a:ext cx="175284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209680"/>
            <a:ext cx="251460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code generation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851360" y="1657440"/>
            <a:ext cx="401328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R r5,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DR r1,[r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R r5,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DR r2,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r3,r1,r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E label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981080" cy="609840"/>
          </a:xfrm>
          <a:prstGeom prst="hexagon">
            <a:avLst>
              <a:gd name="adj" fmla="val 81213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b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438280"/>
            <a:ext cx="10666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657600"/>
            <a:ext cx="10666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5" idx="2"/>
          </p:cNvCxnSpPr>
          <p:nvPr/>
        </p:nvCxnSpPr>
        <p:spPr>
          <a:xfrm rot="5400000">
            <a:off x="1980360" y="2819520"/>
            <a:ext cx="1829520" cy="228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4876920" y="3581280"/>
            <a:ext cx="4012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DR r3,#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R r5,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 r3,[r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stm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876920"/>
            <a:ext cx="4012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DR r3,#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R r5,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 r3,[r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mtent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dure lin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code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and retur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 parameters and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s and returns are passed on st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 with few parameters may use regis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1T09:32:50Z</dcterms:modified>
  <cp:revision>30</cp:revision>
  <dc:subject/>
  <dc:title>No Slide Title</dc:title>
</cp:coreProperties>
</file>