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C70-7657-4AA1-8427-D1B884CA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E03-A3C8-46A1-B440-2D20FD7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4F9-32BC-4E52-BB80-EB553989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4F2-93D4-4E68-B91A-6D67A0EA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0820-9BC4-4BA3-8E0D-255CA3E7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077D-9867-4786-AEDA-BEDB3D3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2273-A86C-4ED4-8E8B-FA691B4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EC55-E1F4-46DB-A2A8-1DA7980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5B9B-3DE2-4D8B-AE04-26DB0FC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761-315C-4092-B46F-EE3B5C11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B8FB-C548-4F6A-A99C-D4533DB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962-1A08-420F-B6D0-565691A1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D28-B58D-43FC-8F3F-06194A7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3BB3-0599-4847-A604-1B18870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62CE-9E18-4314-A204-793EB38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1FD2-19C0-4398-988E-105A3B69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134-5ED0-4541-BFFC-BF2D23B0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216-4399-4DC9-9ED5-560EF10D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F8E-3BB8-4898-B80B-5751458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E1F-39D4-4340-BAB9-7986A65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921-28C0-4AD7-B6C8-5D4C15BC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571-04BE-414D-93B5-A849A61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FA1-C5FD-4EB1-A1A8-A4486869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115-19D7-45A2-B1FA-69C59BF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893E-4B3B-4860-A28D-AD7F62030B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68A-7313-4DDF-B8FF-844D8488EA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validation and tes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hoosing p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ossible criteria for selecting a set of pat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every statement at least o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every direction of a branch at least o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for structured programs, but not for programs with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905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2666880"/>
            <a:ext cx="1066680" cy="5335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74320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65760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495680"/>
            <a:ext cx="1066680" cy="5335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541008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8" idx="1"/>
            <a:endCxn id="104" idx="1"/>
          </p:cNvCxnSpPr>
          <p:nvPr/>
        </p:nvCxnSpPr>
        <p:spPr>
          <a:xfrm rot="10800000">
            <a:off x="3809160" y="2133000"/>
            <a:ext cx="153360" cy="2629440"/>
          </a:xfrm>
          <a:prstGeom prst="bentConnector3">
            <a:avLst>
              <a:gd name="adj1" fmla="val 481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2"/>
            <a:endCxn id="108" idx="3"/>
          </p:cNvCxnSpPr>
          <p:nvPr/>
        </p:nvCxnSpPr>
        <p:spPr>
          <a:xfrm rot="5400000">
            <a:off x="4914360" y="3314520"/>
            <a:ext cx="156276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4419720" y="2057400"/>
            <a:ext cx="3740400" cy="3505320"/>
            <a:chOff x="4419720" y="2057400"/>
            <a:chExt cx="3740400" cy="3505320"/>
          </a:xfrm>
        </p:grpSpPr>
        <p:sp>
          <p:nvSpPr>
            <p:cNvPr id="118" name=""/>
            <p:cNvSpPr/>
            <p:nvPr/>
          </p:nvSpPr>
          <p:spPr>
            <a:xfrm>
              <a:off x="4419720" y="2057400"/>
              <a:ext cx="0" cy="35053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647960" y="2057400"/>
              <a:ext cx="1600560" cy="3505320"/>
              <a:chOff x="4647960" y="2057400"/>
              <a:chExt cx="1600560" cy="3505320"/>
            </a:xfrm>
          </p:grpSpPr>
          <p:sp>
            <p:nvSpPr>
              <p:cNvPr id="120" name=""/>
              <p:cNvSpPr/>
              <p:nvPr/>
            </p:nvSpPr>
            <p:spPr>
              <a:xfrm>
                <a:off x="4648320" y="2057400"/>
                <a:ext cx="0" cy="5335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48320" y="2590920"/>
                <a:ext cx="16002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48520" y="2590920"/>
                <a:ext cx="0" cy="20574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47960" y="4648320"/>
                <a:ext cx="160020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48320" y="4648320"/>
                <a:ext cx="0" cy="9144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688440" y="3774960"/>
              <a:ext cx="147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Covers 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02040" y="2133360"/>
            <a:ext cx="2760480" cy="2629080"/>
            <a:chOff x="1202040" y="2133360"/>
            <a:chExt cx="2760480" cy="2629080"/>
          </a:xfrm>
        </p:grpSpPr>
        <p:cxnSp>
          <p:nvCxnSpPr>
            <p:cNvPr id="127" name=""/>
            <p:cNvCxnSpPr>
              <a:stCxn id="108" idx="1"/>
              <a:endCxn id="104" idx="1"/>
            </p:cNvCxnSpPr>
            <p:nvPr/>
          </p:nvCxnSpPr>
          <p:spPr>
            <a:xfrm rot="10800000">
              <a:off x="3809160" y="2133000"/>
              <a:ext cx="153360" cy="2629440"/>
            </a:xfrm>
            <a:prstGeom prst="bentConnector3">
              <a:avLst>
                <a:gd name="adj1" fmla="val 395764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1202040" y="3165480"/>
              <a:ext cx="193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/+ Covers 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ran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s p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distinct paths are in a pr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undirected graph ha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sis 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d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combination of basis edges (xor together sets of edges) gives any possible subset of edges in the grap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directed, but basis set is an approxi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s set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495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95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6668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19520" y="26668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28440" y="3733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266688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9080" y="1600200"/>
            <a:ext cx="216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21560" y="201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93160" y="201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38862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720" y="434340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2485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asi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yclomatic complex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n upper bound on the control complexity of a progra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= # edges in control grap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= # nodes in control grap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= # graph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= e - n + 2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program: # binary decisions +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anch testing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the elements of a conditional, not just one true and one false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se a test for every simple condition in a Boolean ex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branch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t to wr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|| (b &gt;= c)) { printf(“OK\n”)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wr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&amp;&amp; (b &gt;= c)) { printf(“OK\n”)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testing strate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is a=F, (b &gt;= c) = T: a=0, b=3, c=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different answ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branch test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t to wr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(x == good_pointer) &amp;&amp; (x-&gt;field1 == 3))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wr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(x = good_pointer) &amp;&amp; (x-&gt;field1 == 3))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testing strate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use only field1 value to exercise branch, we may miss pointer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>
            <a:off x="5486400" y="4419720"/>
            <a:ext cx="1676520" cy="838080"/>
          </a:xfrm>
          <a:prstGeom prst="rtTriangl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1676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ain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s on linear inequa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j &lt;= i +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two cases on boundary, one outside bound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71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4190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751760" y="4419720"/>
            <a:ext cx="1676520" cy="838080"/>
          </a:xfrm>
          <a:prstGeom prst="rtTriangl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257800"/>
            <a:ext cx="1676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4956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952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8960" y="56786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571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86400" y="4190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44956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9528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f-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alysis: match variable definitions (assignments) and u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5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gt; 0)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assignment get to the u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6400" y="3581280"/>
            <a:ext cx="1476720" cy="1602720"/>
            <a:chOff x="2516400" y="3581280"/>
            <a:chExt cx="1476720" cy="1602720"/>
          </a:xfrm>
        </p:grpSpPr>
        <p:sp>
          <p:nvSpPr>
            <p:cNvPr id="179" name=""/>
            <p:cNvSpPr/>
            <p:nvPr/>
          </p:nvSpPr>
          <p:spPr>
            <a:xfrm>
              <a:off x="2516400" y="35812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0280" y="47242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4038480"/>
              <a:ext cx="45720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software works as in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concentrate on functional testing---performance testing is ha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ests are required to adequately test the pr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adequate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, specialized structure---specialized tests can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test c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 loop entirel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ter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ter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-range of iter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1, n, n+1 it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-box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box tests are made from the specifications, not th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box testing complements clear-bo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test unusual cases be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black-box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ed inputs/outpu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inputs from spec, determine requried outpu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random tests, determine appropriate out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used in previous versions of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aluating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good are your tes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bugs found, compare to historical tre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rror inj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 bugs to copy of code, run tests on modified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testing proced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the program with inpu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he outputs to expected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softwar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ack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s are generated without knowledge of program intern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ear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ite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tests are generated from the program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ear-box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tests based on the structure of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given block of code executed when we think it should be execu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a variable receive the value we think it should ge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ability and observ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ability: must be able to cause a particular internal condition to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bility: must be able to see the effects of a state from the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(firout = 0.0, j =0; j &lt; N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rout += buff[j] * c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(firout &gt; 100.0) firout = 1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(firout &lt; -100.0) firout = -1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ability: to test range checks for firout, must first load circular buf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bility: how do we observe values of buff, firou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-based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-box testing generally tests selected program pat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gram to exercise a pa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e program to determine if path was properly execu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look at whether location on path was reached (control), whether variable on path was set (da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s of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ways to look at control cover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se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clomatic complex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nch test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 t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10-27T15:52:29Z</dcterms:modified>
  <cp:revision>61</cp:revision>
  <dc:subject/>
  <dc:title>No Slide Title</dc:title>
</cp:coreProperties>
</file>