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10A3-FA70-49AF-B44F-D7EEEAF5E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FBBB-9885-4E0D-A592-42C7B2B3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BF08-F701-4DC9-9831-54122B180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274D-54C9-4E14-8BB7-34272ABAE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D970-DC25-4AA1-B1BD-BF1D39AC0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D0FE-1FAC-4D50-9BAD-5887D42E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1EF1-063F-4C4B-B624-F0BF06E4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07A8-94FE-45B5-AA06-D948CD14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E090-C1AD-437E-9EBD-927CA3BC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693D-1DD2-467A-B8F2-D75E71A8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FC67-ABE7-4282-8C30-7AC66BB4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2ADA-6F0E-426C-AAC7-3EDDCACE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23C0-CF01-4232-BF5F-D194D09F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8CB2-3D16-4049-BA9A-CDB0A342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FD9FD-DAF9-44E8-95D9-0AF099E0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5BE5-E892-48D7-9003-42896FC5B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B120-04AE-4AAB-999C-72F2B253A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C0A1-2383-4C62-AC15-23461B6D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6716-74A8-41E7-BB82-145E2F0A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8B58-1592-4DC2-9319-1A9BA42D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935E-7186-4B8E-8621-2C89F4CE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5069-B2CC-4121-9807-9456E4EC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0CEA-BD4C-4933-8E97-77F591BB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B191-DF3A-4BFE-8188-C55F751A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© 2000 Morgan Kauf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Overheads for </a:t>
            </a:r>
            <a:r>
              <a:rPr b="0" i="1" lang="en-US" sz="1400" spc="-1" strike="noStrike">
                <a:solidFill>
                  <a:srgbClr val="5e574e"/>
                </a:solidFill>
                <a:latin typeface="Arial"/>
              </a:rPr>
              <a:t>Computers as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0D99-6175-4089-BAE7-A13F93BD465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8528-B92F-4CF2-8C0F-24A1694DBE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gram design and analy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s of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embly and lin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ircular buffer patter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2209680"/>
            <a:ext cx="304776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lar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19320" y="2971800"/>
            <a:ext cx="3047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3657600"/>
            <a:ext cx="3047760" cy="1905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(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hea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element(inde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ircular buffer implementation: FIR fil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 circ_buffer[N], circ_buffer_head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 c[N]; /* coefficients *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 ibuf, ic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(f=0, ibuff=circ_buff_head, ic=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&lt;N; ibuff=(ibuff==N-1?0:ibuff++), ic++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 = f + c[ic]*circ_buffer[ibuf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dels of progra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code is not a good representation for program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ums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ves much information implici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s derive intermediate representations to manipulate and optiize the progr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ata flow grap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F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data flow grap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es not represent contro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s basic block: code with no entry or ex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s the minimal ordering requirements on oper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ngle assignment for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 = a + b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c - d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 = x * 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b + d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l basic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 = a + b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c - d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 = x * 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1 = b + d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assignment 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ata flow grap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 = a + b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c - d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 = x * 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1 = b + d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assignment 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5486400" y="2666880"/>
            <a:ext cx="60948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711920" y="2701800"/>
            <a:ext cx="60984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238880" y="4191120"/>
            <a:ext cx="60984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24480" y="4191120"/>
            <a:ext cx="60984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08120" y="556272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F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62160" y="1870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93120" y="190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468920" y="1905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47240" y="1940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05520" y="23623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5867280" y="2362320"/>
            <a:ext cx="76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327672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2940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78200" y="5181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40480" y="3581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35960" y="23209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8245080" y="239724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6857640" y="3311640"/>
            <a:ext cx="1158840" cy="95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456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2362320"/>
            <a:ext cx="144792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"/>
          <p:cNvCxnSpPr>
            <a:stCxn id="176" idx="2"/>
            <a:endCxn id="170" idx="6"/>
          </p:cNvCxnSpPr>
          <p:nvPr/>
        </p:nvCxnSpPr>
        <p:spPr>
          <a:xfrm rot="5400000">
            <a:off x="7081560" y="3163680"/>
            <a:ext cx="2099160" cy="565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754380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77120" y="5222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FGs and partial ord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orde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+b, c-d; b+d x*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o pairs of operations in any ord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219320" y="274320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44840" y="277812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71800" y="4267080"/>
            <a:ext cx="60948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4267080"/>
            <a:ext cx="60948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5080" y="19461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568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1480" y="1981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80160" y="201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24382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1600200" y="243828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00200" y="335268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623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11120" y="5257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73400" y="365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368520" y="239724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978000" y="24732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2590560" y="335268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7852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76520" y="2438280"/>
            <a:ext cx="144756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"/>
          <p:cNvCxnSpPr>
            <a:stCxn id="200" idx="2"/>
            <a:endCxn id="195" idx="6"/>
          </p:cNvCxnSpPr>
          <p:nvPr/>
        </p:nvCxnSpPr>
        <p:spPr>
          <a:xfrm rot="5400000">
            <a:off x="2813760" y="3240000"/>
            <a:ext cx="2099520" cy="565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"/>
          <p:cNvSpPr/>
          <p:nvPr/>
        </p:nvSpPr>
        <p:spPr>
          <a:xfrm>
            <a:off x="32767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09680" y="5299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rol-data flow grap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DF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represents control and da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data flow graphs as componen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types of nod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ata flow no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marL="61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capsulates a data flow graph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1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1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1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1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operations in basic block form for simplici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2895480" y="2971800"/>
            <a:ext cx="243864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c +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ro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2895480"/>
            <a:ext cx="1676520" cy="11430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743200" y="3429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4038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05120" y="2936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57560" y="392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38640" y="5214960"/>
            <a:ext cx="27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quivalent 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3048120"/>
            <a:ext cx="2667240" cy="838080"/>
          </a:xfrm>
          <a:prstGeom prst="hexagon">
            <a:avLst>
              <a:gd name="adj" fmla="val 79564"/>
              <a:gd name="vf" fmla="val 11547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2012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26672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5105520" y="3886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34320" y="38862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05320" y="2936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786200" y="3851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224480" y="3774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05720" y="2936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ign patter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esign patter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generalized description of the design of a certain type of progr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 fills in details to customize the pattern to a particular programming probl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DFG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cond1) bb1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 bb2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3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(test1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c1: bb4(); break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c2: bb5(); break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c3: bb6(); break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5943600" y="1828800"/>
            <a:ext cx="1447920" cy="6858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772400" y="1828800"/>
            <a:ext cx="99072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b1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72200" y="2743200"/>
            <a:ext cx="99072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b2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72200" y="3657600"/>
            <a:ext cx="99072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b3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24280" y="5486400"/>
            <a:ext cx="99072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b4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15000" y="4648320"/>
            <a:ext cx="2057400" cy="609480"/>
          </a:xfrm>
          <a:prstGeom prst="hexagon">
            <a:avLst>
              <a:gd name="adj" fmla="val 84392"/>
              <a:gd name="vf" fmla="val 11547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248520" y="5486400"/>
            <a:ext cx="99036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b5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48720" y="5486400"/>
            <a:ext cx="99036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b6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9152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77120" y="1641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29560" y="2327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938480" y="47656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300800" y="52228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138880" y="46134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62940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057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"/>
          <p:cNvCxnSpPr>
            <a:stCxn id="239" idx="2"/>
            <a:endCxn id="240" idx="3"/>
          </p:cNvCxnSpPr>
          <p:nvPr/>
        </p:nvCxnSpPr>
        <p:spPr>
          <a:xfrm rot="5400000">
            <a:off x="7409520" y="2190600"/>
            <a:ext cx="61056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5" name=""/>
          <p:cNvSpPr/>
          <p:nvPr/>
        </p:nvSpPr>
        <p:spPr>
          <a:xfrm>
            <a:off x="670572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105160" y="49528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772400" y="49528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38680" y="60958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705720" y="6095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7543440" y="609588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r loo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(i=0; i&lt;N; i++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_body(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or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=0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ile (i&lt;N) 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_body(); i++; 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quival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3733920"/>
            <a:ext cx="3810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943600" y="3200400"/>
            <a:ext cx="1523880" cy="99072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&lt;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791320" y="4648320"/>
            <a:ext cx="18288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p_body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0572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10080" y="407988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467480" y="3657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529760" y="3165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1" name=""/>
          <p:cNvCxnSpPr>
            <a:stCxn id="266" idx="1"/>
            <a:endCxn id="265" idx="1"/>
          </p:cNvCxnSpPr>
          <p:nvPr/>
        </p:nvCxnSpPr>
        <p:spPr>
          <a:xfrm flipH="1" rot="10800000">
            <a:off x="5790240" y="3695040"/>
            <a:ext cx="153000" cy="1410480"/>
          </a:xfrm>
          <a:prstGeom prst="bentConnector3">
            <a:avLst>
              <a:gd name="adj1" fmla="val -1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5943600" y="2057400"/>
            <a:ext cx="152388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05720" y="2666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ssembly and link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st steps in compil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914400" y="2666880"/>
            <a:ext cx="7621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14600" y="2666880"/>
            <a:ext cx="1447920" cy="7621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19720" y="2666880"/>
            <a:ext cx="137160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05720" y="2743200"/>
            <a:ext cx="1447560" cy="7621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e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828800" y="3048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62520" y="3124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43600" y="3124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4674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90720" y="2743200"/>
            <a:ext cx="76176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66680" y="2819520"/>
            <a:ext cx="76212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495680" y="2743200"/>
            <a:ext cx="137160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0" y="2819520"/>
            <a:ext cx="137160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781680" y="4648320"/>
            <a:ext cx="1447920" cy="7617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48320" y="4724280"/>
            <a:ext cx="137160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438280" y="4648320"/>
            <a:ext cx="1447920" cy="7617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6019920" y="5029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388584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1752120" y="5029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914400" y="4343400"/>
            <a:ext cx="838080" cy="1295280"/>
            <a:chOff x="914400" y="4343400"/>
            <a:chExt cx="838080" cy="1295280"/>
          </a:xfrm>
        </p:grpSpPr>
        <p:sp>
          <p:nvSpPr>
            <p:cNvPr id="295" name=""/>
            <p:cNvSpPr/>
            <p:nvPr/>
          </p:nvSpPr>
          <p:spPr>
            <a:xfrm>
              <a:off x="990720" y="4343400"/>
              <a:ext cx="685800" cy="1295280"/>
            </a:xfrm>
            <a:prstGeom prst="rect">
              <a:avLst/>
            </a:prstGeom>
            <a:solidFill>
              <a:srgbClr val="5e57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43000" y="48006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600200" y="4419720"/>
              <a:ext cx="152280" cy="759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00200" y="4572000"/>
              <a:ext cx="152280" cy="763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600200" y="4724280"/>
              <a:ext cx="152280" cy="763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600200" y="4876920"/>
              <a:ext cx="152280" cy="759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600200" y="5029200"/>
              <a:ext cx="152280" cy="763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600200" y="5181480"/>
              <a:ext cx="152280" cy="763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0200" y="5334120"/>
              <a:ext cx="152280" cy="759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600200" y="5486400"/>
              <a:ext cx="152280" cy="763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4419720"/>
              <a:ext cx="152280" cy="759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14400" y="4572000"/>
              <a:ext cx="152280" cy="763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914400" y="4724280"/>
              <a:ext cx="152280" cy="763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14400" y="4876920"/>
              <a:ext cx="152280" cy="759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14400" y="5029200"/>
              <a:ext cx="152280" cy="763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914400" y="5181480"/>
              <a:ext cx="152280" cy="763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14400" y="5334120"/>
              <a:ext cx="152280" cy="759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914400" y="5486400"/>
              <a:ext cx="152280" cy="763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ultiple-module progra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s may be composed from several fi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resses become more specific during process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relative addr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measured relative to the start of a modul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bsolute addr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measured relative to the start of the CPU address spa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ssembl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jor task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binary for symbolic instruction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labels into address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pseudo-ops (data, etc.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 one-to-one transl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embly label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 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bel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R r4,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mbol tab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r0,r1,r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r3,r4,r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P r0,r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 r5,r6,r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ssembly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mbol table gener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program location counter (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L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to determine address of each loc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n program, keeping count of PL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resses are generated at assembly time, not execution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mbol table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r0,r1,r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r3,r4,r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P r0,r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 r5,r6,r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40132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"/>
          <p:cNvSpPr/>
          <p:nvPr/>
        </p:nvSpPr>
        <p:spPr>
          <a:xfrm>
            <a:off x="4648320" y="2362320"/>
            <a:ext cx="40129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366480" y="1523880"/>
            <a:ext cx="1455120" cy="609840"/>
            <a:chOff x="366480" y="1523880"/>
            <a:chExt cx="1455120" cy="609840"/>
          </a:xfrm>
        </p:grpSpPr>
        <p:sp>
          <p:nvSpPr>
            <p:cNvPr id="327" name=""/>
            <p:cNvSpPr/>
            <p:nvPr/>
          </p:nvSpPr>
          <p:spPr>
            <a:xfrm>
              <a:off x="382320" y="1523880"/>
              <a:ext cx="14392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366480" y="1565280"/>
              <a:ext cx="1419840" cy="568440"/>
              <a:chOff x="366480" y="1565280"/>
              <a:chExt cx="1419840" cy="568440"/>
            </a:xfrm>
          </p:grpSpPr>
          <p:sp>
            <p:nvSpPr>
              <p:cNvPr id="329" name=""/>
              <p:cNvSpPr/>
              <p:nvPr/>
            </p:nvSpPr>
            <p:spPr>
              <a:xfrm>
                <a:off x="551880" y="2133720"/>
                <a:ext cx="9309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66480" y="1565280"/>
                <a:ext cx="141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PLC=0x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1" name=""/>
          <p:cNvGrpSpPr/>
          <p:nvPr/>
        </p:nvGrpSpPr>
        <p:grpSpPr>
          <a:xfrm>
            <a:off x="382680" y="2057400"/>
            <a:ext cx="1455480" cy="609480"/>
            <a:chOff x="382680" y="2057400"/>
            <a:chExt cx="1455480" cy="609480"/>
          </a:xfrm>
        </p:grpSpPr>
        <p:sp>
          <p:nvSpPr>
            <p:cNvPr id="332" name=""/>
            <p:cNvSpPr/>
            <p:nvPr/>
          </p:nvSpPr>
          <p:spPr>
            <a:xfrm>
              <a:off x="398520" y="2057400"/>
              <a:ext cx="14396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382680" y="2098800"/>
              <a:ext cx="1419840" cy="568080"/>
              <a:chOff x="382680" y="2098800"/>
              <a:chExt cx="1419840" cy="568080"/>
            </a:xfrm>
          </p:grpSpPr>
          <p:sp>
            <p:nvSpPr>
              <p:cNvPr id="334" name=""/>
              <p:cNvSpPr/>
              <p:nvPr/>
            </p:nvSpPr>
            <p:spPr>
              <a:xfrm>
                <a:off x="568080" y="2666880"/>
                <a:ext cx="9313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82680" y="2098800"/>
                <a:ext cx="141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PLC=0x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6" name=""/>
          <p:cNvGrpSpPr/>
          <p:nvPr/>
        </p:nvGrpSpPr>
        <p:grpSpPr>
          <a:xfrm>
            <a:off x="382320" y="2590920"/>
            <a:ext cx="1455120" cy="609120"/>
            <a:chOff x="382320" y="2590920"/>
            <a:chExt cx="1455120" cy="609120"/>
          </a:xfrm>
        </p:grpSpPr>
        <p:sp>
          <p:nvSpPr>
            <p:cNvPr id="337" name=""/>
            <p:cNvSpPr/>
            <p:nvPr/>
          </p:nvSpPr>
          <p:spPr>
            <a:xfrm>
              <a:off x="398160" y="2590920"/>
              <a:ext cx="14392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382320" y="2631960"/>
              <a:ext cx="1419840" cy="568080"/>
              <a:chOff x="382320" y="2631960"/>
              <a:chExt cx="1419840" cy="568080"/>
            </a:xfrm>
          </p:grpSpPr>
          <p:sp>
            <p:nvSpPr>
              <p:cNvPr id="339" name=""/>
              <p:cNvSpPr/>
              <p:nvPr/>
            </p:nvSpPr>
            <p:spPr>
              <a:xfrm>
                <a:off x="567720" y="3200040"/>
                <a:ext cx="9309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82320" y="2631960"/>
                <a:ext cx="141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PLC=0x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1" name=""/>
          <p:cNvGrpSpPr/>
          <p:nvPr/>
        </p:nvGrpSpPr>
        <p:grpSpPr>
          <a:xfrm>
            <a:off x="382320" y="3124080"/>
            <a:ext cx="1455120" cy="609840"/>
            <a:chOff x="382320" y="3124080"/>
            <a:chExt cx="1455120" cy="609840"/>
          </a:xfrm>
        </p:grpSpPr>
        <p:sp>
          <p:nvSpPr>
            <p:cNvPr id="342" name=""/>
            <p:cNvSpPr/>
            <p:nvPr/>
          </p:nvSpPr>
          <p:spPr>
            <a:xfrm>
              <a:off x="398160" y="3124080"/>
              <a:ext cx="14392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382320" y="3165480"/>
              <a:ext cx="1419840" cy="568440"/>
              <a:chOff x="382320" y="3165480"/>
              <a:chExt cx="1419840" cy="568440"/>
            </a:xfrm>
          </p:grpSpPr>
          <p:sp>
            <p:nvSpPr>
              <p:cNvPr id="344" name=""/>
              <p:cNvSpPr/>
              <p:nvPr/>
            </p:nvSpPr>
            <p:spPr>
              <a:xfrm>
                <a:off x="567720" y="3733920"/>
                <a:ext cx="9309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82320" y="3165480"/>
                <a:ext cx="141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PLC=0x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wo-pass assembl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s 1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s 2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binary instru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lative address gener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label values may not be known at assembly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bels within the module may be kept in relative for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keep track of external labels---can’t generate full binary for instructions that use external labe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st design patter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2209680"/>
            <a:ext cx="274320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95280" y="2971800"/>
            <a:ext cx="2743200" cy="457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3429000"/>
            <a:ext cx="2743200" cy="1981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-eleme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-eleme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-eleme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roy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2209680"/>
            <a:ext cx="259092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-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2590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00760" y="202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468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seudo-oper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seudo-ops do not generate instruc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R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ts program loc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EQ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generates symbol table entry without advancing PL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ata statem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efine data block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k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bines several object modules into a single executable modu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ob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modules in order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lve labels across modu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"/>
          <p:cNvGrpSpPr/>
          <p:nvPr/>
        </p:nvGrpSpPr>
        <p:grpSpPr>
          <a:xfrm>
            <a:off x="1752480" y="2479680"/>
            <a:ext cx="2816280" cy="459720"/>
            <a:chOff x="1752480" y="2479680"/>
            <a:chExt cx="2816280" cy="459720"/>
          </a:xfrm>
        </p:grpSpPr>
        <p:sp>
          <p:nvSpPr>
            <p:cNvPr id="355" name=""/>
            <p:cNvSpPr/>
            <p:nvPr/>
          </p:nvSpPr>
          <p:spPr>
            <a:xfrm>
              <a:off x="1752480" y="2514600"/>
              <a:ext cx="304920" cy="3808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190600" y="2479680"/>
              <a:ext cx="237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xternal refer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3428280" y="1523880"/>
            <a:ext cx="1524600" cy="914400"/>
            <a:chOff x="3428280" y="1523880"/>
            <a:chExt cx="1524600" cy="914400"/>
          </a:xfrm>
        </p:grpSpPr>
        <p:sp>
          <p:nvSpPr>
            <p:cNvPr id="358" name=""/>
            <p:cNvSpPr/>
            <p:nvPr/>
          </p:nvSpPr>
          <p:spPr>
            <a:xfrm>
              <a:off x="4648320" y="1981080"/>
              <a:ext cx="304560" cy="457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28280" y="1523880"/>
              <a:ext cx="15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ry po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ternals and entry poi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401292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r1,r2,r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y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%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R r4,yy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r3,r4,r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209680" y="2286000"/>
            <a:ext cx="2362320" cy="304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1143000" y="2286000"/>
            <a:ext cx="5867280" cy="914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dule order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22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modules must be placed in absolute positions in the memory spa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Load ma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r linker flags control the order of modu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"/>
          <p:cNvSpPr/>
          <p:nvPr/>
        </p:nvSpPr>
        <p:spPr>
          <a:xfrm>
            <a:off x="3429000" y="4038480"/>
            <a:ext cx="1981080" cy="609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429000" y="4648320"/>
            <a:ext cx="198108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29000" y="5791320"/>
            <a:ext cx="198108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29000" y="5410080"/>
            <a:ext cx="1981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ynamic link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operating systems link modules dynamically at run tim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s one copy of library among all executing program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programs to be updated with new versions of librar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ign pattern el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ate machi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machine is useful in many contex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sing user in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ing to complex stimul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ing sequential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ate machine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2438280"/>
            <a:ext cx="1219320" cy="60984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3733920"/>
            <a:ext cx="1523880" cy="60948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z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373392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5029200"/>
            <a:ext cx="1295640" cy="5335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0" idx="0"/>
            <a:endCxn id="100" idx="2"/>
          </p:cNvCxnSpPr>
          <p:nvPr/>
        </p:nvCxnSpPr>
        <p:spPr>
          <a:xfrm flipH="1" rot="16200000">
            <a:off x="4115520" y="2742120"/>
            <a:ext cx="610560" cy="2160"/>
          </a:xfrm>
          <a:prstGeom prst="curvedConnector5">
            <a:avLst>
              <a:gd name="adj1" fmla="val -37463"/>
              <a:gd name="adj2" fmla="val 26400000"/>
              <a:gd name="adj3" fmla="val -37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2" idx="0"/>
            <a:endCxn id="102" idx="2"/>
          </p:cNvCxnSpPr>
          <p:nvPr/>
        </p:nvCxnSpPr>
        <p:spPr>
          <a:xfrm flipH="1" rot="16200000">
            <a:off x="6401520" y="4036680"/>
            <a:ext cx="610200" cy="2160"/>
          </a:xfrm>
          <a:prstGeom prst="curvedConnector5">
            <a:avLst>
              <a:gd name="adj1" fmla="val -37485"/>
              <a:gd name="adj2" fmla="val 28800000"/>
              <a:gd name="adj3" fmla="val -374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5029200" y="2743200"/>
            <a:ext cx="12193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105160" y="4343400"/>
            <a:ext cx="1066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5105520" y="4343400"/>
            <a:ext cx="1523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419720" y="31240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71800" y="434340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124080" y="403848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819520" y="281952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41600" y="209880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t/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36520" y="281952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t/timer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756560" y="3317760"/>
            <a:ext cx="102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be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r/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59840" y="50292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belt/timer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28480" y="426708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t/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65240" y="4537080"/>
            <a:ext cx="142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t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zzer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2640" y="396252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t/buzzer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360" y="327672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t/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2438280"/>
            <a:ext cx="142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t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zzer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ate machine patter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2209680"/>
            <a:ext cx="304776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2971800"/>
            <a:ext cx="3047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3657600"/>
            <a:ext cx="3047760" cy="1905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step(in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 implement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define IDLE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define SEATED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define BELTED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define BUZZER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witch (stat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se IDLE: if (seat) { state = SEATED; timer_on = TRUE;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se SEATED: if (belt) state = BELTE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 if (timer) state = BUZZE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ircular buff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"/>
          <p:cNvSpPr/>
          <p:nvPr/>
        </p:nvSpPr>
        <p:spPr>
          <a:xfrm>
            <a:off x="2133720" y="1981080"/>
            <a:ext cx="76176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1981080"/>
            <a:ext cx="76212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57600" y="1981080"/>
            <a:ext cx="76212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19720" y="1981080"/>
            <a:ext cx="76176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81480" y="1981080"/>
            <a:ext cx="76212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1981080"/>
            <a:ext cx="76212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133720" y="2819520"/>
            <a:ext cx="3047760" cy="891000"/>
            <a:chOff x="2133720" y="2819520"/>
            <a:chExt cx="3047760" cy="891000"/>
          </a:xfrm>
        </p:grpSpPr>
        <p:sp>
          <p:nvSpPr>
            <p:cNvPr id="136" name=""/>
            <p:cNvSpPr/>
            <p:nvPr/>
          </p:nvSpPr>
          <p:spPr>
            <a:xfrm rot="16200000">
              <a:off x="3505320" y="1447920"/>
              <a:ext cx="304560" cy="304776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79200 h 3047760"/>
                <a:gd name="textAreaBottom" fmla="*/ 2968560 h 304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12880" y="320040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895480" y="2819160"/>
            <a:ext cx="3048120" cy="891360"/>
            <a:chOff x="2895480" y="2819160"/>
            <a:chExt cx="3048120" cy="891360"/>
          </a:xfrm>
        </p:grpSpPr>
        <p:sp>
          <p:nvSpPr>
            <p:cNvPr id="139" name=""/>
            <p:cNvSpPr/>
            <p:nvPr/>
          </p:nvSpPr>
          <p:spPr>
            <a:xfrm rot="16200000">
              <a:off x="4267080" y="1447560"/>
              <a:ext cx="304920" cy="304812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79200 h 3048120"/>
                <a:gd name="textAreaBottom" fmla="*/ 2968920 h 304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98320" y="320040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657600" y="2819520"/>
            <a:ext cx="3047760" cy="891000"/>
            <a:chOff x="3657600" y="2819520"/>
            <a:chExt cx="3047760" cy="891000"/>
          </a:xfrm>
        </p:grpSpPr>
        <p:sp>
          <p:nvSpPr>
            <p:cNvPr id="142" name=""/>
            <p:cNvSpPr/>
            <p:nvPr/>
          </p:nvSpPr>
          <p:spPr>
            <a:xfrm rot="16200000">
              <a:off x="5029200" y="1447920"/>
              <a:ext cx="304560" cy="304776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79200 h 3047760"/>
                <a:gd name="textAreaBottom" fmla="*/ 2968560 h 304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60440" y="320040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580200" y="373392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95480" y="4343400"/>
            <a:ext cx="76212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4343400"/>
            <a:ext cx="76212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19720" y="4343400"/>
            <a:ext cx="76176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81480" y="4343400"/>
            <a:ext cx="76212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03880" y="533412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lar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4343400"/>
            <a:ext cx="76212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57600" y="4343400"/>
            <a:ext cx="76212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19720" y="4343400"/>
            <a:ext cx="76176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9T10:33:27Z</dcterms:created>
  <dc:creator>Wayne Wolf</dc:creator>
  <dc:description/>
  <dc:language>en-US</dc:language>
  <cp:lastModifiedBy>Wayne Wolf</cp:lastModifiedBy>
  <dcterms:modified xsi:type="dcterms:W3CDTF">2000-07-11T15:58:17Z</dcterms:modified>
  <cp:revision>34</cp:revision>
  <dc:subject/>
  <dc:title>No Slide Title</dc:title>
</cp:coreProperties>
</file>