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952-A941-49B8-B3A5-D7C6C93B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481-476E-41E8-B564-FE929A76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D63-5084-41B0-9955-4F0985EA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FB7-C767-4C9A-8742-D1265B47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7E63-91F7-4D31-B1A1-C857B6A3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0B06-3C9B-4A54-906A-AAF813CB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C07B-766A-49A2-9DB3-92AEA2EF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5520-AD0D-4C36-B413-99A2C8F7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4049-106F-4107-9992-BAA9A0C5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DC42-0612-491A-BF4E-19BA8850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86DC-80DD-457E-ACD6-37F2704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45D-5D71-4FC1-A10C-3CE44A82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D1F7-36F8-45C6-A236-67C3505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FC68-374C-4517-BF77-1609FD53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D102-2350-4628-9A37-936578C1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758F-8137-44C5-A118-6FB545EF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558D-A157-4887-BDFA-BEB7F226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4EA-B85F-4ADF-89FD-00178F08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46C-9CE7-45AE-A89B-D982D8EC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ED1-4D30-4E17-8F27-13B9D88E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16F-34C2-4A56-B64A-7F217647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E64-3D8F-43F7-9A54-0B7FC0A1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064-1207-42A8-A063-3D8FF457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216-CDC4-4B7F-89DC-011A8AB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304E-5731-4067-BCE7-2C0BA1E97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90F6-5C3E-47F5-B4EB-1A2A638860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instruction s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programming mod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assembly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memory organ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data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flow of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U/shifter status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, overflow, negative, fixed-point carry, inputsign, floating-point invalid, last op was floating-point, compare accumulation registers, floating-point under/oveflow, fixed-point overflow, floating-point inval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ift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, overflow, 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g 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ALU operations set AZ (zero), AN (negative), AV (overflow), AC (fixed-point carry), AI (floating-point invalid) bits in AST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KY is sticky version of some ASTAT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data 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-point -1 + 1 = 0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Z = 1, AU = 0, AN = 0, AV = 0, AC = 1, AI =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KY bit AOS (fixed point underflow) not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-point -2*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N = 1, MV = 0, MU = 1, MI =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STKY bits, none of them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SHIFT 0x7fffffff BY 3: SZ=0,SV=1,SS=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function comput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issue some computations in parall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al add-subtrac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-point multiply/accumulate and add,subtract,avae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ating-point multiply and ALU operato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and dual add/sub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er operand from R0-R7, ALU operand from R8-R1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load/sto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ad/store architecture: no memory-direct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data address generato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DA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memo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et up DAG registers to control loads/st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G1 regis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9051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3623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8195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32767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9625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4197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8769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53341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19051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23623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8195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32767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39625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44197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48769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53341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9051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3623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28195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32767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625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4197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48769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53341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19051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23623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8195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2767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9625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4197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48769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53341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address gene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indexed, modulo, bit-reverse index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1 bits determine whether primary or alternate registers are ac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addres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diate val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 = DM(0x2000000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loa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 = DM(_a); ! Loads contents of _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sto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_a)= R0; ! Stores R0 at _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-modify with upd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register holds base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register/immediate holds modifier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 = DM(I3,M3) !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M(I2,1) = R1 ! 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lar buffer: L register is buffer start index, B is buffer base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in program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put data in program memory to read two values per cyc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0 = DM(M0,I0), F1 = PM(M8,I9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allows programmer to control which memory values are stor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programming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ster fi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0-R15 (aliased as F0-F15 for floating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us regis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p regis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ddress generator regis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regis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assig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x = (a + b) - c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0 = DM(_a) ! Load 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1 = DM(_b); ! Load b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3 = R0 + R1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2 = DM(_c); ! Load 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3 = R3-R2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DM(_x) = R3; ! Store result in x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y = a*(b+c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1 = DM(_b) ! Load b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2 = DM(_c); ! Load 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2 = R1 + R2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0 = DM(_a); ! Load 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2 = R2-R0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DM(_y) = R23; ! Store result in yx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version using poin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! Load b,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2=DM(I1,M5), R1=PM(I8,M13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 = R2+R1, R12=DM(I0,M5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6 = R12*R0(SSI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M(I0,M5)=R8; ! Store in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(a &lt;&lt; 2) |  (b &amp; 15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=DM(_a); ! Load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=LSHIFT R0 by #2; ! Left shi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=DM(_b); R3=#15; ! Load immedi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=R1 AND R3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 = R1 OR R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M(_z) = R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program sequenc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 cach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stack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gist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logic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ddres generato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ditional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may be executed conditiona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s come fro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ithmetic status (ASTAT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 control 1 (MODE1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 inpu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coun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jum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onditional flow of control chan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UMP f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addressing mo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-rel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ran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: CALL, JUMP, RTS, R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condit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can be direct, indirect, PC-rel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layed or non-delay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causes automatic loop abo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if stat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a &gt; b) { x = 5; y = c + d; } else x = c -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 = DM(_a); R1 = DM(_b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(R0,R1); ! Comp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GE JUMP fblock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if state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 True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block: R0 = 5; ! Get value for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_x) = R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 = DM(_c); R1 = DM(_d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1 = R0+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_y)=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UMP other; ! Skip false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assembly langu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notation terminated by semicol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=DM(M0,I0), R2=PM(M8,I8); ! com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bel: R3=R1+R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58160" y="3733560"/>
            <a:ext cx="6458400" cy="1568160"/>
            <a:chOff x="1658160" y="3733560"/>
            <a:chExt cx="6458400" cy="1568160"/>
          </a:xfrm>
        </p:grpSpPr>
        <p:sp>
          <p:nvSpPr>
            <p:cNvPr id="90" name=""/>
            <p:cNvSpPr/>
            <p:nvPr/>
          </p:nvSpPr>
          <p:spPr>
            <a:xfrm flipH="1" flipV="1">
              <a:off x="1828800" y="373356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58160" y="484200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memory ac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0360" y="4800600"/>
              <a:ext cx="31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 memory ac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343040" y="3733560"/>
              <a:ext cx="76212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if state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 False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block: R0 = DM(_c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1 = DM(_d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1 = R0-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_x) = 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ther:  ! Code after 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ncy if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(a&gt;b) y = c-d; else y = c+d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aralleism to speed it up---compute both cases, then choose which one to sto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ncy if implementation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! Load valu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1=DM(_a); R2=DM(_b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3=DM(_c); R4=DM(_d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! Compute both sum and differ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12 = r2+r4, r0 = r2-r4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! Choose which one to sav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mp(r8,r1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 ge r0=r12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dm(_y) = r0 ! Write to 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 UNTIL loo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UNTIL instruction provides efficient loop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CNTR=30, DO label UNTIL LC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=DM(I0,M0), F2=PM(I8,M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=R0-R1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=F2+F3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46280" y="3429000"/>
            <a:ext cx="2073240" cy="2253600"/>
            <a:chOff x="746280" y="3429000"/>
            <a:chExt cx="2073240" cy="2253600"/>
          </a:xfrm>
        </p:grpSpPr>
        <p:sp>
          <p:nvSpPr>
            <p:cNvPr id="195" name=""/>
            <p:cNvSpPr/>
            <p:nvPr/>
          </p:nvSpPr>
          <p:spPr>
            <a:xfrm flipV="1">
              <a:off x="2133720" y="3429000"/>
              <a:ext cx="68580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6280" y="522288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op 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876400" y="3429000"/>
            <a:ext cx="3022920" cy="2253600"/>
            <a:chOff x="2876400" y="3429000"/>
            <a:chExt cx="3022920" cy="2253600"/>
          </a:xfrm>
        </p:grpSpPr>
        <p:sp>
          <p:nvSpPr>
            <p:cNvPr id="198" name=""/>
            <p:cNvSpPr/>
            <p:nvPr/>
          </p:nvSpPr>
          <p:spPr>
            <a:xfrm flipV="1">
              <a:off x="3733920" y="3429000"/>
              <a:ext cx="129528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76400" y="5222880"/>
              <a:ext cx="302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st instruction in lo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459480" y="3429000"/>
            <a:ext cx="1690920" cy="2314440"/>
            <a:chOff x="6459480" y="3429000"/>
            <a:chExt cx="1690920" cy="2314440"/>
          </a:xfrm>
        </p:grpSpPr>
        <p:sp>
          <p:nvSpPr>
            <p:cNvPr id="201" name=""/>
            <p:cNvSpPr/>
            <p:nvPr/>
          </p:nvSpPr>
          <p:spPr>
            <a:xfrm flipH="1" flipV="1">
              <a:off x="7238880" y="3429000"/>
              <a:ext cx="15264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59480" y="4917960"/>
              <a:ext cx="16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rmin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FIR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=0, f=0; i&lt;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 = f + c[i]*x[i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 filter assemb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0=_a; I8=b; ! a[0] (DAG0), b[0] (DAG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0=1; M8=1 ! Set up inc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Loop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CNTR=N, DO loopend UNTIL LC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Use postincrement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=DM(I0,M0), R2=PM(I8,M8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pend: R8=R1*R2, R12=R12+R9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timized FIR filter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4=_a; I12=_b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 = R4 xor R4, R1=DM(I4,M6), R2=PM(I12,M1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R0F = R4, MODIFY(I7,M7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Star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CNTR=20, DO(PC,loop) UNTIL LC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p: MRF=MRF+42*R1 (SSI), R1=DM(I4,M6), R2=PM(I12,M1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Loop clean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=MR0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subroutine c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ALL instru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LL fo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use absolute, indirect, PC-relative addressing m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using RTS i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C st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 stack: 30 locations X 24 instru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addresses for subroutines, interrupt service routines, loops held in PC s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fun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f1(int a) { f2(a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=DM(I1,-1); ! Load arg into R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M(I1,M1)=R0; ! Push f2’s a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LL f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IFY(I1,-1); ! Pop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T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memory sp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130560" y="5797440"/>
            <a:ext cx="2882880" cy="36828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P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69800" y="592776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84600" y="577548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172200" y="5791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0560" y="5187960"/>
            <a:ext cx="288288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b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0560" y="3587760"/>
            <a:ext cx="2882880" cy="15876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30560" y="1987560"/>
            <a:ext cx="2882880" cy="15876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2600" y="4784760"/>
            <a:ext cx="125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x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2600" y="3184560"/>
            <a:ext cx="125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x4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883040"/>
            <a:ext cx="2882880" cy="292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ortant programming remind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delayed branches (JUMP, CALL, RTS, RTI) do not execute 2 following instructions. Delayed branches are avail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miss costs at least one cycle to allow program memory bus to comple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ortant programming reminders, cont’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 cache misses in loo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ses on first and last loop iteration if data memory is accessed in last 2 instructions of loo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misses if loop has only one instruction which requires a program memory bus a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instr. loops should be executed 3 times, 2-instr. loops 2 times to avoid NO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ortant programming reminders, cont’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Ps added for DAG register write followed by DAG data addressing in same register ba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program fixed wait states or 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does not occur until 2 instructions after delayed bran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ize circular buffer by setting L to positive value, loading B to b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ortant programming reminders, cont’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DAG register transfers are disallow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given 2 writes to same register file in same cycle, only one actually occu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- to floating-point conversion always rounds to 40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DM bus can access all memory sp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ortant programming reminders, cont’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mixing 32-bit and 48-bit words in a block, all instructions must be below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-bit short words are extended to 32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dual data access, use DM for data-only access, PM for mixed data/instruction block. Instruction comes from ca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variety of conditions cause st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data ty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-bit IEEE single-precision floating-poi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0-bit IEEE extended-precision floating-poi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-bit integ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organized internally as 32-bit wo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micro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Harvard archit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memory can be used to store som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ster file connects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mode regis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importa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TAT: arithmetic sta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KY: stick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 1: mode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nding and satu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ating-point can b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ed toward zer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ed toward nea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U supports saturation arithmetic (ALUSAT bit in MODE1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flow results in max value, not rollo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i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-point operations can accumulate into local MR registers or be written to register file. Fixed-point result is 80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ating-point results always go to register fi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us bits: negative, under/overflow, invalid, fixed-point undeflow, floating-point unerflow, floating-point inval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yne Wolf</dc:creator>
  <dc:description/>
  <dc:language>en-US</dc:language>
  <cp:lastModifiedBy>Preferred Customer</cp:lastModifiedBy>
  <dcterms:modified xsi:type="dcterms:W3CDTF">2000-08-23T02:00:03Z</dcterms:modified>
  <cp:revision>54</cp:revision>
  <dc:subject/>
  <dc:title>SHARC programming model</dc:title>
</cp:coreProperties>
</file>