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B47-719D-497F-8372-0CA7C34D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E80-0F15-4CB2-BE38-0F093F48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430-A5B8-425C-9AC8-4402214E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116-69A2-4F3F-964E-7E69B951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278C-0E6A-4AC0-9393-7B3E08F9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E186-DCDD-4B07-B986-DD4ACDE4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0001-994E-40BF-9355-12A5DA87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ABA0-6CD9-463A-A68B-22211339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740B-6301-4DF7-8995-9B6A72D6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BF0D-FC46-4675-A797-AA3198F5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71B4-2C62-43E1-92F5-6DFB6E0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161-5D69-4B22-8338-53C4831C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E85E-0076-417C-BB28-F7942DE3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04C2-E9CF-49F2-88C7-B1D7098D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23BB-9954-4A61-8AED-6E92E92A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C3E9-BE67-4F84-B2A7-B779A9E0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B756-8F0E-4E2C-8370-A35C43AA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D75-9D88-4452-9741-D28C5DDB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B25-D739-474B-A0E4-ACB86846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A7F-B8C1-48DA-AA69-FCC85FBF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E21-922B-4B2A-9994-F5FD372E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279-D182-4F5D-A77E-C6257757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6A7-5ED7-4EE2-BDFC-DBB54D4C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01C-FB6B-46CC-B87D-D3BB5123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B193-33E0-4C50-B13F-9554F5E66E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18D3-45EF-429A-8CF3-B3B14254D8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video accel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1828800"/>
            <a:ext cx="12952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828800"/>
            <a:ext cx="24386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Motion-estim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51460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3124080"/>
            <a:ext cx="3808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3124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666880" y="3733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11720" y="2631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-mv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0920" y="32004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666880" y="44956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0920" y="396252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666880" y="5410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0920" y="487692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7880" y="2819520"/>
            <a:ext cx="2057400" cy="761760"/>
          </a:xfrm>
          <a:prstGeom prst="flowChartPunchedCard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2819520"/>
            <a:ext cx="380880" cy="152280"/>
          </a:xfrm>
          <a:prstGeom prst="rtTriangl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80160" y="4343400"/>
            <a:ext cx="2057400" cy="1143000"/>
          </a:xfrm>
          <a:prstGeom prst="flowChartPunchedCard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4343400"/>
            <a:ext cx="380880" cy="304920"/>
          </a:xfrm>
          <a:prstGeom prst="rtTriangl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consid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large amount of memo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roblock has 256 pixel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area has 1,089 pix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eed external memory (especially if buffering multiple macroblocks/search area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ion estimator organ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80880" y="3657240"/>
            <a:ext cx="21337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2057400" y="2133000"/>
            <a:ext cx="1600200" cy="838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2057400" y="4876200"/>
            <a:ext cx="1600200" cy="838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3200400" y="2285640"/>
            <a:ext cx="1600200" cy="5331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3581280"/>
            <a:ext cx="68580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200400" y="5028840"/>
            <a:ext cx="1600200" cy="5331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1828800"/>
            <a:ext cx="91440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3276720"/>
            <a:ext cx="16002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2590920"/>
            <a:ext cx="91440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5562720"/>
            <a:ext cx="91440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05740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28954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19920" y="3885840"/>
            <a:ext cx="838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582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49080" y="4038480"/>
            <a:ext cx="10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05520" y="3699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22096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3124080"/>
            <a:ext cx="83844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5943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67080" y="2133360"/>
            <a:ext cx="9144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267080" y="2895480"/>
            <a:ext cx="9144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ixel schedu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95520" y="1886040"/>
          <a:ext cx="590220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886040"/>
                    <a:ext cx="59022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"/>
          <p:cNvGrpSpPr/>
          <p:nvPr/>
        </p:nvGrpSpPr>
        <p:grpSpPr>
          <a:xfrm>
            <a:off x="2286000" y="2971800"/>
            <a:ext cx="3657600" cy="1752480"/>
            <a:chOff x="2286000" y="2971800"/>
            <a:chExt cx="3657600" cy="1752480"/>
          </a:xfrm>
        </p:grpSpPr>
        <p:sp>
          <p:nvSpPr>
            <p:cNvPr id="184" name=""/>
            <p:cNvSpPr/>
            <p:nvPr/>
          </p:nvSpPr>
          <p:spPr>
            <a:xfrm>
              <a:off x="2286000" y="2971800"/>
              <a:ext cx="175248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800" y="3809880"/>
              <a:ext cx="182880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24080" y="3317760"/>
              <a:ext cx="103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M(0,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95480" y="4800600"/>
            <a:ext cx="3810240" cy="501120"/>
            <a:chOff x="2895480" y="4800600"/>
            <a:chExt cx="3810240" cy="501120"/>
          </a:xfrm>
        </p:grpSpPr>
        <p:sp>
          <p:nvSpPr>
            <p:cNvPr id="188" name=""/>
            <p:cNvSpPr/>
            <p:nvPr/>
          </p:nvSpPr>
          <p:spPr>
            <a:xfrm>
              <a:off x="2895480" y="480060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480060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76720" y="484200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(0,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requires a large amount of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simple patterns with obvious answers for initial t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act sample data from JPEG pictures for more realistic t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d accelerator for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lock motion estim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ne step in video compr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 two-dimensional correl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4114800"/>
            <a:ext cx="1676520" cy="1676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41148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4114800"/>
            <a:ext cx="60984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41148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41148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114800"/>
            <a:ext cx="60984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1148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41148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4114800"/>
            <a:ext cx="60984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4267080"/>
            <a:ext cx="60948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267080"/>
            <a:ext cx="60984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ck motion esti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EG divides frame into 16 x 16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acrobloc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motion estim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for best match within a search ran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similarity with sum-of-absolute-differences (SA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M(i,j) - S(i-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j-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st mat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match produces motion vector for motion bloc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3200400"/>
            <a:ext cx="2438280" cy="2438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733920"/>
            <a:ext cx="7621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19720" y="4114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ll search algorith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x = 0; besty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sad = MAXSA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ox = - SEARCHSIZE; ox &lt; SEARCHSIZE; ox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oy = -SEARCHSIZE; oy &lt; SEARCHSIZE; oy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result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0; i&lt;MBSIZE; i++) {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j=0; j&lt;MBSIZE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+= iabs(mb[i][j] - search[i-ox+XCENTER][j-oy-YCENTER]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ll search algorithm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result &lt;= bestsad) { bestsad = result; bestx = ox; besty = oy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utational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BSIZE = 16, SEARCHSIZE = 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area is 8 + 8 + 1 in each dim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perfor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o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(16 x 16) x (17 x 17) = 73984 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F format has 352 x 288 frames -&gt; 22 x 18 macrobloc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95280" y="1752480"/>
          <a:ext cx="6667560" cy="718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667560" cy="718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 data types, basic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on-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362320"/>
            <a:ext cx="22096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y : 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819520"/>
            <a:ext cx="220968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1828800"/>
            <a:ext cx="2362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cro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362320"/>
            <a:ext cx="236232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[] : pixel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2819520"/>
            <a:ext cx="23623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1828800"/>
            <a:ext cx="2362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arch-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2362320"/>
            <a:ext cx="236232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[] : pixel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819520"/>
            <a:ext cx="23623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962520"/>
            <a:ext cx="22096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4495680"/>
            <a:ext cx="22096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4952880"/>
            <a:ext cx="220968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962520"/>
            <a:ext cx="26668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on-estim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495680"/>
            <a:ext cx="26668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4952880"/>
            <a:ext cx="26668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-mv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9-22T02:43:41Z</dcterms:modified>
  <cp:revision>42</cp:revision>
  <dc:subject/>
  <dc:title>No Slide Title</dc:title>
</cp:coreProperties>
</file>