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A6E3-FF9B-4C33-90A2-408F69441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2898-FA52-4A7A-A521-AE5BDE5C5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FD77-56C5-41D4-BAEE-3BECC1FC6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1B10-747C-44F9-BC83-32F24EC5A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7A91B-C36E-4EF7-8494-4C0624755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3A5AB-F57D-4DAF-80BB-0A64CB3A3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B3C8E-C902-4F12-BDEC-9C6F476D2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AD232-A390-48DB-9055-075B82F2A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81B1F-D075-4C4F-975C-A8471E51E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9DD31-B735-4071-98E7-29C98A087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E31C7-39EB-4B31-8740-2D9B1E4CA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16F6-C342-4AB1-B304-602061533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5D902-3959-4696-974C-A2329209D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7C4DA-B25E-4A75-8F9D-FDDF5ED48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E234F-7784-42FA-AADD-B70A7458B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A1462-5E7C-4916-8A4D-B6FE6A6C9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1059C-C977-4BA8-BEDA-55A473A93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B4AD-8C58-4CF3-90F3-86443BB55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4B0D-EC69-4777-A6F0-C83D945F5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1599-5955-4CCC-A16F-AF88251AD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5D77-1B34-43D2-B8A6-1071BE894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BF6D-98E5-4E18-B41A-F1B568AF2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B730-8042-4D19-B088-7EA92F896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9199-B600-4BD1-A5C2-361DAA42B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© 2000 Morgan Kauf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Overheads for </a:t>
            </a:r>
            <a:r>
              <a:rPr b="0" i="1" lang="en-US" sz="1400" spc="-1" strike="noStrike">
                <a:solidFill>
                  <a:srgbClr val="5e574e"/>
                </a:solidFill>
                <a:latin typeface="Arial"/>
              </a:rPr>
              <a:t>Computers as Compon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787C2-6135-45A6-B198-3F4D34F0C1C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405BF-204E-45D1-A399-1FF56EE1476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ocesses and operating system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eduling polici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M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F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eduling modeling assumpt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process communica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wer managem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MS CPU utiliz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tilization for n processes 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/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 number of tasks approaches infinity, maximum utilization approaches 69%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MS CPU utilization, cont’d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MS cannot use 100% of CPU, even with zero context switch overhea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keep idle cycles available to handle worst-case scenari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ever, RMS guarantees all processes will always meet their deadlin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MS implement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fficient implementati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rocesse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ose highest-priority active proces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arliest-deadline-first schedul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ED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dynamic priority scheduling schem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cess closest to its deadline has highest priorit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s recalculating processes at every timer interrup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DF analys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F can use 100% of CPU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t EDF may fail to miss a deadlin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DF implement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 each timer interrup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time to deadline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ose process closest to dead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ly considered too expensive to use in practic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ixing scheduling problem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f your set of processes is unschedulabl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deadlines in requiremen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 execution times of process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 a faster CPU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iority invers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riority invers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low-priority process keeps high-priority process from runn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roper use of system resources can cause scheduling problem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-priority process grabs I/O devi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-priority device needs I/O device, but can’t get it until low-priority process is d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cause deadloc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olving priority invers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ive priorities to system resourc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ve process inherit the priority of a resource that it reques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-priority process inherits priority of device if high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ata dependenci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dependencies allow us to improve utiliz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trict combination of processes that can run simultaneous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1 and P2 can’t run simultaneousl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6553080" y="2438280"/>
            <a:ext cx="685800" cy="6858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629400" y="3962520"/>
            <a:ext cx="685800" cy="6858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934320" y="31240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etric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o we evaluate a scheduling policy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satisfy all deadlin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PU utilization---percentage of time devoted to useful wor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eduling overhead---time required to make scheduling decis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text-switching tim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-zero context switch time can push limits of a tight schedul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rd to calculate effects---depends on order of context switch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practice, OS context switch overhead is smal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OSIX scheduling polici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ED_FIFO: 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ED_RR: round-rob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 priority level, processes are time-sliced in round-robin fash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ED_OTHER: undefined scheduling policy used to mix non-real-time and real-time process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erprocess communic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S provides interprocess communication mechanism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ous efficiencie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pow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Unix mechanism for simple communication between process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ogous to an interrupt---forces execution of a process at a given loca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a signal is caused by one process with a function cal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data---can only pass type of sign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OSIX signal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declare a signal handler for the process using sigaction(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r is called when signal is receiv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ignal can be sent with sigqueue()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queue(destpid,SIGRTMAX-1,sva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OSIX signal typ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GABRT: ab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GTERM: terminat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GFPE: floating point exce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GILL: illegal instru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GKILL: unavoidable process termin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GUSR1, SIGUSR2: user defin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ignals in UM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general than Unix signal---may carry arbitrary dat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3809880"/>
            <a:ext cx="274320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&lt;signal&gt;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62120" y="4724280"/>
            <a:ext cx="2743200" cy="7621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: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15000" y="3429000"/>
            <a:ext cx="2743200" cy="762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15000" y="4191120"/>
            <a:ext cx="2743200" cy="4572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715000" y="4648320"/>
            <a:ext cx="2743200" cy="838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behavior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3505320" y="51055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09880" y="44956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&lt;send&gt;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OSIX shared memor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SIX supports counting semaphores with _POSIX_SEMAPHORES op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phore with N resources will not block until N processes hold the semaphor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maphores are given nam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/sem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() is sem_wait(), V() is sem_post(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OSIX message-based communic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ix pipe supports messages between process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ent process uses pipe() to create a pip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ipe is created before child is created so that pipe ID can be passed to chil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OSIX pipe examp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/* create the pipe */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(pipe(pipe_ends) &lt; 0) { perror(“pipe”); break; 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/* create the process */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ildid = fork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(childid == 0) { /* child reads from pipe_ends[1] */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ildargs[0] = pipe_ends[1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ecv(“mychild”,childargs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ror(“execv”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it(1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 { /* parent writes to pipe_ends[0] */ … 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ate monotonic schedul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RM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Liu and Layland): widely-used, analyzable scheduling polic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sis is known as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Rate Monotonic Analysi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RM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valuating performan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want to tes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witch time assumption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eduling polic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use OS simulator to exercise process set, trace system behavio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ocesses and cach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cesses can cause additional caching problem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if individual processes are well-behaved, processes may interfere with each oth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orst-case execution time with bad behavior is usually much worse than execution time with good cache behavio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ower optimiz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ower manage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determining how system resources are scheduled/used to control power consump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S can manage for power just as it manages for tim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S reduces power by shutting down uni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have partial shutdown mod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ower management and performan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wer management and performance are often at odd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tering power-down mode consum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ergy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aving power-down mode consum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ergy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imple power management polici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est-driven: power up once request is received. Adds delay to respons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dictive shutdown: try to predict how long you have before next reques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start up in advance of request in anticipation of a new reques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you predict wrong, you will incur additional delay while starting up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obabilistic shutdow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ume service requests are probabilisti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timize expected valu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 consumption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tim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mple probabilistic: shut down after time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turn back on after waiting for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of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dvanced Configuration and Power Interfa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ACP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open standard for power management servic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"/>
          <p:cNvSpPr/>
          <p:nvPr/>
        </p:nvSpPr>
        <p:spPr>
          <a:xfrm>
            <a:off x="1981080" y="5486400"/>
            <a:ext cx="4876920" cy="5335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dware plat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981080" y="3657600"/>
            <a:ext cx="1371600" cy="18288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52680" y="4724280"/>
            <a:ext cx="3505320" cy="76212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PI B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352680" y="3657600"/>
            <a:ext cx="3505320" cy="106668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S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981080" y="3124080"/>
            <a:ext cx="487692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0" y="3657600"/>
            <a:ext cx="2133720" cy="83808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CPI global power stat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3: mechanical of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2: soft of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1: low wake-up latency with no loss of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: low latency with loss of CPU/cache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3: low latency with loss of all state except memo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4: lowest-power state with all devices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1: sleeping st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0: working st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MA mode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 process run on single CPU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ero context switch tim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data dependencies between process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cess execution time is consta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adline is at end of perio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ghest-priority ready process ru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ate-monotonic analys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Response tim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time required to finish proces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ritical insta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scheduling state that gives worst response tim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ritical instant occurs when all higher-priority processes are ready to execu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ocess parameter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computation time of process i;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period of process 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1600200" y="3962520"/>
            <a:ext cx="487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12560" y="3463920"/>
            <a:ext cx="122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io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76720" y="4191120"/>
            <a:ext cx="167616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743560" y="4876920"/>
            <a:ext cx="2715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ation time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ritical insta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"/>
          <p:cNvSpPr/>
          <p:nvPr/>
        </p:nvSpPr>
        <p:spPr>
          <a:xfrm>
            <a:off x="2438280" y="19810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243792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30481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438280" y="39625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2437920" y="487692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438280" y="5029200"/>
            <a:ext cx="1143000" cy="5335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438280" y="4114800"/>
            <a:ext cx="838440" cy="53352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38280" y="3200400"/>
            <a:ext cx="533520" cy="533520"/>
          </a:xfrm>
          <a:prstGeom prst="rect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38280" y="2286000"/>
            <a:ext cx="38124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00200" y="5257800"/>
            <a:ext cx="76212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0320" y="4419720"/>
            <a:ext cx="103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i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2438280" y="1219320"/>
            <a:ext cx="4343040" cy="4724280"/>
            <a:chOff x="2438280" y="1219320"/>
            <a:chExt cx="4343040" cy="4724280"/>
          </a:xfrm>
        </p:grpSpPr>
        <p:grpSp>
          <p:nvGrpSpPr>
            <p:cNvPr id="112" name=""/>
            <p:cNvGrpSpPr/>
            <p:nvPr/>
          </p:nvGrpSpPr>
          <p:grpSpPr>
            <a:xfrm>
              <a:off x="3123720" y="2133720"/>
              <a:ext cx="3657600" cy="2514600"/>
              <a:chOff x="3123720" y="2133720"/>
              <a:chExt cx="3657600" cy="2514600"/>
            </a:xfrm>
          </p:grpSpPr>
          <p:sp>
            <p:nvSpPr>
              <p:cNvPr id="113" name=""/>
              <p:cNvSpPr/>
              <p:nvPr/>
            </p:nvSpPr>
            <p:spPr>
              <a:xfrm flipH="1">
                <a:off x="3123720" y="213372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24080" y="2286000"/>
                <a:ext cx="381240" cy="5335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P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>
                <a:off x="3809520" y="213372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809880" y="2286000"/>
                <a:ext cx="381240" cy="5335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P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4419360" y="213372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419720" y="2286000"/>
                <a:ext cx="380880" cy="5335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P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5105160" y="213372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105520" y="2286000"/>
                <a:ext cx="380880" cy="5335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P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H="1">
                <a:off x="3886200" y="3048120"/>
                <a:ext cx="1447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886200" y="3200400"/>
                <a:ext cx="533520" cy="533520"/>
              </a:xfrm>
              <a:prstGeom prst="rect">
                <a:avLst/>
              </a:prstGeom>
              <a:solidFill>
                <a:srgbClr val="cc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P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5333760" y="3048120"/>
                <a:ext cx="1447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334120" y="3200400"/>
                <a:ext cx="533160" cy="533520"/>
              </a:xfrm>
              <a:prstGeom prst="rect">
                <a:avLst/>
              </a:prstGeom>
              <a:solidFill>
                <a:srgbClr val="cc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P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4343040" y="3962520"/>
                <a:ext cx="1981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343400" y="4114800"/>
                <a:ext cx="838080" cy="533520"/>
              </a:xfrm>
              <a:prstGeom prst="rect">
                <a:avLst/>
              </a:prstGeom>
              <a:solidFill>
                <a:srgbClr val="00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P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" name=""/>
            <p:cNvSpPr/>
            <p:nvPr/>
          </p:nvSpPr>
          <p:spPr>
            <a:xfrm>
              <a:off x="5486400" y="1981080"/>
              <a:ext cx="0" cy="396252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16200000">
              <a:off x="3809880" y="228240"/>
              <a:ext cx="304920" cy="304812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79200 h 3048120"/>
                <a:gd name="textAreaBottom" fmla="*/ 2968920 h 304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8988"/>
                  </a:lnTo>
                  <a:cubicBezTo>
                    <a:pt x="10800" y="9888"/>
                    <a:pt x="16200" y="10788"/>
                    <a:pt x="21600" y="10788"/>
                  </a:cubicBezTo>
                  <a:cubicBezTo>
                    <a:pt x="16200" y="10788"/>
                    <a:pt x="10800" y="11688"/>
                    <a:pt x="10800" y="12588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88400" y="1219320"/>
              <a:ext cx="27183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terfering proces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MS prioriti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timal (fixed) priority assignmen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est-period process gets highest priority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 inversely proportional to period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ties arbitraril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fixed-priority scheme does bett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MS examp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"/>
          <p:cNvSpPr/>
          <p:nvPr/>
        </p:nvSpPr>
        <p:spPr>
          <a:xfrm>
            <a:off x="914400" y="480060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076960" y="5562720"/>
            <a:ext cx="7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14400" y="4800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3988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495680" y="4800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2152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635960" y="4835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5452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2895480"/>
            <a:ext cx="6705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20840" y="2666880"/>
            <a:ext cx="13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2 peri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14400" y="388620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4520" y="3200400"/>
            <a:ext cx="13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1 peri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4400" y="4191120"/>
            <a:ext cx="129528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0" y="3124080"/>
            <a:ext cx="609480" cy="457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505320" y="388620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95880" y="388620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4191120"/>
            <a:ext cx="129564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5880" y="4191120"/>
            <a:ext cx="129564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9T10:33:27Z</dcterms:created>
  <dc:creator>Wayne Wolf</dc:creator>
  <dc:description/>
  <dc:language>en-US</dc:language>
  <cp:lastModifiedBy>Wayne Wolf</cp:lastModifiedBy>
  <dcterms:modified xsi:type="dcterms:W3CDTF">2000-07-13T10:48:35Z</dcterms:modified>
  <cp:revision>88</cp:revision>
  <dc:subject/>
  <dc:title>No Slide Title</dc:title>
</cp:coreProperties>
</file>