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AF6F-B74C-42BF-9861-7730A87F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743C-6CAD-4F18-9BFA-4AD99F88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BF08-6B78-436F-82FB-BC7FCA977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99C6-5B37-4031-8F87-F42CE9D12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41F9-1FC0-4F57-85BB-D434BFC2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6A35-6D62-410E-BC2C-070ECC9F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56F4-8624-40D1-8489-1A1EE589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7229-2FCD-4F0F-A49D-2F6D5918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3FB0-646C-4969-A07C-CA889D29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DE92-BFDB-4FD8-8296-51FFCE20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1436-455B-4C9E-9FC4-CF4B13D7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B125-C9A3-4488-9844-5588A98E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E357-720D-4947-B200-0D891418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3300-AEC2-49C7-A01C-41D8AE7E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B491-04E2-4ECF-819C-C0496DE8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FE3B-E2DC-407D-BE06-1E7BA6FF4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2E18-C933-4308-8EB8-523B65334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931B-C8E7-4EAB-9137-C8499E3C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7E4E-911B-4378-B947-91DB31D6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3972-9575-4EEB-A21A-147492B4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275C-F5B9-47E5-804D-4A863EBD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5936-54E6-4A85-B16E-291273FD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0118-5185-4313-95CB-C445C1AF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1E5E-0B2F-40E5-8244-6E2E163E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E687-25C3-4876-ADD9-EA7982EB101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5448-9EC1-47FC-B260-D9E44B4E58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attlebot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we won’t co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desig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man facto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ufactur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urse grad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l ex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-class te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mewor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b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l projec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ab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ngeon room-D 00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 labs with part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s: familiarization with equipment and techniqu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nal projec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m with partner---same partner as for lab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ose your own projec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, design, build, verify, document, document, docu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dio projec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 amplifi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P3 play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ic/sound synthes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nd recogniz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botics projec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1640" y="1885680"/>
            <a:ext cx="40640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erable spinbo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sensor fu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bot-0088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2743200"/>
            <a:ext cx="373356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9T14:56:53Z</dcterms:created>
  <dc:creator>Wayne Wolf</dc:creator>
  <dc:description/>
  <dc:language>en-US</dc:language>
  <cp:lastModifiedBy>Wayne Wolf</cp:lastModifiedBy>
  <dcterms:modified xsi:type="dcterms:W3CDTF">2002-09-13T14:40:48Z</dcterms:modified>
  <cp:revision>6</cp:revision>
  <dc:subject/>
  <dc:title>Course grading</dc:title>
</cp:coreProperties>
</file>