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294-0F19-4553-BA38-6C09508B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6DC-C257-48CF-A212-EB25A43D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93E-C49C-4D5F-817F-7F26E9B4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7DD-962F-403A-94D3-C87109CD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82D4-EC83-4CC1-96DA-3DADAB6A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2A4E-472F-4E5A-B64F-FA67F4D5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342F-C714-4229-AEF3-669266A4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8E60-6B05-4292-97BE-D0773B30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36BC-DCFA-4780-8485-AB7B2912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0323-695F-4A39-BAD4-3A454A3F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7991-7629-47C0-B7F3-0F61BE0D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85F-CB82-4D05-9711-D41A7987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61D2-A775-43A3-A4A9-5D929E7F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E2F1-37C9-494C-A5E7-B68E08EC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2C87-EB82-44D8-B57E-0915A766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EA2F-49BA-470E-8BD7-A3E8A4AA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D875-AF87-4081-97AE-C84813BA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34D-F08E-4CB0-85A9-689AFC10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500-ABCC-4E63-B2BC-02028748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EAB-F9D5-4E56-B154-5CF50B74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214-037E-4902-8791-DA5F3249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A2C-F8B8-408C-A601-49A04B0B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532-E70C-4117-A420-33B1A024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FA5-C339-489F-A2A9-74801D7C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50E5-C337-4629-AF0F-8F438ACF21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A7E2-5B40-4B36-B6A5-2716259AC3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gram design and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fl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statement transl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optimiz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nd just-in-time compil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dure stac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1981080"/>
            <a:ext cx="1295280" cy="160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1752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8640" y="1981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2438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1(int a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2(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3581280"/>
            <a:ext cx="1295280" cy="160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8880" y="4842000"/>
            <a:ext cx="17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4480" y="324180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05320" y="4572000"/>
            <a:ext cx="4628880" cy="609480"/>
            <a:chOff x="3505320" y="4572000"/>
            <a:chExt cx="4628880" cy="609480"/>
          </a:xfrm>
        </p:grpSpPr>
        <p:sp>
          <p:nvSpPr>
            <p:cNvPr id="186" name=""/>
            <p:cNvSpPr/>
            <p:nvPr/>
          </p:nvSpPr>
          <p:spPr>
            <a:xfrm>
              <a:off x="3505320" y="4572000"/>
              <a:ext cx="1295280" cy="380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76920" y="4572000"/>
              <a:ext cx="228600" cy="6094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63120" y="4613400"/>
              <a:ext cx="29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accessed relative to 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procedure lin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CS (ARM Procedure Call Standar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0-r3 pass parameters into procedure. Extra parameters are put on stack fr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0 holds return val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4-r7 hold register val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11 is frame pointer, r13 is stack poin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10 holds limiting address on stack size to check for stack overflo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struct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types of data structures use different data layou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ffsets into data structure can be computed at compile time, others must be computed at ru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ne-dimensional array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array name points to 0th ele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2971800"/>
            <a:ext cx="20574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505320"/>
            <a:ext cx="20574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038480"/>
            <a:ext cx="20574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320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09480" y="301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70560" y="347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*(a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2590920"/>
            <a:ext cx="20574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wo-dimensional array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umn-major layo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2743200"/>
            <a:ext cx="20574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3276720"/>
            <a:ext cx="20574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4495680"/>
            <a:ext cx="20574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2590920"/>
            <a:ext cx="20574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5029200"/>
            <a:ext cx="20574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45800" y="49942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[i*M+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6600" y="36576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67400" y="2743200"/>
            <a:ext cx="4413960" cy="2253600"/>
            <a:chOff x="1967400" y="2743200"/>
            <a:chExt cx="4413960" cy="2253600"/>
          </a:xfrm>
        </p:grpSpPr>
        <p:sp>
          <p:nvSpPr>
            <p:cNvPr id="212" name=""/>
            <p:cNvSpPr/>
            <p:nvPr/>
          </p:nvSpPr>
          <p:spPr>
            <a:xfrm>
              <a:off x="5486400" y="2743200"/>
              <a:ext cx="228600" cy="14479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29200" y="31654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362320" y="2971440"/>
              <a:ext cx="8380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62320" y="4038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76520" y="4537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67400" y="3851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uct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s within structures are static offse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2971800"/>
            <a:ext cx="160020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411480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2590920"/>
            <a:ext cx="1600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18440" y="28605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0520" y="3165480"/>
            <a:ext cx="378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field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field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mystru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mystruct a, *aptr = &amp;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102440" y="3006720"/>
            <a:ext cx="1115280" cy="1143000"/>
            <a:chOff x="7102440" y="3006720"/>
            <a:chExt cx="1115280" cy="1143000"/>
          </a:xfrm>
        </p:grpSpPr>
        <p:sp>
          <p:nvSpPr>
            <p:cNvPr id="227" name=""/>
            <p:cNvSpPr/>
            <p:nvPr/>
          </p:nvSpPr>
          <p:spPr>
            <a:xfrm>
              <a:off x="7102440" y="30067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63640" y="335268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by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26120" y="4038480"/>
            <a:ext cx="1854720" cy="459720"/>
            <a:chOff x="7026120" y="4038480"/>
            <a:chExt cx="1854720" cy="459720"/>
          </a:xfrm>
        </p:grpSpPr>
        <p:sp>
          <p:nvSpPr>
            <p:cNvPr id="230" name=""/>
            <p:cNvSpPr/>
            <p:nvPr/>
          </p:nvSpPr>
          <p:spPr>
            <a:xfrm flipH="1">
              <a:off x="7026120" y="4226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43440" y="4038480"/>
              <a:ext cx="133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(aptr+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pression simpl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ant fold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+1 =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b + a*c = a*(b+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ngth redu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2 = a&lt;&lt;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ad code elimin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d c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define DEBUG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DEBUG) dbg(p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liminated by analysis of control flow, constant fold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2590920"/>
            <a:ext cx="1371600" cy="99036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2200" y="3962520"/>
            <a:ext cx="12952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g(p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816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6" idx="3"/>
            <a:endCxn id="239" idx="3"/>
          </p:cNvCxnSpPr>
          <p:nvPr/>
        </p:nvCxnSpPr>
        <p:spPr>
          <a:xfrm flipH="1">
            <a:off x="7467480" y="3085920"/>
            <a:ext cx="76680" cy="114372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38676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29760" y="255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477120" y="3809880"/>
            <a:ext cx="761400" cy="914400"/>
            <a:chOff x="6477120" y="3809880"/>
            <a:chExt cx="761400" cy="914400"/>
          </a:xfrm>
        </p:grpSpPr>
        <p:sp>
          <p:nvSpPr>
            <p:cNvPr id="245" name=""/>
            <p:cNvSpPr/>
            <p:nvPr/>
          </p:nvSpPr>
          <p:spPr>
            <a:xfrm flipV="1">
              <a:off x="6477120" y="3809880"/>
              <a:ext cx="685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6552720" y="3809880"/>
              <a:ext cx="685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324480" y="2514240"/>
            <a:ext cx="1067040" cy="1295640"/>
            <a:chOff x="6324480" y="2514240"/>
            <a:chExt cx="1067040" cy="1295640"/>
          </a:xfrm>
        </p:grpSpPr>
        <p:sp>
          <p:nvSpPr>
            <p:cNvPr id="248" name=""/>
            <p:cNvSpPr/>
            <p:nvPr/>
          </p:nvSpPr>
          <p:spPr>
            <a:xfrm flipV="1">
              <a:off x="6324480" y="2590920"/>
              <a:ext cx="106704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6324480" y="2514240"/>
              <a:ext cx="106704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dure inli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s procedure linkage overhea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 foo(a,b,c) { return a + b - c;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 = foo(w,x,y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 = w + x + 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op transform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loop overhea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 opportunities for pipelining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memory system perform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i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strategy (Wirth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ilation = translation + opt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determines quality of co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f CPU resourc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access scheduling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op unrol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s loop overhead, enables some other optimiz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=0; i&lt;4; i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] = b[i] * c[i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=0; i&lt;2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*2] = b[i*2] * c[i*2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*2+1] = b[i*2+1] * c[i*2+1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op fusion and distrib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sion combines two loops into 1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=0; i&lt;N; i++) a[i] = b[i] * 5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j=0; j&lt;N; j++) w[j] = c[j] * d[j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=0; i&lt;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] = b[i] * 5; w[i] = c[i] * d[i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ion breaks one loop into tw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optimizations within loop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op ti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s one loop into a nest of loo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order of accesses within arr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cache behavi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op tiling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=0; i&lt;N; i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j=0; j&lt;N; j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[i] = a[i,j]*b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114800" y="1905120"/>
            <a:ext cx="4749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=0; i&lt;N; i+=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j=0; j&lt;N; j+=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i=0; ii&lt;min(i+2,n); ii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jj=0; jj&lt;min(j+2,N); jj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[ii] = a[ii,jj]*b[i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3886200"/>
            <a:ext cx="2209680" cy="2209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4114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4495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990360" y="4114800"/>
            <a:ext cx="205740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3886200"/>
            <a:ext cx="2209680" cy="2209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388620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100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1008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990360" y="449568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990360" y="4876920"/>
            <a:ext cx="205740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5257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990360" y="5257800"/>
            <a:ext cx="205740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4572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409720" y="39625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409720" y="4267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388620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44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24480" y="4572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6324120" y="39625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324120" y="4267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172200" y="3962160"/>
            <a:ext cx="15228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086600" y="3962160"/>
            <a:ext cx="15228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ray pad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array elements to change mapping into cach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5053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35053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35053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44197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76520" y="44197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90920" y="44197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61040" y="560376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35053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720" y="35053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35053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44197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62720" y="44197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77120" y="44197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43600" y="56386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1520" y="350532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0,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91520" y="441972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1,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62120" y="3505320"/>
            <a:ext cx="2743200" cy="1828800"/>
            <a:chOff x="762120" y="3505320"/>
            <a:chExt cx="2743200" cy="1828800"/>
          </a:xfrm>
        </p:grpSpPr>
        <p:sp>
          <p:nvSpPr>
            <p:cNvPr id="306" name=""/>
            <p:cNvSpPr/>
            <p:nvPr/>
          </p:nvSpPr>
          <p:spPr>
            <a:xfrm>
              <a:off x="762120" y="3505320"/>
              <a:ext cx="2743200" cy="9144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120" y="4419720"/>
              <a:ext cx="914400" cy="9144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4648320" y="3505320"/>
            <a:ext cx="365760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gister allo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register to hold each variabl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ifespan of varible in the regis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case: within basic blo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gister lifetime grap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 = a + b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= c + w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c + 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46483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27600" y="47656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114800" y="1905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59400" y="2133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8680" y="2514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59400" y="28954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8680" y="3200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040" y="3505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58680" y="3809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58680" y="41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55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53960" y="4800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722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21000" y="4800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88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87680" y="4800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2286000"/>
            <a:ext cx="3045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6920" y="2590920"/>
            <a:ext cx="3045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2971800"/>
            <a:ext cx="1219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10280" y="3352680"/>
            <a:ext cx="3049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29200" y="3657600"/>
            <a:ext cx="1219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86600" y="4267080"/>
            <a:ext cx="3049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43600" y="4038480"/>
            <a:ext cx="3049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468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62680" y="2438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62680" y="297180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truction schedu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pipelined machines do not need instruction scheduling: any order of instructions that satisfies data dependencies runs equally fa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ipelined machines, execution time of one instruction depends on the nearby instructions: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pc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ervation t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servation table relates instructions/time to CPU re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/inst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2362320"/>
            <a:ext cx="358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00800" y="1981080"/>
            <a:ext cx="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38880" y="1981080"/>
            <a:ext cx="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pipeli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s instructions across loop it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s instruction latency in iteration i by inserting instructions from iteration i+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ic compilation pha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676520"/>
            <a:ext cx="12952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514600"/>
            <a:ext cx="4038480" cy="6094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sing, symbol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3429000"/>
            <a:ext cx="2895840" cy="7621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hine-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tim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4419720"/>
            <a:ext cx="2895840" cy="7617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hine-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tim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5410080"/>
            <a:ext cx="190512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pipelining in SHAR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=0; i&lt;N; i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 += a[i]*b[i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 three iter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tch array elements a, b for iterati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y a,b for iterati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dot product for iterati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-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pipelining in SHARC, cont’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* first iteration performed outside loop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=a[0]; bi=b[0]; p=ai*b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* initiate loads used in second iteration; remaining loads will be performed inside the loop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=2; i&lt;N-2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=a[i]; bi=b[i]; /* fetch for next cycle’s multiply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= ai*bi; /* multiply for next iteration’s sum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 += p; /* make sum using p from last iteration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 += p; p=ai*bi; sum +=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pipelining ti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209680"/>
            <a:ext cx="2209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=a[i]; bi=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2743200"/>
            <a:ext cx="2209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ai*b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3276720"/>
            <a:ext cx="22096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+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2743200"/>
            <a:ext cx="2210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=a[i]; bi=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81280" y="3276720"/>
            <a:ext cx="221004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ai*b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81280" y="3809880"/>
            <a:ext cx="2210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+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3276720"/>
            <a:ext cx="22096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=a[i]; bi=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91320" y="3809880"/>
            <a:ext cx="2209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ai*b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4343400"/>
            <a:ext cx="2209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+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90720" y="2819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8720" y="32418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0" y="3276720"/>
            <a:ext cx="739152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061840" y="33177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1360" y="525780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i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7360" y="525780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i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3720" y="525780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truction sele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everal ways to implement an operation or sequence of op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 operations as graphs, match possible instruction sequences onto grap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1828800" y="54864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209680" y="52578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52480" y="52578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33720" y="4572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666520" y="4572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32080" y="58323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26320" y="58323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49528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952880" y="47242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47242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19920" y="49528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4724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400440" y="4724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54100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01000" y="472428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7924680" y="51814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67480" y="51814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848720" y="449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381520" y="449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21160" y="54864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2400" y="54864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4880" y="59436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ng your compi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various optimization levels (-O1, -O2, etc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mixed compiler/assembler output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ing compiler output requires c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nes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hand-tweaked c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preters and JIT compil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ranslates and executes program statements on-the-f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JIT compil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ompiles small sections of code into instructions during program execu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minates some translation overhe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requires more mem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tement translation and optim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code is translated into intermediate form such as CDF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DFG is transformed/optimiz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DFG is translated into instructions with optimization deci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re further optimiz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ithmetic expres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401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b + 5*(c-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737000" y="26319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9600" y="56800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24382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4382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35053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45720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22860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257800" y="22860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23623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543800" y="23623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2971800"/>
            <a:ext cx="7617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705360" y="2971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32767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171840" y="40384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0800" y="182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6744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4324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2976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7692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43200" y="2286000"/>
            <a:ext cx="1143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3352680"/>
            <a:ext cx="1143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4419720"/>
            <a:ext cx="1143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0"/>
            <a:ext cx="1143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ithmetic expressions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22760" y="1886040"/>
            <a:ext cx="401328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R r4,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 r1,[r4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R r4,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 r2,[r4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 r3,r1,r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349720" y="56037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3623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3623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34290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44956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209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447560" y="22096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22860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733560" y="22860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2895480"/>
            <a:ext cx="7621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895480" y="28954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200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2320" y="3962520"/>
            <a:ext cx="3045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92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5756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3336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1952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7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3352680"/>
            <a:ext cx="40129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R r4,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 r1,[r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R r4,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 r5,[r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B r6,r4,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800600"/>
            <a:ext cx="401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 r7,r6,#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5105520"/>
            <a:ext cx="4012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 r8,r7,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43040" y="56037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 code gene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(a+b &gt;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= 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= 7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2743200"/>
            <a:ext cx="1981080" cy="609480"/>
          </a:xfrm>
          <a:prstGeom prst="hexagon">
            <a:avLst>
              <a:gd name="adj" fmla="val 81261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b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743200"/>
            <a:ext cx="106704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3962520"/>
            <a:ext cx="10666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048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3" idx="2"/>
          </p:cNvCxnSpPr>
          <p:nvPr/>
        </p:nvCxnSpPr>
        <p:spPr>
          <a:xfrm rot="5400000">
            <a:off x="5485680" y="3124080"/>
            <a:ext cx="1829520" cy="228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3352680"/>
            <a:ext cx="251460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2209680"/>
            <a:ext cx="175284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209680"/>
            <a:ext cx="251460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 code generation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851360" y="1657440"/>
            <a:ext cx="401328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R r5,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DR r1,[r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R r5,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DR r2,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 r3,r1,r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E label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981080" cy="609840"/>
          </a:xfrm>
          <a:prstGeom prst="hexagon">
            <a:avLst>
              <a:gd name="adj" fmla="val 81213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b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438280"/>
            <a:ext cx="106668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3657600"/>
            <a:ext cx="10666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5" idx="2"/>
          </p:cNvCxnSpPr>
          <p:nvPr/>
        </p:nvCxnSpPr>
        <p:spPr>
          <a:xfrm rot="5400000">
            <a:off x="1980360" y="2819520"/>
            <a:ext cx="1829520" cy="228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4876920" y="3581280"/>
            <a:ext cx="4012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DR r3,#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R r5,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 r3,[r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stm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876920"/>
            <a:ext cx="4012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DR r3,#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R r5,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 r3,[r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mtent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dure lin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code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and retur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 parameters and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s and returns are passed on st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 with few parameters may use regis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07-11T09:32:50Z</dcterms:modified>
  <cp:revision>30</cp:revision>
  <dc:subject/>
  <dc:title>No Slide Title</dc:title>
</cp:coreProperties>
</file>