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ABFC-F35B-44D2-88E2-227F8CBB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F90C-7E6D-476B-9654-3A1F7CCF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C0EE-F74D-4D4D-8D07-AAAE0CE8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2BAF-975B-4773-A204-3EF20F52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A146-3D10-49AB-ACA4-042378D1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2A78-C9CE-4A17-A2D5-6249D100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85A6-92E1-45A8-AC03-CE02EDA8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69AF-D229-4AF7-A163-406980B4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23FE-8244-48E0-9AED-6882DBD6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20C0-0EA3-4AF6-A11E-120397DC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8C8C-2514-48F4-960B-7D097110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4242-F80C-4B15-A871-18D56F8D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8D42-AA0D-4408-AE22-37E53393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3CA4-6365-428E-896D-D074CD93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B9FF-4BAF-4E57-A4B3-4C6F940C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C1DE-7C7B-45C3-B2CD-F711924A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91D5-B9DC-45D4-8ED3-872F2A79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D299-5D17-4142-AC4E-76A31C4B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2118-2A5D-45FD-BB08-2AE87496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AADB-0285-4272-A9AD-FB74B7C3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8C64-D9D7-45AB-84D7-5EE9A39F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6A77-670C-417B-B9F1-E951FC79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F273-C3A6-4A1D-9A6C-A654833D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844C-0A3A-448C-AE26-F3188E70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FFED-0153-441B-906E-F3567B9A33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D667-F1D3-449A-A2BB-7C99D0C8DB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-based desig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nalys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 performance analys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-enabled syst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w schedu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525780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000640" y="541008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066680" y="175212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6720" y="19051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6720" y="27432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6720" y="35053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9680" y="42670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00360" y="545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6928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35960" y="529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25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59240" y="529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1640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82720" y="529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908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35760" y="529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905120"/>
            <a:ext cx="106704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2743200"/>
            <a:ext cx="106704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4267080"/>
            <a:ext cx="304560" cy="5335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9520" y="3657600"/>
            <a:ext cx="30456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4267080"/>
            <a:ext cx="304920" cy="5335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4267080"/>
            <a:ext cx="304920" cy="5335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3657600"/>
            <a:ext cx="304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8120" y="4267080"/>
            <a:ext cx="304560" cy="5335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52680" y="4267080"/>
            <a:ext cx="304920" cy="5335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3657600"/>
            <a:ext cx="304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4267080"/>
            <a:ext cx="304920" cy="5335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62520" y="4267080"/>
            <a:ext cx="304560" cy="5335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48320" y="3657600"/>
            <a:ext cx="30456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67080" y="4267080"/>
            <a:ext cx="304920" cy="5335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066680" y="4765680"/>
            <a:ext cx="5325120" cy="459720"/>
            <a:chOff x="1066680" y="4765680"/>
            <a:chExt cx="5325120" cy="459720"/>
          </a:xfrm>
        </p:grpSpPr>
        <p:sp>
          <p:nvSpPr>
            <p:cNvPr id="185" name=""/>
            <p:cNvSpPr/>
            <p:nvPr/>
          </p:nvSpPr>
          <p:spPr>
            <a:xfrm>
              <a:off x="1066680" y="5105520"/>
              <a:ext cx="3810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37040" y="476568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ff"/>
                  </a:solidFill>
                  <a:latin typeface="Times New Roman"/>
                </a:rPr>
                <a:t>Time =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rther complic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nowledgment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mission err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iority inversion in networ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networks, a packet cannot be interrup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 is priority invers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-priority message holds up higher-priority messa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n’t cause deadlock, but can slow down important communic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ultihop networ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ultihop networks, one node receives message, then retransmits to destination (or intermediat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4114800"/>
            <a:ext cx="914400" cy="9144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4114800"/>
            <a:ext cx="914400" cy="9144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24480" y="411480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4572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76920" y="45720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286000" y="3546360"/>
            <a:ext cx="1828800" cy="797040"/>
            <a:chOff x="2286000" y="3546360"/>
            <a:chExt cx="1828800" cy="797040"/>
          </a:xfrm>
        </p:grpSpPr>
        <p:sp>
          <p:nvSpPr>
            <p:cNvPr id="199" name=""/>
            <p:cNvSpPr/>
            <p:nvPr/>
          </p:nvSpPr>
          <p:spPr>
            <a:xfrm>
              <a:off x="2666880" y="4114800"/>
              <a:ext cx="76212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86000" y="42670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00200" y="3546360"/>
              <a:ext cx="8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p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724280" y="3581280"/>
            <a:ext cx="1828800" cy="797040"/>
            <a:chOff x="4724280" y="3581280"/>
            <a:chExt cx="1828800" cy="797040"/>
          </a:xfrm>
        </p:grpSpPr>
        <p:sp>
          <p:nvSpPr>
            <p:cNvPr id="203" name=""/>
            <p:cNvSpPr/>
            <p:nvPr/>
          </p:nvSpPr>
          <p:spPr>
            <a:xfrm>
              <a:off x="5105160" y="4149720"/>
              <a:ext cx="76212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24280" y="4302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38480" y="3581280"/>
              <a:ext cx="8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p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516400" y="457200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8720" y="457200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stem performance a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analysis is difficult in gener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cessor performance analysis is har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performance analysis is ha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e example: uncertainty in P1 finish time -&gt; uncertainty in P2 start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4876920"/>
            <a:ext cx="838440" cy="838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4876920"/>
            <a:ext cx="838080" cy="838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3920" y="5334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alysis challeng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2 and P3 can delay each other, even though they are in separate task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s in P1 propagate to P2, then P3, then to P4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4800600" y="18288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86400" y="3200400"/>
            <a:ext cx="1295280" cy="1295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86400" y="2057400"/>
            <a:ext cx="99072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4724280"/>
            <a:ext cx="99072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38680" y="335268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388620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15000" y="220968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487692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80024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800240" y="3962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80024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1" idx="2"/>
            <a:endCxn id="219" idx="2"/>
          </p:cNvCxnSpPr>
          <p:nvPr/>
        </p:nvCxnSpPr>
        <p:spPr>
          <a:xfrm flipV="1" rot="10800000">
            <a:off x="5638680" y="2437200"/>
            <a:ext cx="76680" cy="1143720"/>
          </a:xfrm>
          <a:prstGeom prst="bentConnector3">
            <a:avLst>
              <a:gd name="adj1" fmla="val 1021226"/>
            </a:avLst>
          </a:prstGeom>
          <a:ln w="2844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0" idx="2"/>
            <a:endCxn id="222" idx="2"/>
          </p:cNvCxnSpPr>
          <p:nvPr/>
        </p:nvCxnSpPr>
        <p:spPr>
          <a:xfrm flipV="1" rot="10800000">
            <a:off x="5714280" y="4114440"/>
            <a:ext cx="381600" cy="991440"/>
          </a:xfrm>
          <a:prstGeom prst="bentConnector3">
            <a:avLst>
              <a:gd name="adj1" fmla="val 296600"/>
            </a:avLst>
          </a:prstGeom>
          <a:ln w="28440">
            <a:solidFill>
              <a:srgbClr val="3366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wer bounds on syst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ational requireme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 up process requirements over least-common multiple of periods, average over one peri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requireme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nt all transmissions in one peri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rdware platform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to choos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and types of P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and types of network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te a platform by allocating processes, scheduling processes and communi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/O-intensive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rt with I/O devices, then consider comput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ntory required devic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critical deadlin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s devices that can share P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e communication tim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PEs to go with dev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putation-intensive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rt with shortest-deadline tas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shortest-deadline tasks on separate P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 for interference on critical communic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low-priority tasks to common PEs wherever pos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lance loads wherever possi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munication a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, understand delay for single mess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ay for multiple messages depends 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rotocol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ices on netwo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-enabled embedded syst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-enabled embedded system: any embedded system that includes an Internet interface (e.g., refrigerator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appliance: embedded system designed for a particular Internet task (e.g. email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er prin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 digital assistant (PD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me automation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Javaca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 platfor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llel-port camer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tional Semi NS486SXF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 Mbytes mem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emory-efficient Java Nanokern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Javacam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"/>
          <p:cNvSpPr/>
          <p:nvPr/>
        </p:nvSpPr>
        <p:spPr>
          <a:xfrm>
            <a:off x="1752480" y="1676520"/>
            <a:ext cx="51055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52480" y="2819520"/>
            <a:ext cx="5181840" cy="3200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8520" y="32767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C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15000" y="5029200"/>
            <a:ext cx="762120" cy="7621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43600" y="52578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5257800"/>
            <a:ext cx="106668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4343400"/>
            <a:ext cx="2133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 nano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3505320"/>
            <a:ext cx="129564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 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2895480"/>
            <a:ext cx="1143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1080" y="2971800"/>
            <a:ext cx="152424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ickc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1828800"/>
            <a:ext cx="13716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ickC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688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2880" y="5486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1972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352320" y="24382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380988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95680" y="4038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ssage dela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messag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onten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a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xmtr overhead + network xmit time + rcvr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 message dela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transmission time domina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 100 kbits/sec, one 8-bit by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mber of bits in pack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packe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tart + address + data + st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1 + 8 + 8 + 1 = 18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required to transmit: 1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-4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e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 instructions on 8 MHz controller adds 2.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elay on xmtr, rcv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ultiple messag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essages can interfere with each other, analysis is more comple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total message dela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wait time for network + message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bitration and dela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ed-priority arbitration introduces unbounded delay for all but highest-priority devi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ess higher-priority devices are known to have limited rates that allow lower devices to transm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nd-robin arbitration introduces bounded delay proportional to 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adjusting messages to reduce dela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40132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grap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40132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3200400"/>
            <a:ext cx="76212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3200400"/>
            <a:ext cx="76212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4495680"/>
            <a:ext cx="76212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39625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09680" y="39625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2280" y="415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604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495288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3352680"/>
            <a:ext cx="990720" cy="838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4191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3352680"/>
            <a:ext cx="990720" cy="838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4191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3352680"/>
            <a:ext cx="990360" cy="838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4191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295280" y="2819520"/>
            <a:ext cx="6096240" cy="2361600"/>
            <a:chOff x="1295280" y="2819520"/>
            <a:chExt cx="6096240" cy="2361600"/>
          </a:xfrm>
        </p:grpSpPr>
        <p:grpSp>
          <p:nvGrpSpPr>
            <p:cNvPr id="113" name=""/>
            <p:cNvGrpSpPr/>
            <p:nvPr/>
          </p:nvGrpSpPr>
          <p:grpSpPr>
            <a:xfrm>
              <a:off x="1295280" y="3276720"/>
              <a:ext cx="6096240" cy="1904400"/>
              <a:chOff x="1295280" y="3276720"/>
              <a:chExt cx="6096240" cy="1904400"/>
            </a:xfrm>
          </p:grpSpPr>
          <p:sp>
            <p:nvSpPr>
              <p:cNvPr id="114" name=""/>
              <p:cNvSpPr/>
              <p:nvPr/>
            </p:nvSpPr>
            <p:spPr>
              <a:xfrm>
                <a:off x="1295280" y="3276720"/>
                <a:ext cx="358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2971800" y="3580920"/>
                <a:ext cx="34290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2057400" y="4038120"/>
                <a:ext cx="53341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3427200" y="281952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llo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19120" y="2479680"/>
            <a:ext cx="4900680" cy="3431520"/>
            <a:chOff x="519120" y="2479680"/>
            <a:chExt cx="4900680" cy="3431520"/>
          </a:xfrm>
        </p:grpSpPr>
        <p:sp>
          <p:nvSpPr>
            <p:cNvPr id="119" name=""/>
            <p:cNvSpPr/>
            <p:nvPr/>
          </p:nvSpPr>
          <p:spPr>
            <a:xfrm>
              <a:off x="519120" y="2784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81240" y="484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68680" y="274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00600" y="2479680"/>
              <a:ext cx="198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execution 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95880" y="5451480"/>
              <a:ext cx="292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Transmission time =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itial schedu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548640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00640" y="563868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066680" y="198072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6720" y="2133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6720" y="29718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6720" y="3733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9680" y="44956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0360" y="568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5486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69280" y="571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35960" y="552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92560" y="571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59240" y="552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640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82720" y="552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9080" y="571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35760" y="552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2133720"/>
            <a:ext cx="106704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971800"/>
            <a:ext cx="106704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4495680"/>
            <a:ext cx="1371600" cy="5335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4495680"/>
            <a:ext cx="1371600" cy="5335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3733920"/>
            <a:ext cx="13716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066680" y="4952880"/>
            <a:ext cx="6636240" cy="459720"/>
            <a:chOff x="1066680" y="4952880"/>
            <a:chExt cx="6636240" cy="459720"/>
          </a:xfrm>
        </p:grpSpPr>
        <p:sp>
          <p:nvSpPr>
            <p:cNvPr id="148" name=""/>
            <p:cNvSpPr/>
            <p:nvPr/>
          </p:nvSpPr>
          <p:spPr>
            <a:xfrm>
              <a:off x="1066680" y="5257800"/>
              <a:ext cx="5181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48160" y="495288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ff"/>
                  </a:solidFill>
                  <a:latin typeface="Times New Roman"/>
                </a:rPr>
                <a:t>Time = 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w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P3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s one packet of d1, one packet of d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s partial res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es to next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0:33:27Z</dcterms:created>
  <dc:creator>Wayne Wolf</dc:creator>
  <dc:description/>
  <dc:language>en-US</dc:language>
  <cp:lastModifiedBy>Preferred Customer</cp:lastModifiedBy>
  <dcterms:modified xsi:type="dcterms:W3CDTF">2000-09-15T02:35:54Z</dcterms:modified>
  <cp:revision>49</cp:revision>
  <dc:subject/>
  <dc:title>No Slide Title</dc:title>
</cp:coreProperties>
</file>