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128-91CE-4C30-BD77-08AE2D30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7D4-52F7-4FEE-8EE3-5D7F0987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B8D2-0C9F-4E42-86A4-871EB3EB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E10-6918-4C1C-8842-81C266B1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13BC-98D8-4FBD-8BFD-517A88BC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E910-F2BD-4CDA-AAB0-6CF2198C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010A-76DC-4D06-84ED-E85BA3CC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1B8A-AB55-4971-8EB3-81054BFA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87A4-8061-4A27-AFA2-D447A4D2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ECA3-6C02-4E67-A8EA-275188C2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B54B-DEE0-4416-B889-AD08BA89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F54-E0E6-491C-B274-597181C5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D774-BF85-42DD-A565-F8C380C3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8377-753F-4089-99BF-36007B93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8E36-FAE9-4BBB-A592-CFCC6F87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DF81-45E2-45E2-9C03-7DAC0DD3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0F0C-C018-4BBD-9AF1-A984CF4D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AB2A-9BCC-425A-A341-771586CE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20F-7AFF-4B2A-A49C-FD433546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B80-9EE5-4840-8048-4173CDE5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B56-BC25-449C-8CAB-5ABFFABF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995-C20C-421C-923B-D02DACC0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B4F-3B13-49CF-AB95-B0C280F0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9C0-F020-4FDE-9DC9-8F6B12D3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6A68-623D-45EA-BDA1-D6091A628C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3227-AD83-4C9D-BC52-FB0DB5D186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P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power consum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pipelined bran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32520" y="49179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30040" y="2209680"/>
            <a:ext cx="4494240" cy="1618200"/>
            <a:chOff x="230040" y="2209680"/>
            <a:chExt cx="4494240" cy="1618200"/>
          </a:xfrm>
        </p:grpSpPr>
        <p:sp>
          <p:nvSpPr>
            <p:cNvPr id="144" name=""/>
            <p:cNvSpPr/>
            <p:nvPr/>
          </p:nvSpPr>
          <p:spPr>
            <a:xfrm>
              <a:off x="2209680" y="2209680"/>
              <a:ext cx="854280" cy="4572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209680"/>
              <a:ext cx="838080" cy="45720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6200" y="2209680"/>
              <a:ext cx="83808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ex b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0400" y="22096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ne fo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0040" y="3124080"/>
              <a:ext cx="170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2,r3,r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3200400"/>
              <a:ext cx="853920" cy="4572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86200" y="3200400"/>
              <a:ext cx="838080" cy="45720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06360" y="2209680"/>
            <a:ext cx="6932520" cy="2532600"/>
            <a:chOff x="306360" y="2209680"/>
            <a:chExt cx="6932520" cy="2532600"/>
          </a:xfrm>
        </p:grpSpPr>
        <p:sp>
          <p:nvSpPr>
            <p:cNvPr id="152" name=""/>
            <p:cNvSpPr/>
            <p:nvPr/>
          </p:nvSpPr>
          <p:spPr>
            <a:xfrm>
              <a:off x="306360" y="4038480"/>
              <a:ext cx="155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foo 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0,r1,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24280" y="2209680"/>
              <a:ext cx="83844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ex b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24280" y="4038480"/>
              <a:ext cx="854280" cy="4572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62720" y="4038480"/>
              <a:ext cx="838080" cy="45720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4038480"/>
              <a:ext cx="83808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ex ad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56840" y="2895480"/>
              <a:ext cx="4570560" cy="990720"/>
              <a:chOff x="456840" y="2895480"/>
              <a:chExt cx="4570560" cy="990720"/>
            </a:xfrm>
          </p:grpSpPr>
          <p:sp>
            <p:nvSpPr>
              <p:cNvPr id="158" name=""/>
              <p:cNvSpPr/>
              <p:nvPr/>
            </p:nvSpPr>
            <p:spPr>
              <a:xfrm>
                <a:off x="457200" y="2895480"/>
                <a:ext cx="4570200" cy="99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56840" y="2895480"/>
                <a:ext cx="4570200" cy="99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5562720" y="2209680"/>
              <a:ext cx="83808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ex b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ed bran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ncrease pipeline efficiency, delayed branch mechanism requires n instructions after branch always executed whether branch is executed or n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 supports delayed and non-delayed branch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by bit in branch instru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instruction branch delay slo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SHARC code schedu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1=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M(I0,M1)=R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8=8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M(I8,M9)=R2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cannot use DAG on cycle just after loading DAG’s regis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PU performs NOP between register assign and D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cheduled SHARC c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1=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8=8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M(I0,M1)=R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M(I8,M9)=R2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s two NOP cyc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ARM execution ti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execution time of FIR filt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 = f + c[i]*x[i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branch in loop test may take more than one cyc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LT loo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akes 1 cycle best case, 3 worst c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erscalar exec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scalar processor can execute several instructions per cyc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ultiple pipelined data path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s execute faster, but it is harder to determine how much fas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dependenc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ion time depends on operands, not just op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scalar CPU checks data dependencies dynamicall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518040" y="438480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r2,r0,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r3,r2,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68880" y="4079880"/>
            <a:ext cx="2223000" cy="949320"/>
            <a:chOff x="668880" y="4079880"/>
            <a:chExt cx="2223000" cy="949320"/>
          </a:xfrm>
        </p:grpSpPr>
        <p:sp>
          <p:nvSpPr>
            <p:cNvPr id="177" name=""/>
            <p:cNvSpPr/>
            <p:nvPr/>
          </p:nvSpPr>
          <p:spPr>
            <a:xfrm>
              <a:off x="1219320" y="45720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8880" y="4079880"/>
              <a:ext cx="22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data dependen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191120" y="4191120"/>
            <a:ext cx="533160" cy="5331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4191120"/>
            <a:ext cx="533520" cy="5331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876920"/>
            <a:ext cx="533160" cy="5331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4876920"/>
            <a:ext cx="533520" cy="5331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5562720"/>
            <a:ext cx="533520" cy="5331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47242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34120" y="47242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54100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5334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mory system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s introduce indeterminacy in executio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order of exec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ache miss penal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dded time due to a cache mi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reasons for a miss: compulsory, conflict, capac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PU power consum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modern CPUs are designed with power consumption in mind to some degre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vs. energ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t depends on power consump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life depends on energy consump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MOS power consum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oltage drop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power consumption proportional to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oggl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more activity means more pow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ea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basic circuit characteristics; can be eliminated by disconnecting pow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ments of CPU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e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pip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PU power-saving strateg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power supply volt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at lower clock frequenc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ble function units with control signals when not in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onnect parts from power supply when not in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management sty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atic power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oes not depend on CPU activ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user-activated power-down m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ynamic power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based on CPU activ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disabling off function un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ication: PowerPC 603 energy fea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doze, nap, sleep mo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power management feat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static log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hut down unused execution un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organized into subarrays to minimize amount of active circui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PC 603 activ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centage of time units are idle for SPEC integer/floating-poi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nit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pecint9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pecfp9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cac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cac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/st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5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-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8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6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ing-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9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regi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9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-down c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ing into a power-down mode cos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determine if going into mode is worthwhi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model CPU power states with power state mach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ication: StrongARM SA-1100 power sav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or takes two suppl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DD is main 3.3V supp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DDX is 1.5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power mo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: normal oper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e: stops CPU clock, with logic still powe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eep: shuts off most of chip activity; 3 steps, each about 3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; wakeup takes &gt; 10 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A-1100 power state mach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2362320"/>
            <a:ext cx="1066680" cy="6094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4572000"/>
            <a:ext cx="1219320" cy="5335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572000"/>
            <a:ext cx="1143000" cy="6094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28800" y="2666880"/>
            <a:ext cx="18288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438280" y="2895480"/>
            <a:ext cx="14479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876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724280" y="2743200"/>
            <a:ext cx="1905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2971800"/>
            <a:ext cx="1600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60120" y="1641600"/>
            <a:ext cx="19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64960" y="5410080"/>
            <a:ext cx="184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92240" y="5486400"/>
            <a:ext cx="217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16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9560" y="28954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45360" y="39625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8360" y="43434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7480" y="320040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0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5560" y="35812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ipeli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instructions are executed simultaneously at different stages of comple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ous conditions can caus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ipeline bub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at reduce utiliz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anch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system delay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ipeline struc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h ARM and SHARC have 3-stage pip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etc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truction from memor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pcode and operand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xecu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pipeline exec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6189840" y="232092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r0,r1,#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5720" y="32194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 r2,r3,r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41520" y="3997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 r2,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16040" y="2397240"/>
            <a:ext cx="1447920" cy="457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39720" y="468324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040" y="47242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3960" y="2397240"/>
            <a:ext cx="1447560" cy="1218960"/>
            <a:chOff x="3063960" y="2397240"/>
            <a:chExt cx="1447560" cy="1218960"/>
          </a:xfrm>
        </p:grpSpPr>
        <p:sp>
          <p:nvSpPr>
            <p:cNvPr id="99" name=""/>
            <p:cNvSpPr/>
            <p:nvPr/>
          </p:nvSpPr>
          <p:spPr>
            <a:xfrm>
              <a:off x="3063960" y="2397240"/>
              <a:ext cx="1447560" cy="45720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63960" y="3159000"/>
              <a:ext cx="1447560" cy="4572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11520" y="2397240"/>
            <a:ext cx="1447920" cy="1981080"/>
            <a:chOff x="4511520" y="2397240"/>
            <a:chExt cx="1447920" cy="1981080"/>
          </a:xfrm>
        </p:grpSpPr>
        <p:sp>
          <p:nvSpPr>
            <p:cNvPr id="102" name=""/>
            <p:cNvSpPr/>
            <p:nvPr/>
          </p:nvSpPr>
          <p:spPr>
            <a:xfrm>
              <a:off x="4511520" y="2397240"/>
              <a:ext cx="13716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ec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11520" y="3159000"/>
              <a:ext cx="1447920" cy="45720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11520" y="3921120"/>
              <a:ext cx="1447920" cy="4572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959440" y="3159000"/>
            <a:ext cx="1447920" cy="1219320"/>
            <a:chOff x="5959440" y="3159000"/>
            <a:chExt cx="1447920" cy="1219320"/>
          </a:xfrm>
        </p:grpSpPr>
        <p:sp>
          <p:nvSpPr>
            <p:cNvPr id="106" name=""/>
            <p:cNvSpPr/>
            <p:nvPr/>
          </p:nvSpPr>
          <p:spPr>
            <a:xfrm>
              <a:off x="5959440" y="3159000"/>
              <a:ext cx="13716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ec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59440" y="3921120"/>
              <a:ext cx="1447920" cy="45720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407360" y="3921120"/>
            <a:ext cx="13716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11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57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7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formance meas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at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ime it takes for an instruction to get through the pip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hroughp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number of instructions executed per time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pelining increases throughput without reducing latenc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ipeline st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every step cannot be completed in the same amount of time, pipeline stal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bbles introduced by stall increase latency, reduce throughp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multi-cycle LDMIA instr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209680"/>
            <a:ext cx="854280" cy="457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2209680"/>
            <a:ext cx="83808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209680"/>
            <a:ext cx="83808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x ld r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0400" y="2209680"/>
            <a:ext cx="200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0,{r2,r3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040" y="3124080"/>
            <a:ext cx="17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2,r3,r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60" y="403848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2,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2209680"/>
            <a:ext cx="83844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x ld r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200400"/>
            <a:ext cx="853920" cy="457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32520" y="49179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200400"/>
            <a:ext cx="838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3200400"/>
            <a:ext cx="83808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x su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038480"/>
            <a:ext cx="854280" cy="457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4038480"/>
            <a:ext cx="83808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4038480"/>
            <a:ext cx="83808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x cm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886200" y="2743200"/>
            <a:ext cx="838080" cy="1981080"/>
            <a:chOff x="3886200" y="2743200"/>
            <a:chExt cx="838080" cy="1981080"/>
          </a:xfrm>
        </p:grpSpPr>
        <p:sp>
          <p:nvSpPr>
            <p:cNvPr id="136" name=""/>
            <p:cNvSpPr/>
            <p:nvPr/>
          </p:nvSpPr>
          <p:spPr>
            <a:xfrm>
              <a:off x="3886200" y="2743200"/>
              <a:ext cx="83808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886200" y="2743200"/>
              <a:ext cx="83808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 st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es often introduce stalls (branch penalty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 time may depend on whether branch is tak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have to squash instructions that already started execu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know what to fetch until condition is evalu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Preferred Customer</cp:lastModifiedBy>
  <dcterms:modified xsi:type="dcterms:W3CDTF">2000-09-01T02:26:27Z</dcterms:modified>
  <cp:revision>55</cp:revision>
  <dc:subject/>
  <dc:title>No Slide Title</dc:title>
</cp:coreProperties>
</file>