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9DB-6530-4E24-A822-E4B5A610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83D-A831-4713-9722-1AD3697A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852-438A-45D4-99C1-6B391177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6D3-8E3D-4F34-A1B8-2A6D0444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381C-A9B2-4013-86DE-061A1D61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2C16-F942-4969-AFBE-11EF77BB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36F0-670E-43FA-9F10-29D242AB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0C77-21BE-4E7B-B1B8-A9C4C56F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998A-A289-45B7-A4DC-2364EC6F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89E3-92E3-4C27-B28C-2EA3460C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1E0C-81CB-4908-B1A2-006BDE4A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D85-65B8-4DAF-B07F-36C83D6E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46F7-8D9D-4B01-A5E2-6D863D64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F1F0-ABBA-4DDE-A92D-10EA13A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BB65-D403-4A3B-9248-18DEB287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722E-D4B8-440B-AE03-4F9EC15A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372D-CDAA-4908-BAD4-24F00985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D8B-5A33-4526-803F-35B6811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FF4-0432-4463-B60F-427E6B47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452-8636-4A84-9523-6596993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712-9537-4FFA-AC8A-CC7279B5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F40-0E27-437F-A788-452C43D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AEB-4E2B-4562-89D0-2272384B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58B-73EE-4FD6-BD53-B052AB8C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78B9-9007-4226-9A64-CA5A967BA4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42A5-6180-440F-A3FB-96A7FA06E1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instruction s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programming mod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assembly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memory organ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data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C flow of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U/shifter status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, overflow, negative, fixed-point carry, inputsign, floating-point invalid, last op was floating-point, compare accumulation registers, floating-point under/oveflow, fixed-point overflow, floating-point inval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f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, overflow, 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g 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LU operations set AZ (zero), AN (negative), AV (overflow), AC (fixed-point carry), AI (floating-point invalid) bits in AST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KY is sticky version of some ASTAT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data 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point -1 + 1 = 0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Z = 1, AU = 0, AN = 0, AV = 0, AC = 1, AI =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KY bit AOS (fixed point underflow) not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point -2*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N = 1, MV = 0, MU = 1, MI =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STKY bits, none of them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SHIFT 0x7fffffff BY 3: SZ=0,SV=1,SS=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function comput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issue some computations in parall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al add-subtrac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-point multiply/accumulate and add,subtract,avae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ating-point multiply and ALU operato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and dual add/sub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er operand from R0-R7, ALU operand from R8-R1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load/sto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ad/store architecture: no memory-direct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data address generato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DA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memo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et up DAG registers to control loads/st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G1 regis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9051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3623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8195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32767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9625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4197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8769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5334120"/>
            <a:ext cx="1219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9051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23623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8195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32767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39625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44197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48769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5334120"/>
            <a:ext cx="121896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9051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3623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28195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32767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4197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48769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5334120"/>
            <a:ext cx="1218960" cy="457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19051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23623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8195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2767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9625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4197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8769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5334120"/>
            <a:ext cx="121932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address gen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indexed, modulo, bit-reverse index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1 bits determine whether primary or alternate registers are ac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addres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diate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 = DM(0x2000000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loa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 = DM(_a); ! Loads contents of _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sto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_a)= R0; ! Stores R0 at _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-modify with upd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register holds base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register/immediate holds modifier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 = DM(I3,M3) !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M(I2,1) = R1 ! 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lar buffer: L register is buffer start index, B is buffer base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in program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put data in program memory to read two values per cyc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0 = DM(M0,I0), F1 = PM(M8,I9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allows programmer to control which memory values are stor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programming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ster fi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0-R15 (aliased as F0-F15 for floating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us regis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p regis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ddress generator regis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regis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ass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x = (a + b) - c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0 = DM(_a) ! Load 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1 = DM(_b); ! Load b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3 = R0 + R1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2 = DM(_c); ! Load 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3 = R3-R2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DM(_x) = R3; ! Store result in x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y = a*(b+c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1 = DM(_b) ! Load b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2 = DM(_c); ! Load 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2 = R1 + R2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0 = DM(_a); ! Load 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2 = R2-R0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DM(_y) = R23; ! Store result in yx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version using poin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! Load b,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2=DM(I1,M5), R1=PM(I8,M13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 = R2+R1, R12=DM(I0,M5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6 = R12*R0(SSI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M(I0,M5)=R8; ! Store in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(a &lt;&lt; 2) |  (b &amp; 15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DM(_a); ! Load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LSHIFT R0 by #2; ! Left shi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DM(_b); R3=#15; ! Load immedi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R1 AND R3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= R1 OR R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M(_z) = R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program sequenc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 cach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stack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gist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logic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ddres generato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al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may be executed conditiona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s come fr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ithmetic status (ASTAT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 control 1 (MODE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 inpu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coun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jum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onditional flow of control chan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UMP f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addressing mo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-rel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an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: CALL, JUMP, RTS, R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dit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can be direct, indirect, PC-rel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layed or non-delay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causes automatic loop abo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if stat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a &gt; b) { x = 5; y = c + d; } else x = c - 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 = DM(_a); R1 = DM(_b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(R0,R1); ! Comp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GE JUMP fblock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if state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 True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block: R0 = 5; ! Get value for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_x) = R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 = DM(_c); R1 = DM(_d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1 = R0+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_y)=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UMP other; ! Skip false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assembly langu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notation terminated by semicol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DM(M0,I0), R2=PM(M8,I8); ! com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el: R3=R1+R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58160" y="3733560"/>
            <a:ext cx="6458400" cy="1568160"/>
            <a:chOff x="1658160" y="3733560"/>
            <a:chExt cx="6458400" cy="1568160"/>
          </a:xfrm>
        </p:grpSpPr>
        <p:sp>
          <p:nvSpPr>
            <p:cNvPr id="90" name=""/>
            <p:cNvSpPr/>
            <p:nvPr/>
          </p:nvSpPr>
          <p:spPr>
            <a:xfrm flipH="1" flipV="1">
              <a:off x="1828800" y="373356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58160" y="484200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memory ac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0360" y="4800600"/>
              <a:ext cx="31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 memory ac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343040" y="3733560"/>
              <a:ext cx="76212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if state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 False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block: R0 = DM(_c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1 = DM(_d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1 = R0-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M(_x) = R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ther:  ! Code after 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ncy if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a&gt;b) y = c-d; else y = c+d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aralleism to speed it up---compute both cases, then choose which one to sto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ncy if implementation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! Load valu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1=DM(_a); R2=DM(_b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3=DM(_c); R4=DM(_d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! Compute both sum and differ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12 = r2+r4, r0 = r2-r4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! Choose which one to sav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mp(r8,r1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 ge r0=r12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dm(_y) = r0 ! Write to 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 UNTIL loo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UNTIL instruction provides efficient loop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CNTR=30, DO label UNTIL L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DM(I0,M0), F2=PM(I8,M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R0-R1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=F2+F3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46280" y="3429000"/>
            <a:ext cx="2073240" cy="2253600"/>
            <a:chOff x="746280" y="3429000"/>
            <a:chExt cx="2073240" cy="2253600"/>
          </a:xfrm>
        </p:grpSpPr>
        <p:sp>
          <p:nvSpPr>
            <p:cNvPr id="195" name=""/>
            <p:cNvSpPr/>
            <p:nvPr/>
          </p:nvSpPr>
          <p:spPr>
            <a:xfrm flipV="1">
              <a:off x="2133720" y="3429000"/>
              <a:ext cx="68580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6280" y="522288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op 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876400" y="3429000"/>
            <a:ext cx="3022920" cy="2253600"/>
            <a:chOff x="2876400" y="3429000"/>
            <a:chExt cx="3022920" cy="2253600"/>
          </a:xfrm>
        </p:grpSpPr>
        <p:sp>
          <p:nvSpPr>
            <p:cNvPr id="198" name=""/>
            <p:cNvSpPr/>
            <p:nvPr/>
          </p:nvSpPr>
          <p:spPr>
            <a:xfrm flipV="1">
              <a:off x="3733920" y="3429000"/>
              <a:ext cx="129528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76400" y="5222880"/>
              <a:ext cx="302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st instruction in lo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459480" y="3429000"/>
            <a:ext cx="1690920" cy="2314440"/>
            <a:chOff x="6459480" y="3429000"/>
            <a:chExt cx="1690920" cy="2314440"/>
          </a:xfrm>
        </p:grpSpPr>
        <p:sp>
          <p:nvSpPr>
            <p:cNvPr id="201" name=""/>
            <p:cNvSpPr/>
            <p:nvPr/>
          </p:nvSpPr>
          <p:spPr>
            <a:xfrm flipH="1" flipV="1">
              <a:off x="7238880" y="3429000"/>
              <a:ext cx="15264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59480" y="4917960"/>
              <a:ext cx="16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rmi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FIR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0, f=0; i&lt;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 = f + c[i]*x[i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 filter assemb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0=_a; I8=b; ! a[0] (DAG0), b[0] (DAG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0=1; M8=1 ! Set up inc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Loop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CNTR=N, DO loopend UNTIL L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Use postincrement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=DM(I0,M0), R2=PM(I8,M8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pend: R8=R1*R2, R12=R12+R9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timized FIR filter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4=_a; I12=_b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 = R4 xor R4, R1=DM(I4,M6), R2=PM(I12,M1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R0F = R4, MODIFY(I7,M7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Star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CNTR=20, DO(PC,loop) UNTIL L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p: MRF=MRF+42*R1 (SSI), R1=DM(I4,M6), R2=PM(I12,M1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Loop clean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MR0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subroutine c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ALL instru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LL fo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absolute, indirect, PC-relative addressing m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using RTS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C st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 stack: 30 locations X 24 instru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addresses for subroutines, interrupt service routines, loops held in PC s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fun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f1(int a) { f2(a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=DM(I1,-1); ! Load arg into R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M(I1,M1)=R0; ! Push f2’s a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LL f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IFY(I1,-1); ! Pop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T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memory sp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130560" y="5797440"/>
            <a:ext cx="2882880" cy="36828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P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9800" y="592776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84600" y="577548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172200" y="5791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0560" y="5187960"/>
            <a:ext cx="288288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b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0560" y="3587760"/>
            <a:ext cx="2882880" cy="15876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30560" y="1987560"/>
            <a:ext cx="2882880" cy="15876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2600" y="4784760"/>
            <a:ext cx="125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x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2600" y="3184560"/>
            <a:ext cx="125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x4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883040"/>
            <a:ext cx="2882880" cy="292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delayed branches (JUMP, CALL, RTS, RTI) do not execute 2 following instructions. Delayed branches are avail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miss costs at least one cycle to allow program memory bus to comple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 cache misses in loo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ses on first and last loop iteration if data memory is accessed in last 2 instructions of loo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misses if loop has only one instruction which requires a program memory bus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instr. loops should be executed 3 times, 2-instr. loops 2 times to avoid NO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Ps added for DAG register write followed by DAG data addressing in same register ba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program fixed wait states or 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rupt does not occur until 2 instructions after delayed bran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ize circular buffer by setting L to positive value, loading B to b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DAG register transfers are disallow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given 2 writes to same register file in same cycle, only one actually occu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 to floating-point conversion always rounds to 40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DM bus can access all memory sp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ortant programming reminders, cont’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mixing 32-bit and 48-bit words in a block, all instructions must be below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-bit short words are extended to 32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dual data access, use DM for data-only access, PM for mixed data/instruction block. Instruction comes from cach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variety of conditions cause st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data ty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-bit IEEE single-precision floating-po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0-bit IEEE extended-precision floating-po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-bit integ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organized internally as 32-bit wo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micro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Harvard archit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memory can be used to store som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ster file connects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C mode regis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importa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TAT: arithmetic sta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KY: stick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 1: mode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nding and satu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ating-point can b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ed toward zer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ed toward nea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U supports saturation arithmetic (ALUSAT bit in MODE1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flow results in max value, not rollo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i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-point operations can accumulate into local MR registers or be written to register file. Fixed-point result is 80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ating-point results always go to register fi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us bits: negative, under/overflow, invalid, fixed-point undeflow, floating-point unerflow, floating-point inval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yne Wolf</dc:creator>
  <dc:description/>
  <dc:language>en-US</dc:language>
  <cp:lastModifiedBy>Preferred Customer</cp:lastModifiedBy>
  <dcterms:modified xsi:type="dcterms:W3CDTF">2000-08-23T02:00:03Z</dcterms:modified>
  <cp:revision>54</cp:revision>
  <dc:subject/>
  <dc:title>SHARC programming model</dc:title>
</cp:coreProperties>
</file>