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BB80-B13A-49B4-8026-37A82E6E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AEE9-3CB1-4892-8ED2-A12B5302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1472-7D8F-485B-A7FE-7B273386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0FEA-8F01-43C1-B497-49DE2DCF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7451-495D-4CBD-ACBF-EB778556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EAD4-28AF-44C5-A28F-DA8E52F1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359A-3E12-4854-B45C-61109C6D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6D06-3ABB-422A-B159-2B7042D6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2FA7-FABF-4749-B236-E3AFB006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DE92-3F4E-4D5D-8F57-107A4E1C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59BB-FC06-4E73-BD01-B0063605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95A-AFF7-40CB-924A-464EC8FE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C257-49A9-47EB-9C8B-5091C542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3451-44F9-4F82-8CEB-98829784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C3CE-1D21-4169-A78B-225C5B13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6E5E-5C1A-4CE7-B51B-10F26A66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8F4B-D0EB-4942-97E0-EF3E7440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603-439A-476D-97B0-A0655DBC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BAD-8D62-4E75-9565-4EA96C18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21E8-0B2C-4AAB-9EE9-73B2AE1A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5E0-CC31-47C7-B3BA-915D7352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7106-95DC-4C95-A163-E4992AE8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1161-4C2F-4940-A9B5-56ACACC6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AA27-4786-418A-B487-A923F2A2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F67F-8A63-4E96-B3D3-89CF800972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4FB0-D3B1-4244-9C17-115A098E32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instruction s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 vers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 assembly langu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 programming mod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 memory organiz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 data ope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 flow of contr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operation varie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al shif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s with zero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ithmetic shif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s with 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RX performs 33-bit rotate, including C bit from CPSR above sign b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comparison instru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MP : comp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MN : negated comp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ST : bit-wise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Q : bit-wise negated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instructions set only the NZCV bits of CPS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move instru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, MVN : move (negat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OV r0, r1 ; sets r0 to r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load/store instru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DR, LDRH, LDRB : load (half-word, by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, STRH, STRB : store (half-word, by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ressing mo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 indirect 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DR r0,[r1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second register 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DR r0,[r1,-r2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onstant 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DR r0,[r1,#4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ADR pseudo-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refer to an address directly in an instru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value by performing arithmetic on P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 pseudo-op generates instruction required to calculate addres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R r1,FO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C assign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(a + b) - c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get address for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0,[r4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get value of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b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get address for b, reusing r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1,[r4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get value of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r3,r0,r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compute a+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get address for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2[r4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get value of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assignment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 r3,r3,r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complete computation of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get address for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 r3[r4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store value of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C assign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a*(b+c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b ; get address for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0,[r4] ; get value of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c ; get address for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1,[r4] ; get value of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r2,r0,r1 ; compute partial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a ; get address for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0,[r4] ; get value of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assignment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 r2,r2,r0 ; compute final value for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y ; get address for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 r2,[r4] ; stor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C assign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 = (a &lt;&lt; 2) |  (b &amp; 1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a ; get address for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0,[r4] ; get value of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r0,r0,LSL 2 ; perform shi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b ; get address for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1,[r4] ; get value of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 r1,r1,#15 ; perform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R r1,r0,r1 ; perform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ver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 architecture has been extended over several vers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concentrate on ARM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 assignment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z ; get address for 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 r1,[r4] ; store value for 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ditional addressing mo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-plus-offset address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DR r0,[r1,#16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from location r1+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-indexing increments base regist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DR r0,[r1,#16]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-indexing fetches, then does offs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DR r0,[r1],#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r0 from r1, then adds 16 to r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flow of 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operations can be performed conditionally, testing CPS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, NE, CS, CC, MI, PL, VS, VC, HI, LS, GE, LT, GT, 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ch oper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 #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erformed conditional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if stat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 x = 5; y = c + d; } else x = c - 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compute and test cond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a ; get address for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0,[r4] ; get value of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b ; get address for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1,[r4] ; get value for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P r0,r1 ; compare a &lt;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GE fblock ; if a &gt;= b, branch to false b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f statement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true b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r0,#5 ; generate value for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x ; get address for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 r0,[r4] ; store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c ; get address for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0,[r4] ; get value of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d ; get address for 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1,[r4] ; get value of 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r0,r0,r1 ; comput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y ; get address for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 r0,[r4] ; stor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after ; branch around false b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f statement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false b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block ADR r4,c ; get address for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0,[r4] ; get value of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d ; get address for 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1,[r4] ; get value for 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 r0,r0,r1 ; compute a-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4,x ; get address for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 r0,[r4] ; store value of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fter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Conditional instruction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true b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LT r0,#5 ; generate value for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LT r4,x ; get address for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LT r0,[r4] ; store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LT r4,c ; get address for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LT r0,[r4] ; get value of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LT r4,d ; get address for 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LT r1,[r4] ; get value of 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LT r0,r0,r1 ; comput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LT r4,y ; get address for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LT r0,[r4] ; stor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ditional instruction implementation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false b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GE r4,c ; get address for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GE r0,[r4] ; get value of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GE r4,d ; get address for 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GE r1,[r4] ; get value for 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GE r0,r0,r1 ; compute a-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GE r4,x ; get address for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GE r0,[r4] ; store value of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switch stat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 (test) { case 0: … break; case 1: …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2,test ; get address for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0,[r2] ; load value for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1,switchtab ; load address for switch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1,[r1,r0,LSL #2] ; index switch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tab DCD case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CD case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FIR fil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=0, f=0; i&lt;N; i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 = f + c[i]*x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loop initiation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r0,#0 ; use r0 for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r8,#0 ; use separate index for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2,N ; get address for 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1,[r2] ; get value of 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r2,#0 ; use r2 for 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assembly langu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irly standard assembly langua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DR r0,[r8] ; a com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DD r4,r0,r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R filter, cont’.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3,c ; load r3 with base of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R r5,x ; load r5 with base of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loop 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op LDR r4,[r3,r8] ; get c[i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6,[r5,r8] ; get x[i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 r4,r4,r6 ; compute c[i]*x[i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r2,r2,r4 ; add into running 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r8,r8,#4 ; add one word offset to array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r0,r0,#1 ; add 1 to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P r0,r1 ; ex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T loop ; if i &lt; N, contin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subroutine lin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ch and link instru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L fo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ies current PC to r14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return from subrouti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 r15,r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sted subroutine cal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sting/recursion requires coding conven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0,[r13] ; load arg into r0 from s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call f2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 r13!,[r14] ; store f1’s return ad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 r13!,[r0] ; store arg to f2 on s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 f2 ; branch and link to f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return from f1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 r13,#4 ; pop f2’s arg off s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DR r13!,r15 ; restore register and retu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ad/store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instructions are RISCy, operate in single cyc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multi-register operations take long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instructions can be executed conditional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programming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213372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251460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2895480"/>
            <a:ext cx="121896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327672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65760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4038480"/>
            <a:ext cx="121896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41972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80060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13372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251460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2895480"/>
            <a:ext cx="121896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327672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365760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4038480"/>
            <a:ext cx="121896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441972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4800600"/>
            <a:ext cx="12189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5 (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3200400"/>
            <a:ext cx="259056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28480" y="2681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30680" y="2666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791320" y="3809880"/>
            <a:ext cx="1676160" cy="916920"/>
            <a:chOff x="5791320" y="3809880"/>
            <a:chExt cx="1676160" cy="916920"/>
          </a:xfrm>
        </p:grpSpPr>
        <p:sp>
          <p:nvSpPr>
            <p:cNvPr id="110" name=""/>
            <p:cNvSpPr/>
            <p:nvPr/>
          </p:nvSpPr>
          <p:spPr>
            <a:xfrm rot="5400000">
              <a:off x="6324480" y="3276720"/>
              <a:ext cx="609840" cy="1676160"/>
            </a:xfrm>
            <a:custGeom>
              <a:avLst/>
              <a:gdLst>
                <a:gd name="textAreaLeft" fmla="*/ 389520 w 609840"/>
                <a:gd name="textAreaRight" fmla="*/ 610200 w 6098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22800" y="4267080"/>
              <a:ext cx="123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N Z C 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diann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hip between bit and byte/word ordering defines endiannes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962520"/>
            <a:ext cx="914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3962520"/>
            <a:ext cx="914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3962520"/>
            <a:ext cx="914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3962520"/>
            <a:ext cx="914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3962520"/>
            <a:ext cx="914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3962520"/>
            <a:ext cx="914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3962520"/>
            <a:ext cx="914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962520"/>
            <a:ext cx="914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000" y="339408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bit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86760" y="3429000"/>
            <a:ext cx="7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bit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360" y="3429000"/>
            <a:ext cx="7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bit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72760" y="342900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bit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3280" y="457200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tle-en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6920" y="4572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-en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data typ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d is 32 bits lo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d can be divided into four 8-bit by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M addresses cam be 32 bits lo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ress refers to by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4 starts at byte 4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configured at power-up as either little- or bit-endian m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status b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 arithmetic, logical, or shifting operation sets CPSR bi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(negative), Z (zero), C (carry), V (overflow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1 + 1 = 0: NZCV = 011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1+1 = -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NZCV = 010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data instru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forma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 r0,r1,r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s r1+r2, stores in r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mediate operan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 r0,r1,#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s r1+2, stores in r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data instru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, ADC : add (w. car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, SBC : subtract (w. car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SB, RSC : reverse subtract (w. car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, MLA : multiply (and accumul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, ORR, E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C : bit cl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SL, LSR : logical shift left/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L, ASR : arithmetic shift left/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R : rotate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RX : rotate right extended with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Wayne Wolf</dc:creator>
  <dc:description/>
  <dc:language>en-US</dc:language>
  <cp:lastModifiedBy>Preferred Customer</cp:lastModifiedBy>
  <dcterms:modified xsi:type="dcterms:W3CDTF">2000-08-24T02:20:25Z</dcterms:modified>
  <cp:revision>76</cp:revision>
  <dc:subject/>
  <dc:title>SHARC programming model</dc:title>
</cp:coreProperties>
</file>