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D9A-D31D-471B-ACA0-B866D86C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A6C-827B-43D1-A595-3C8D288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C55-408C-4F5B-9FFF-B86AEEA0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4A2-1827-4F3E-B416-7D6D0525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2F0F-ACE8-48AA-A5C4-2A56E88B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2B21-A01C-4659-B1CD-0D877C7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A4A-55AC-4750-8D1B-25851C93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6678-69C3-46B5-AFA1-B484DBC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AA4-0E36-47D6-B6AF-5AAEAD7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56BA-F2BF-43A3-BD2B-8A9701A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205F-2898-45E0-9FCE-8E14147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B65-9A21-46D3-89AF-F173C01A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FEB6-A39C-48E2-A991-C441593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617F-6A8E-48D8-B467-26EBBD2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0F92-1406-4672-8A50-CC09EE7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C373-6284-4B34-B851-63778AAB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4410-4C6A-4672-A479-C44E2378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714-3229-4E47-B273-1D12A4B3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BA6-1524-429B-B25F-0170A94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554-418E-4127-B21E-A9A5EA43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0AF-3EB2-4D67-A5AA-1CA58263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A41-91C7-47AE-8CB2-56E215E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D08-A76C-4B3D-B455-F766955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AA2-CBEA-42E1-AD95-B2D9F2D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9D5-4293-4347-9AF5-BD87A056AA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BAC1-1E44-4314-BE2C-7A38DF5794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de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devi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al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s and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bo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/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uchscreen position sen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495680"/>
            <a:ext cx="6705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886200"/>
            <a:ext cx="6705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3886200"/>
            <a:ext cx="609480" cy="609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609480" cy="609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267080"/>
            <a:ext cx="685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267080"/>
            <a:ext cx="685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743200"/>
            <a:ext cx="121896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94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480" y="3352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4724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07732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870280"/>
            <a:ext cx="2577960" cy="2583720"/>
            <a:chOff x="1600200" y="2870280"/>
            <a:chExt cx="2577960" cy="2583720"/>
          </a:xfrm>
        </p:grpSpPr>
        <p:sp>
          <p:nvSpPr>
            <p:cNvPr id="180" name=""/>
            <p:cNvSpPr/>
            <p:nvPr/>
          </p:nvSpPr>
          <p:spPr>
            <a:xfrm>
              <a:off x="3124080" y="3886200"/>
              <a:ext cx="990720" cy="60948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cubicBezTo>
                    <a:pt x="116" y="192"/>
                    <a:pt x="232" y="384"/>
                    <a:pt x="336" y="384"/>
                  </a:cubicBezTo>
                  <a:cubicBezTo>
                    <a:pt x="440" y="384"/>
                    <a:pt x="532" y="192"/>
                    <a:pt x="624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3320" y="2870280"/>
              <a:ext cx="1104840" cy="1511280"/>
            </a:xfrm>
            <a:custGeom>
              <a:avLst/>
              <a:gdLst/>
              <a:ahLst/>
              <a:rect l="l" t="t" r="r" b="b"/>
              <a:pathLst>
                <a:path w="696" h="952">
                  <a:moveTo>
                    <a:pt x="80" y="112"/>
                  </a:moveTo>
                  <a:cubicBezTo>
                    <a:pt x="0" y="208"/>
                    <a:pt x="80" y="504"/>
                    <a:pt x="128" y="640"/>
                  </a:cubicBezTo>
                  <a:cubicBezTo>
                    <a:pt x="176" y="776"/>
                    <a:pt x="288" y="952"/>
                    <a:pt x="368" y="928"/>
                  </a:cubicBezTo>
                  <a:cubicBezTo>
                    <a:pt x="448" y="904"/>
                    <a:pt x="568" y="640"/>
                    <a:pt x="608" y="496"/>
                  </a:cubicBezTo>
                  <a:cubicBezTo>
                    <a:pt x="648" y="352"/>
                    <a:pt x="696" y="128"/>
                    <a:pt x="608" y="64"/>
                  </a:cubicBezTo>
                  <a:cubicBezTo>
                    <a:pt x="520" y="0"/>
                    <a:pt x="160" y="16"/>
                    <a:pt x="80" y="112"/>
                  </a:cubicBez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00200" y="4876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6120" y="49942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44956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gital-to-analog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resistor tre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2895120"/>
            <a:ext cx="2361960" cy="457560"/>
            <a:chOff x="3429000" y="2895120"/>
            <a:chExt cx="2361960" cy="457560"/>
          </a:xfrm>
        </p:grpSpPr>
        <p:sp>
          <p:nvSpPr>
            <p:cNvPr id="188" name=""/>
            <p:cNvSpPr/>
            <p:nvPr/>
          </p:nvSpPr>
          <p:spPr>
            <a:xfrm>
              <a:off x="3429000" y="3124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38480" y="28951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0760" y="2895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19360" y="2895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7960" y="2895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876560" y="304740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3047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29000" y="3657240"/>
            <a:ext cx="2361960" cy="457560"/>
            <a:chOff x="3429000" y="3657240"/>
            <a:chExt cx="2361960" cy="457560"/>
          </a:xfrm>
        </p:grpSpPr>
        <p:sp>
          <p:nvSpPr>
            <p:cNvPr id="196" name=""/>
            <p:cNvSpPr/>
            <p:nvPr/>
          </p:nvSpPr>
          <p:spPr>
            <a:xfrm>
              <a:off x="342900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38480" y="3657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0760" y="3657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419360" y="3657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7960" y="3657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876560" y="38095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429000" y="4419360"/>
            <a:ext cx="2361960" cy="457560"/>
            <a:chOff x="3429000" y="4419360"/>
            <a:chExt cx="2361960" cy="457560"/>
          </a:xfrm>
        </p:grpSpPr>
        <p:sp>
          <p:nvSpPr>
            <p:cNvPr id="204" name=""/>
            <p:cNvSpPr/>
            <p:nvPr/>
          </p:nvSpPr>
          <p:spPr>
            <a:xfrm>
              <a:off x="34290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038480" y="44193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0760" y="44197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419360" y="44197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7960" y="44197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876560" y="457164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9200" y="4572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29000" y="5105160"/>
            <a:ext cx="2361960" cy="457560"/>
            <a:chOff x="3429000" y="5105160"/>
            <a:chExt cx="2361960" cy="457560"/>
          </a:xfrm>
        </p:grpSpPr>
        <p:sp>
          <p:nvSpPr>
            <p:cNvPr id="212" name=""/>
            <p:cNvSpPr/>
            <p:nvPr/>
          </p:nvSpPr>
          <p:spPr>
            <a:xfrm>
              <a:off x="3429000" y="5334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38480" y="5105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076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41936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796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876560" y="525744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920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57913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380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3440" y="3200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3440" y="3962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440" y="46483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3360" y="28605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86320" y="365760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86320" y="434340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6320" y="5029200"/>
            <a:ext cx="56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80720" y="2708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A/D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-bit result require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arat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161880" y="300996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3161880" y="392436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195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3161880" y="476244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8195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971800"/>
            <a:ext cx="12952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19520" y="33523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3640" y="30132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14600" y="5527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l-slope conver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unter to time required to charge/discharge capaci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ing, then discharging eliminates non-linear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2300400" y="448164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52352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5334120"/>
            <a:ext cx="304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24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657600" y="571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1040" y="46483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4648320"/>
            <a:ext cx="12952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mple-and-ho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d in any A/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4267080"/>
            <a:ext cx="30492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24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46476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1240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4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3352680"/>
            <a:ext cx="16002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4320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60880" y="35812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ers and coun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simil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cremented by a periodic sign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un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cremented by an asynchronous, occasional sig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lover causes interru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tchdog ti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chdog timer is periodically reset by system ti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watchdog is not reset, it generates an interrupt to reset the h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267080"/>
            <a:ext cx="175284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419720"/>
            <a:ext cx="1371600" cy="1218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ch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91120" y="4648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6120" y="4281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920" y="4967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 debou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witch must be debounced to multiple contacts caused by eliminate mechanical bounc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5975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09680" y="398772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5975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95480" y="3429000"/>
            <a:ext cx="5334120" cy="1244520"/>
            <a:chOff x="2895480" y="3429000"/>
            <a:chExt cx="5334120" cy="1244520"/>
          </a:xfrm>
        </p:grpSpPr>
        <p:sp>
          <p:nvSpPr>
            <p:cNvPr id="101" name=""/>
            <p:cNvSpPr/>
            <p:nvPr/>
          </p:nvSpPr>
          <p:spPr>
            <a:xfrm>
              <a:off x="2895480" y="3987720"/>
              <a:ext cx="533520" cy="68580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3429000"/>
              <a:ext cx="3505320" cy="1181160"/>
            </a:xfrm>
            <a:custGeom>
              <a:avLst/>
              <a:gdLst/>
              <a:ahLst/>
              <a:rect l="l" t="t" r="r" b="b"/>
              <a:pathLst>
                <a:path w="2208" h="744">
                  <a:moveTo>
                    <a:pt x="0" y="736"/>
                  </a:moveTo>
                  <a:cubicBezTo>
                    <a:pt x="56" y="424"/>
                    <a:pt x="112" y="112"/>
                    <a:pt x="192" y="112"/>
                  </a:cubicBezTo>
                  <a:cubicBezTo>
                    <a:pt x="272" y="112"/>
                    <a:pt x="400" y="744"/>
                    <a:pt x="480" y="736"/>
                  </a:cubicBezTo>
                  <a:cubicBezTo>
                    <a:pt x="560" y="728"/>
                    <a:pt x="600" y="72"/>
                    <a:pt x="672" y="64"/>
                  </a:cubicBezTo>
                  <a:cubicBezTo>
                    <a:pt x="744" y="56"/>
                    <a:pt x="792" y="672"/>
                    <a:pt x="912" y="688"/>
                  </a:cubicBezTo>
                  <a:cubicBezTo>
                    <a:pt x="1032" y="704"/>
                    <a:pt x="1264" y="152"/>
                    <a:pt x="1392" y="160"/>
                  </a:cubicBezTo>
                  <a:cubicBezTo>
                    <a:pt x="1520" y="168"/>
                    <a:pt x="1592" y="744"/>
                    <a:pt x="1680" y="736"/>
                  </a:cubicBezTo>
                  <a:cubicBezTo>
                    <a:pt x="1768" y="728"/>
                    <a:pt x="1832" y="224"/>
                    <a:pt x="1920" y="112"/>
                  </a:cubicBezTo>
                  <a:cubicBezTo>
                    <a:pt x="2008" y="0"/>
                    <a:pt x="2108" y="32"/>
                    <a:pt x="2208" y="64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coded key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ray of switches is read by an enco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-key roll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members multiple key depres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2667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705040" y="453384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8564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526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4080" y="39276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800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2667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72000" y="5029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3244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use resistor to limit curr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971800"/>
            <a:ext cx="12956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809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562720" y="3962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4191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62720" y="4419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029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1500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15000" y="5714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105520"/>
            <a:ext cx="457200" cy="75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5334120"/>
            <a:ext cx="457200" cy="75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-segment LCD disp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use parallel or multiplexed in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895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96252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9528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16200000">
            <a:off x="4532760" y="438156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16200000">
            <a:off x="4456440" y="339084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6200000">
            <a:off x="3313440" y="4457520"/>
            <a:ext cx="1218960" cy="228600"/>
          </a:xfrm>
          <a:prstGeom prst="parallelogram">
            <a:avLst>
              <a:gd name="adj" fmla="val 1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rot="16200000">
            <a:off x="3237480" y="346716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high-resolution displ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hode ray tube (C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crystal display (L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uchscre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input and output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evice is a two-dimensional voltme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3429000"/>
            <a:ext cx="1828800" cy="228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38862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62520" y="388584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2-29T03:03:09Z</dcterms:modified>
  <cp:revision>61</cp:revision>
  <dc:subject/>
  <dc:title>Networking for Embedded Systems</dc:title>
</cp:coreProperties>
</file>