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F95-F076-4B6C-A4CD-B2445C1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ADF-0546-45C9-9FF9-5D25DFB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CEE-98AA-415E-AB00-7DFC610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263-9AA6-4E72-9CDE-908BBB08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B99-A18C-439D-9F98-7DCBFA4C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440-A2E9-4DFA-BFAB-B44AA247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996-15F8-45FE-83F2-7BD97FA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61B-0DAC-4B9C-AAFE-243810B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011-FFEA-48F2-98ED-0C53DDE5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48F7-7A65-4693-9E59-104B8DB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4A1-30A6-4038-9F32-AD23197E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26C-4CC5-4F14-8E09-3DE131D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6D7-603F-4ADB-9EEE-8538F4B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82A8-BE26-4B00-B2F5-7F26C76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AFFE-ED52-4487-B1B0-F4D7437E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5F7E-05B9-4C9F-815B-98C6AC92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5428-5145-4972-87F5-0F88802F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A6D-3866-4E07-A929-55C8574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5B9-094C-4A7F-8A8B-453E206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56C-C8CC-421E-875B-56327279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9CD-5553-47A0-8AAF-0831F0A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E65-FAEB-41A4-A3DE-783FE7D3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34D-52B5-4A51-B194-D183B3D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AA1-7A3A-46C0-9B92-A58A62C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061-4CF1-44D3-BE1A-5FA254873C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EAB-99DB-4D0E-9CAC-3232377B7E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ipelined bra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252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0040" y="2209680"/>
            <a:ext cx="4494240" cy="1618200"/>
            <a:chOff x="230040" y="2209680"/>
            <a:chExt cx="4494240" cy="1618200"/>
          </a:xfrm>
        </p:grpSpPr>
        <p:sp>
          <p:nvSpPr>
            <p:cNvPr id="144" name=""/>
            <p:cNvSpPr/>
            <p:nvPr/>
          </p:nvSpPr>
          <p:spPr>
            <a:xfrm>
              <a:off x="2209680" y="2209680"/>
              <a:ext cx="8542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20968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2096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400" y="22096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ne fo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0040" y="3124080"/>
              <a:ext cx="170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2,r3,r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200400"/>
              <a:ext cx="85392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20040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6360" y="2209680"/>
            <a:ext cx="6932520" cy="2532600"/>
            <a:chOff x="306360" y="2209680"/>
            <a:chExt cx="6932520" cy="2532600"/>
          </a:xfrm>
        </p:grpSpPr>
        <p:sp>
          <p:nvSpPr>
            <p:cNvPr id="152" name=""/>
            <p:cNvSpPr/>
            <p:nvPr/>
          </p:nvSpPr>
          <p:spPr>
            <a:xfrm>
              <a:off x="306360" y="4038480"/>
              <a:ext cx="155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o 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0,r1,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24280" y="2209680"/>
              <a:ext cx="83844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4038480"/>
              <a:ext cx="8542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2720" y="403848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40384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ad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6840" y="2895480"/>
              <a:ext cx="4570560" cy="990720"/>
              <a:chOff x="456840" y="2895480"/>
              <a:chExt cx="4570560" cy="990720"/>
            </a:xfrm>
          </p:grpSpPr>
          <p:sp>
            <p:nvSpPr>
              <p:cNvPr id="158" name=""/>
              <p:cNvSpPr/>
              <p:nvPr/>
            </p:nvSpPr>
            <p:spPr>
              <a:xfrm>
                <a:off x="457200" y="2895480"/>
                <a:ext cx="457020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6840" y="2895480"/>
                <a:ext cx="457020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562720" y="22096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ed bra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crease pipeline efficiency, delayed branch mechanism requires n instructions after branch always executed whether branch is executed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supports delayed and non-delayed bran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by bit in branch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instruction branch delay sl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HARC code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1=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0,M1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8=8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8,M9)=R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annot use DAG on cycle just after loading DAG’s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performs NOP between register assign and D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cheduled SHARC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1=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8=8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0,M1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8,M9)=R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s two NOP cyc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RM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execution time of FIR fil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branch in loop test may take more than one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T lo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1 cycle best case, 3 worst c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erscalar exec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scalar processor can execute several instructions per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ultiple pipelined data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execute faster, but it is harder to determine how much fa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time depends on operands, not just op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scalar CPU checks data dependencies dynamical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18040" y="438480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2,r0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3,r2,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68880" y="4079880"/>
            <a:ext cx="2223000" cy="949320"/>
            <a:chOff x="668880" y="4079880"/>
            <a:chExt cx="2223000" cy="949320"/>
          </a:xfrm>
        </p:grpSpPr>
        <p:sp>
          <p:nvSpPr>
            <p:cNvPr id="177" name=""/>
            <p:cNvSpPr/>
            <p:nvPr/>
          </p:nvSpPr>
          <p:spPr>
            <a:xfrm>
              <a:off x="1219320" y="45720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8880" y="4079880"/>
              <a:ext cx="22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ata depend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91120" y="4191120"/>
            <a:ext cx="53316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1911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876920"/>
            <a:ext cx="53316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48769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5627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4120" y="47242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5410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system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s introduce indeterminacy in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order of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miss penal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ed time due to a cache mi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reasons for a miss: compulsory, conflict, capa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power consu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modern CPUs are designed with power consumption in mind to some degr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vs. ener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depends on 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life depends on energy consum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OS power consu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oltage dro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ower consumption proportional to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ggl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ore activity means more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asic circuit characteristics; can be eliminated by disconnecting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CPU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e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ip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power-saving strate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power supply volt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t lower clock frequ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ble function units with control signals when not in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parts from power supply when not in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management sty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ic 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oes not depend on CPU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user-activated power-down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ynamic 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ased on CPU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disabling off function un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PowerPC 603 energy fea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doze, nap, sleep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ower management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static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hut down unused execution un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organized into subarrays to minimize amount of active circui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PC 603 activ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ntage of time units are idle for SPEC integer/floating-poi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ecint9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ecfp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cac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ac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/st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-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regi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-down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ing into a power-down mode cos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ermine if going into mode is worthwh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odel CPU power states with power state mach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StrongARM SA-1100 power sav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r takes two suppl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 is main 3.3V supp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X is 1.5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power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: normal ope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e: stops CPU clock, with logic still pow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ep: shuts off most of chip activity; 3 steps, each about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; wakeup takes &gt; 10 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-1100 power 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2362320"/>
            <a:ext cx="1066680" cy="609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4572000"/>
            <a:ext cx="1219320" cy="5335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572000"/>
            <a:ext cx="1143000" cy="609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8800" y="266688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38280" y="2895480"/>
            <a:ext cx="1447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876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724280" y="2743200"/>
            <a:ext cx="1905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29718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0120" y="16416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4960" y="5410080"/>
            <a:ext cx="184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92240" y="5486400"/>
            <a:ext cx="217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6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9560" y="28954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5360" y="39625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8360" y="4343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7480" y="32004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5560" y="3581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instructions are executed simultaneously at different stages of comple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ous conditions can caus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ipeline bub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reduce utiliz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nch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system delay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e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ARM and SHARC have 3-stage pi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et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 from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code and operan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ipeline exec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189840" y="23209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1,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5720" y="32194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2,r3,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1520" y="3997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2,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6040" y="2397240"/>
            <a:ext cx="144792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39720" y="468324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04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3960" y="2397240"/>
            <a:ext cx="1447560" cy="1218960"/>
            <a:chOff x="3063960" y="2397240"/>
            <a:chExt cx="1447560" cy="1218960"/>
          </a:xfrm>
        </p:grpSpPr>
        <p:sp>
          <p:nvSpPr>
            <p:cNvPr id="99" name=""/>
            <p:cNvSpPr/>
            <p:nvPr/>
          </p:nvSpPr>
          <p:spPr>
            <a:xfrm>
              <a:off x="3063960" y="2397240"/>
              <a:ext cx="144756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3960" y="3159000"/>
              <a:ext cx="144756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11520" y="2397240"/>
            <a:ext cx="1447920" cy="1981080"/>
            <a:chOff x="4511520" y="2397240"/>
            <a:chExt cx="1447920" cy="1981080"/>
          </a:xfrm>
        </p:grpSpPr>
        <p:sp>
          <p:nvSpPr>
            <p:cNvPr id="102" name=""/>
            <p:cNvSpPr/>
            <p:nvPr/>
          </p:nvSpPr>
          <p:spPr>
            <a:xfrm>
              <a:off x="4511520" y="2397240"/>
              <a:ext cx="13716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1520" y="3159000"/>
              <a:ext cx="144792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1520" y="3921120"/>
              <a:ext cx="144792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959440" y="3159000"/>
            <a:ext cx="1447920" cy="1219320"/>
            <a:chOff x="5959440" y="3159000"/>
            <a:chExt cx="1447920" cy="1219320"/>
          </a:xfrm>
        </p:grpSpPr>
        <p:sp>
          <p:nvSpPr>
            <p:cNvPr id="106" name=""/>
            <p:cNvSpPr/>
            <p:nvPr/>
          </p:nvSpPr>
          <p:spPr>
            <a:xfrm>
              <a:off x="5959440" y="3159000"/>
              <a:ext cx="13716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59440" y="3921120"/>
              <a:ext cx="144792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407360" y="3921120"/>
            <a:ext cx="1371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1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5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meas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it takes for an instruction to get through the pip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roughp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umber of instructions executed per time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 increases throughput without reducing lat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e st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every step cannot be completed in the same amount of time, pipeline st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bbles introduced by stall increase latency, reduce through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ulti-cycle LDMIA instr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209680"/>
            <a:ext cx="854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09680"/>
            <a:ext cx="83808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20968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ld r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0400" y="22096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0,{r2,r3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040" y="312408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2,r3,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60" y="403848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2,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2096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ld r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85392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3252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200400"/>
            <a:ext cx="838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20040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su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038480"/>
            <a:ext cx="854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038480"/>
            <a:ext cx="83808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403848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c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86200" y="2743200"/>
            <a:ext cx="838080" cy="1981080"/>
            <a:chOff x="3886200" y="2743200"/>
            <a:chExt cx="838080" cy="1981080"/>
          </a:xfrm>
        </p:grpSpPr>
        <p:sp>
          <p:nvSpPr>
            <p:cNvPr id="136" name=""/>
            <p:cNvSpPr/>
            <p:nvPr/>
          </p:nvSpPr>
          <p:spPr>
            <a:xfrm>
              <a:off x="3886200" y="2743200"/>
              <a:ext cx="83808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86200" y="2743200"/>
              <a:ext cx="83808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st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es often introduce stalls (branch penal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 time may depend on whether branch is ta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have to squash instructions that already started execu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know what to fetch until condition is evalu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01T02:26:27Z</dcterms:modified>
  <cp:revision>55</cp:revision>
  <dc:subject/>
  <dc:title>No Slide Title</dc:title>
</cp:coreProperties>
</file>