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438-0400-46D4-850E-65B95846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768-CF0D-4FEB-A0C3-4D3566D5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61B-375E-4797-9DA4-CB75CDCA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33C-8382-4FE1-8E7C-4FC57507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E1D0-A27A-41F6-B7F9-AD789AE9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654B-7A68-44D0-AA8F-CA6FDE18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BFBA-DCDA-4C49-9909-75CF8180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36E6-D352-4B5B-8957-B4553C12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7723-7F82-4557-B6A2-BA52AB86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AD0C-AC05-4284-85DA-E687228B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0B4D-5F49-47BF-8412-7540EC57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7F3-42CA-4853-AB9A-9227D4C4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1CDB-FDF0-4947-8F8D-6701D4CF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585B-6D1E-42E4-81C7-3AD493D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E3A5-66DE-4D3E-9412-88BB7CC4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8764-0FC9-47E8-9E29-B310C79F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A62-55EC-4F27-80E1-422F26E4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E8A-0B06-45C1-B5B1-FA3C2EBD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1B1-45DD-4017-872A-0DCA6CEB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50D-4BD4-43AA-A5AB-7E9F0EA0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DE9-A504-4800-B7A4-9DDB4341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1E0-7314-4EA9-8AAF-9D49EC4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0B4-AFF5-4F43-B93A-687C89C5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69E-4CDC-424B-8116-BF1B408B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A8BA-3901-4080-8B9C-DC24E6D23E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A631-B8F5-494B-A59A-F0664F7499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polic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modeling assump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ocess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mana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 CPU util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tion for n processes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number of tasks approaches infinity, maximum utilization approaches 69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 CPU utilization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MS cannot use 100% of CPU, even with zero context switch overhe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keep idle cycles available to handle worst-case scena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, RMS guarantees all processes will always meet their dead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implement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rocess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highest-priority active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arliest-deadline-first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D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ynamic priority scheduling sche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closest to its deadline has highest prio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recalculating processes at every timer interru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F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F can use 100% of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EDF may fail to miss a dead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F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each timer interrup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time to deadlin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process closest to dead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 considered too expensive to use in pract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xing scheduling probl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your set of processes is unschedulab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eadlines in requir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execution times of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a faster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y i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iority inver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ow-priority process keeps high-priority process from run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per use of system resources can cause scheduling 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priority process grabs I/O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priority device needs I/O device, but can’t get it until low-priority process is d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cause deadl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ving priority i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priorities to system resour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process inherit the priority of a resource that it requ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priority process inherits priority of device if hig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dependen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ependencies allow us to improve util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 combination of processes that can run simultaneous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 and P2 can’t run simultaneous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43828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396252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3124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r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evaluate a scheduling polic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satisfy all deadl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utilization---percentage of time devoted to useful 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overhead---time required to make scheduling deci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xt-switching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zero context switch time can push limits of a tight sched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 to calculate effects---depends on order of context swit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, OS context switch overhead is sma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scheduling poli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_FIFO: 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_RR: round-rob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 priority level, processes are time-sliced in round-robin fash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_OTHER: undefined scheduling policy used to mix non-real-time and real-time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process commun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provides interprocess communication mech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efficienci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pow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nix mechanism for simple communication between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ous to an interrupt---forces execution of a process at a given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a signal is caused by one process with a function c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data---can only pass type of sig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sign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declare a signal handler for the process using sigaction(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r is called when signal is recei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gnal can be sent with sigqueue(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queue(destpid,SIGRTMAX-1,sv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signal ty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ABRT: ab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TERM: terminat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FPE: floating point ex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ILL: illegal instr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KILL: unavoidable process 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USR1, SIGUSR2: user def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gnals in U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general than Unix signal---may carry arbitrary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2743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signal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4724280"/>
            <a:ext cx="27432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429000"/>
            <a:ext cx="27432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4191120"/>
            <a:ext cx="274320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4648320"/>
            <a:ext cx="27432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behavio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05320" y="5105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44956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send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shared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X supports counting semaphores with _POSIX_SEMAPHORES o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phore with N resources will not block until N processes hold the semaph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aphores are given na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sem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) is sem_wait(), V() is sem_post(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message-based commun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x pipe supports messages between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ent process uses pipe() to create a pi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 is created before child is created so that pipe ID can be passed to chi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IX pip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* create the pipe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pipe(pipe_ends) &lt; 0) { perror(“pipe”); break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* create the process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id = fork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childid == 0) { /* child reads from pipe_ends[1]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args[0] = pipe_end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v(“mychild”,childar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ror(“execv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t(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{ /* parent writes to pipe_ends[0] */ …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te monotonic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Liu and Layland): widely-used, analyzable scheduling polic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is is known a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ate Monotonic Analy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M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aluating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want to te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witch time assump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poli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use OS simulator to exercise process set, trace system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ca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 can cause additional caching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if individual processes are well-behaved, processes may interfere with each o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st-case execution time with bad behavior is usually much worse than execution time with good cache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optim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ower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etermining how system resources are scheduled/used to control power consum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can manage for power just as it manages for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reduces power by shutting down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have partial shutdown mo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management and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management and performance are often at od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ing power-down mode consu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ving power-down mode consu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ple power management poli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-driven: power up once request is received. Adds delay to res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tive shutdown: try to predict how long you have before next requ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start up in advance of request in anticipation of a new requ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predict wrong, you will incur additional delay while starting 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abilistic shutdow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service requests are probabi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 expected valu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consump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probabilistic: shut down after tim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urn back on after waiting fo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vanced Configuration and Power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C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open standard for power management ser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5486400"/>
            <a:ext cx="48769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3657600"/>
            <a:ext cx="137160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4724280"/>
            <a:ext cx="35053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I 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3657600"/>
            <a:ext cx="350532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124080"/>
            <a:ext cx="4876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657600"/>
            <a:ext cx="2133720" cy="838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PI global power sta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3: mechanical 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2: soft 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1: low wake-up latency with no loss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: low latency with loss of CPU/cache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3: low latency with loss of all state except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4: lowest-power state with all devices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1: sleeping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0: working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A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process run on single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context switch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data dependencies between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execution time is consta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adline is at end of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st-priority ready process ru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te-monotonic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sponse 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ime required to finish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ritical inst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cheduling state that gives worst response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instant occurs when all higher-priority processes are ready to exec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parame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omputation time of process i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eriod of process 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9625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12560" y="346392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4191120"/>
            <a:ext cx="1676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560" y="4876920"/>
            <a:ext cx="27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 tim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itical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9810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4379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30481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82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3792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5029200"/>
            <a:ext cx="114300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4114800"/>
            <a:ext cx="838440" cy="5335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200400"/>
            <a:ext cx="533520" cy="53352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2286000"/>
            <a:ext cx="3812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257800"/>
            <a:ext cx="7621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0320" y="4419720"/>
            <a:ext cx="10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38280" y="1219320"/>
            <a:ext cx="4343040" cy="4724280"/>
            <a:chOff x="2438280" y="1219320"/>
            <a:chExt cx="4343040" cy="4724280"/>
          </a:xfrm>
        </p:grpSpPr>
        <p:grpSp>
          <p:nvGrpSpPr>
            <p:cNvPr id="112" name=""/>
            <p:cNvGrpSpPr/>
            <p:nvPr/>
          </p:nvGrpSpPr>
          <p:grpSpPr>
            <a:xfrm>
              <a:off x="3123720" y="2133720"/>
              <a:ext cx="3657600" cy="2514600"/>
              <a:chOff x="3123720" y="2133720"/>
              <a:chExt cx="3657600" cy="25146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3123720" y="2133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24080" y="2286000"/>
                <a:ext cx="381240" cy="533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809520" y="2133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09880" y="2286000"/>
                <a:ext cx="381240" cy="533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4419360" y="2133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2286000"/>
                <a:ext cx="380880" cy="533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105160" y="2133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05520" y="2286000"/>
                <a:ext cx="380880" cy="533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3886200" y="3048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86200" y="3200400"/>
                <a:ext cx="533520" cy="5335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5333760" y="304812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34120" y="3200400"/>
                <a:ext cx="533160" cy="5335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343040" y="39625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43400" y="4114800"/>
                <a:ext cx="838080" cy="53352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5486400" y="1981080"/>
              <a:ext cx="0" cy="3962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3809880" y="228240"/>
              <a:ext cx="304920" cy="3048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9200 h 3048120"/>
                <a:gd name="textAreaBottom" fmla="*/ 296892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88"/>
                  </a:lnTo>
                  <a:cubicBezTo>
                    <a:pt x="10800" y="9888"/>
                    <a:pt x="16200" y="10788"/>
                    <a:pt x="21600" y="10788"/>
                  </a:cubicBezTo>
                  <a:cubicBezTo>
                    <a:pt x="16200" y="10788"/>
                    <a:pt x="10800" y="11688"/>
                    <a:pt x="10800" y="1258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88400" y="1219320"/>
              <a:ext cx="271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fering proce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 prior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al (fixed) priority assign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est-period process gets highest priori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 inversely proportional to perio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ties arbitrari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fixed-priority scheme does be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MS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8006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6960" y="5562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98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15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5960" y="483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52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28954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840" y="26668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8862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4520" y="3200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4191120"/>
            <a:ext cx="12952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3124080"/>
            <a:ext cx="6094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886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38862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4191120"/>
            <a:ext cx="1295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191120"/>
            <a:ext cx="1295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3T10:48:35Z</dcterms:modified>
  <cp:revision>88</cp:revision>
  <dc:subject/>
  <dc:title>No Slide Title</dc:title>
</cp:coreProperties>
</file>