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81A-FBC5-49C9-BE6D-3F974E6D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BE3-E103-4785-B751-BC59ED28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B45-BA40-45AF-AEF1-DA710A43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C4B-70E4-4184-ACE4-1BE5DC37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8C17-69EC-4504-87BA-5818DCB5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4B1A-DA44-42BD-8998-87A25459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5BB4-6F38-4938-AF02-4F98C2E0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A7BB-265E-4A57-ABB7-A8758FCA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B0A9-A137-45A0-B37C-9B0ED873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DB94-8E0D-4AF6-B532-ED38CB56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EAED-248C-4C57-80CC-1A6F5FF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3FD-EFD5-4370-8637-F5A3928F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A1C7-5D64-41A2-9CD1-A596A5DD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C876-9897-48B5-BA26-9FED0EB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5181-245E-420B-8B0D-D7797B8F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D6C8-3250-4D7B-B6E8-C8385E74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DC0C-9DF8-4F6C-85CD-1DA138C9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576-291B-4A45-B406-6701E764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238-216C-4C6F-8590-C03D28E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817-962F-4E9F-8648-2B6607F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2E1-1BCB-41FF-911A-E54F9E5F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B10-0C7F-478E-8A66-BAA7885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56E-0ECF-4171-A910-ADFC29A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65B-5F1F-4928-97FE-925D3204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F89D-90D4-45FF-BAC1-3AA3C339AD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A715-4184-48CF-A746-6AA0C49C84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lerated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nalysi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and al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system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determine that the system really needs to be acceler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faster is the accelerator on the core fun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data transfer overhe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accelerator it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PU interface to accele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parameter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eed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how much faster is the system with the accelerato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lerator execution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ization with the master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execution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ccelerator execution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acc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133720" y="3048120"/>
            <a:ext cx="38088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276720" y="3048120"/>
            <a:ext cx="30456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267080" y="3048120"/>
            <a:ext cx="152424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27160" y="44607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0840" y="4917960"/>
            <a:ext cx="170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cel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453708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ta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input/output ti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 transaction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shing register/cache values to main memo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required for CPU to set up transac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data transfers by bus packets, handshak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speed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loop is executed n ti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accelerated system to non-accelerated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= n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P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acc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[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P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590920" y="4648320"/>
            <a:ext cx="1295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5640" y="502920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ecution time on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- vs. multi-thread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ritical factor is available parallelis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ngle-threaded/blo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PU waits for accelerato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ultithreaded/non-blo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PU continues to execute along with acceler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ultithread, CPU must have useful work to 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software must also support multithrea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tal execution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-threa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threa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25909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36576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6483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5627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1" idx="2"/>
            <a:endCxn id="163" idx="2"/>
          </p:cNvCxnSpPr>
          <p:nvPr/>
        </p:nvCxnSpPr>
        <p:spPr>
          <a:xfrm flipH="1" flipV="1" rot="10800000">
            <a:off x="1828440" y="2856240"/>
            <a:ext cx="2160" cy="2057760"/>
          </a:xfrm>
          <a:prstGeom prst="curvedConnector5">
            <a:avLst>
              <a:gd name="adj1" fmla="val -45600000"/>
              <a:gd name="adj2" fmla="val 49991"/>
              <a:gd name="adj3" fmla="val -4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1" idx="6"/>
            <a:endCxn id="162" idx="1"/>
          </p:cNvCxnSpPr>
          <p:nvPr/>
        </p:nvCxnSpPr>
        <p:spPr>
          <a:xfrm>
            <a:off x="2362320" y="2857680"/>
            <a:ext cx="916560" cy="87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2"/>
            <a:endCxn id="160" idx="6"/>
          </p:cNvCxnSpPr>
          <p:nvPr/>
        </p:nvCxnSpPr>
        <p:spPr>
          <a:xfrm flipH="1">
            <a:off x="2361960" y="392400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3" idx="4"/>
            <a:endCxn id="164" idx="0"/>
          </p:cNvCxnSpPr>
          <p:nvPr/>
        </p:nvCxnSpPr>
        <p:spPr>
          <a:xfrm>
            <a:off x="2095200" y="518112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0" idx="5"/>
            <a:endCxn id="164" idx="6"/>
          </p:cNvCxnSpPr>
          <p:nvPr/>
        </p:nvCxnSpPr>
        <p:spPr>
          <a:xfrm flipH="1" rot="16200000">
            <a:off x="1465200" y="4932000"/>
            <a:ext cx="1716840" cy="78480"/>
          </a:xfrm>
          <a:prstGeom prst="curvedConnector5">
            <a:avLst>
              <a:gd name="adj1" fmla="val 44484"/>
              <a:gd name="adj2" fmla="val 196774"/>
              <a:gd name="adj3" fmla="val 44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4" idx="4"/>
          </p:cNvCxnSpPr>
          <p:nvPr/>
        </p:nvCxnSpPr>
        <p:spPr>
          <a:xfrm flipH="1">
            <a:off x="2057040" y="6095520"/>
            <a:ext cx="38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5867280" y="35053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4382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5053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4956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2" idx="2"/>
            <a:endCxn id="174" idx="2"/>
          </p:cNvCxnSpPr>
          <p:nvPr/>
        </p:nvCxnSpPr>
        <p:spPr>
          <a:xfrm flipH="1" flipV="1" rot="10800000">
            <a:off x="5866200" y="2703600"/>
            <a:ext cx="2520" cy="2057760"/>
          </a:xfrm>
          <a:prstGeom prst="curvedConnector5">
            <a:avLst>
              <a:gd name="adj1" fmla="val -45600000"/>
              <a:gd name="adj2" fmla="val 49991"/>
              <a:gd name="adj3" fmla="val -4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2" idx="6"/>
            <a:endCxn id="173" idx="1"/>
          </p:cNvCxnSpPr>
          <p:nvPr/>
        </p:nvCxnSpPr>
        <p:spPr>
          <a:xfrm>
            <a:off x="6400800" y="2704680"/>
            <a:ext cx="916560" cy="8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3" idx="2"/>
            <a:endCxn id="171" idx="6"/>
          </p:cNvCxnSpPr>
          <p:nvPr/>
        </p:nvCxnSpPr>
        <p:spPr>
          <a:xfrm flipH="1">
            <a:off x="6400440" y="377172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6133680" y="50292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5"/>
            <a:endCxn id="175" idx="6"/>
          </p:cNvCxnSpPr>
          <p:nvPr/>
        </p:nvCxnSpPr>
        <p:spPr>
          <a:xfrm flipH="1" rot="16200000">
            <a:off x="5503680" y="4779360"/>
            <a:ext cx="1716840" cy="78480"/>
          </a:xfrm>
          <a:prstGeom prst="curvedConnector5">
            <a:avLst>
              <a:gd name="adj1" fmla="val 44484"/>
              <a:gd name="adj2" fmla="val 196774"/>
              <a:gd name="adj3" fmla="val 44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5" idx="4"/>
          </p:cNvCxnSpPr>
          <p:nvPr/>
        </p:nvCxnSpPr>
        <p:spPr>
          <a:xfrm flipH="1">
            <a:off x="6095520" y="5943240"/>
            <a:ext cx="38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2" name=""/>
          <p:cNvGrpSpPr/>
          <p:nvPr/>
        </p:nvGrpSpPr>
        <p:grpSpPr>
          <a:xfrm>
            <a:off x="2057400" y="2514600"/>
            <a:ext cx="1371600" cy="3352680"/>
            <a:chOff x="2057400" y="2514600"/>
            <a:chExt cx="1371600" cy="3352680"/>
          </a:xfrm>
        </p:grpSpPr>
        <p:sp>
          <p:nvSpPr>
            <p:cNvPr id="183" name=""/>
            <p:cNvSpPr/>
            <p:nvPr/>
          </p:nvSpPr>
          <p:spPr>
            <a:xfrm>
              <a:off x="2133720" y="2514600"/>
              <a:ext cx="129528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7400" y="38098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7400" y="3809880"/>
              <a:ext cx="0" cy="106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48006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021640" y="2514600"/>
            <a:ext cx="2369880" cy="3200400"/>
            <a:chOff x="5021640" y="2514600"/>
            <a:chExt cx="2369880" cy="3200400"/>
          </a:xfrm>
        </p:grpSpPr>
        <p:sp>
          <p:nvSpPr>
            <p:cNvPr id="188" name=""/>
            <p:cNvSpPr/>
            <p:nvPr/>
          </p:nvSpPr>
          <p:spPr>
            <a:xfrm>
              <a:off x="6095880" y="2514600"/>
              <a:ext cx="129564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4480" y="3809880"/>
              <a:ext cx="1067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" name=""/>
            <p:cNvCxnSpPr>
              <a:stCxn id="172" idx="2"/>
              <a:endCxn id="174" idx="2"/>
            </p:cNvCxnSpPr>
            <p:nvPr/>
          </p:nvCxnSpPr>
          <p:spPr>
            <a:xfrm flipH="1" flipV="1" rot="10800000">
              <a:off x="5866200" y="2703600"/>
              <a:ext cx="2520" cy="2057760"/>
            </a:xfrm>
            <a:prstGeom prst="curvedConnector5">
              <a:avLst>
                <a:gd name="adj1" fmla="val -39100000"/>
                <a:gd name="adj2" fmla="val 49991"/>
                <a:gd name="adj3" fmla="val -3910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91" name=""/>
            <p:cNvCxnSpPr>
              <a:stCxn id="171" idx="5"/>
              <a:endCxn id="175" idx="6"/>
            </p:cNvCxnSpPr>
            <p:nvPr/>
          </p:nvCxnSpPr>
          <p:spPr>
            <a:xfrm flipH="1" rot="16200000">
              <a:off x="5503680" y="4779360"/>
              <a:ext cx="1716840" cy="78480"/>
            </a:xfrm>
            <a:prstGeom prst="curvedConnector5">
              <a:avLst>
                <a:gd name="adj1" fmla="val 44484"/>
                <a:gd name="adj2" fmla="val 196774"/>
                <a:gd name="adj3" fmla="val 44484"/>
              </a:avLst>
            </a:prstGeom>
            <a:ln w="38160">
              <a:solidFill>
                <a:srgbClr val="ff0000"/>
              </a:solidFill>
              <a:miter/>
            </a:ln>
          </p:spPr>
        </p:cxnSp>
        <p:sp>
          <p:nvSpPr>
            <p:cNvPr id="192" name=""/>
            <p:cNvSpPr/>
            <p:nvPr/>
          </p:nvSpPr>
          <p:spPr>
            <a:xfrm>
              <a:off x="6172200" y="49528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cution time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-threa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 execution time of all component proce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threa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longest path through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rces of parallelis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ap I/O and accelerator compu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operations in batches, read in second batch of data while computing on first bat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other work to do on the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schedule operations to move work after accelerator initi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off-the-shelf boards are available for acceleration in P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PGA-based co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bus interf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dditional computational unit dedicated to some func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ired log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rdware/software co-desig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joint design of hardware and software architec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/CPU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lerator registers provide control registers for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registers can be used for small data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lerator may include special-purpose read/write log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ecially valuable for large data transf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ing probl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memory provides the primary data transfer mechanism to the accele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s must ensure that caching does not invalidate main memory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reads location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lerator writes location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writes location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314040" y="46814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nchron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with cache, main memory writes to shared memory may cause invalid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reads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lerator writes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reads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itio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functional specification into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units onto 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s may become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proper level of parallelis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4572000"/>
            <a:ext cx="251460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(f1(),f2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4343400"/>
            <a:ext cx="914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343400"/>
            <a:ext cx="914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5486400"/>
            <a:ext cx="914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0280" y="5029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9528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477120" y="49528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itioning method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CDFG into pieces, shuffle functions between pie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ically decompose CDFG to identify possible parti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ition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743200"/>
            <a:ext cx="12189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4191120"/>
            <a:ext cx="12189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502920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1905120"/>
            <a:ext cx="1295280" cy="9144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2590920"/>
            <a:ext cx="1295280" cy="9144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3"/>
            <a:endCxn id="223" idx="0"/>
          </p:cNvCxnSpPr>
          <p:nvPr/>
        </p:nvCxnSpPr>
        <p:spPr>
          <a:xfrm>
            <a:off x="3428640" y="2361960"/>
            <a:ext cx="156276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3"/>
            <a:endCxn id="219" idx="1"/>
          </p:cNvCxnSpPr>
          <p:nvPr/>
        </p:nvCxnSpPr>
        <p:spPr>
          <a:xfrm>
            <a:off x="5638680" y="304776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3" idx="2"/>
            <a:endCxn id="220" idx="0"/>
          </p:cNvCxnSpPr>
          <p:nvPr/>
        </p:nvCxnSpPr>
        <p:spPr>
          <a:xfrm>
            <a:off x="4991040" y="3504960"/>
            <a:ext cx="38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2" idx="2"/>
            <a:endCxn id="221" idx="0"/>
          </p:cNvCxnSpPr>
          <p:nvPr/>
        </p:nvCxnSpPr>
        <p:spPr>
          <a:xfrm>
            <a:off x="2781360" y="2819520"/>
            <a:ext cx="3888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1" idx="3"/>
          </p:cNvCxnSpPr>
          <p:nvPr/>
        </p:nvCxnSpPr>
        <p:spPr>
          <a:xfrm rot="5400000">
            <a:off x="4380480" y="2400120"/>
            <a:ext cx="1982160" cy="388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0" idx="2"/>
            <a:endCxn id="221" idx="3"/>
          </p:cNvCxnSpPr>
          <p:nvPr/>
        </p:nvCxnSpPr>
        <p:spPr>
          <a:xfrm rot="5400000">
            <a:off x="3961440" y="4267080"/>
            <a:ext cx="53424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0" name=""/>
          <p:cNvGrpSpPr/>
          <p:nvPr/>
        </p:nvGrpSpPr>
        <p:grpSpPr>
          <a:xfrm>
            <a:off x="6324480" y="2362320"/>
            <a:ext cx="1981440" cy="1371600"/>
            <a:chOff x="6324480" y="2362320"/>
            <a:chExt cx="1981440" cy="1371600"/>
          </a:xfrm>
        </p:grpSpPr>
        <p:sp>
          <p:nvSpPr>
            <p:cNvPr id="231" name=""/>
            <p:cNvSpPr/>
            <p:nvPr/>
          </p:nvSpPr>
          <p:spPr>
            <a:xfrm>
              <a:off x="6324480" y="2362320"/>
              <a:ext cx="198144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7120" y="32418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62520" y="3809880"/>
            <a:ext cx="1981080" cy="1371600"/>
            <a:chOff x="3962520" y="3809880"/>
            <a:chExt cx="1981080" cy="1371600"/>
          </a:xfrm>
        </p:grpSpPr>
        <p:sp>
          <p:nvSpPr>
            <p:cNvPr id="234" name=""/>
            <p:cNvSpPr/>
            <p:nvPr/>
          </p:nvSpPr>
          <p:spPr>
            <a:xfrm>
              <a:off x="3962520" y="3809880"/>
              <a:ext cx="198108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24800" y="4689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828800" y="4800600"/>
            <a:ext cx="1981080" cy="1371600"/>
            <a:chOff x="1828800" y="4800600"/>
            <a:chExt cx="1981080" cy="1371600"/>
          </a:xfrm>
        </p:grpSpPr>
        <p:sp>
          <p:nvSpPr>
            <p:cNvPr id="237" name=""/>
            <p:cNvSpPr/>
            <p:nvPr/>
          </p:nvSpPr>
          <p:spPr>
            <a:xfrm>
              <a:off x="1828800" y="4800600"/>
              <a:ext cx="198108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91080" y="5680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657600" y="1981080"/>
            <a:ext cx="4876920" cy="3965040"/>
            <a:chOff x="3657600" y="1981080"/>
            <a:chExt cx="4876920" cy="3965040"/>
          </a:xfrm>
        </p:grpSpPr>
        <p:sp>
          <p:nvSpPr>
            <p:cNvPr id="240" name=""/>
            <p:cNvSpPr/>
            <p:nvPr/>
          </p:nvSpPr>
          <p:spPr>
            <a:xfrm>
              <a:off x="3657600" y="1981080"/>
              <a:ext cx="4876920" cy="396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12040" y="54864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14400" y="1600200"/>
            <a:ext cx="7620120" cy="4572000"/>
            <a:chOff x="914400" y="1600200"/>
            <a:chExt cx="7620120" cy="4572000"/>
          </a:xfrm>
        </p:grpSpPr>
        <p:sp>
          <p:nvSpPr>
            <p:cNvPr id="243" name=""/>
            <p:cNvSpPr/>
            <p:nvPr/>
          </p:nvSpPr>
          <p:spPr>
            <a:xfrm>
              <a:off x="914400" y="1600200"/>
              <a:ext cx="7620120" cy="457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6680" y="5680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eduling and allo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 operations in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computations to processing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and allocation interact, but separating them hel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ly allocate, then sched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cheduling and allo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2286000"/>
            <a:ext cx="8380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2286000"/>
            <a:ext cx="8380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3962520"/>
            <a:ext cx="83844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31240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2320" y="3124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5720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765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04200" y="52992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sk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6720" y="525780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rdwar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2743200"/>
            <a:ext cx="11430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2743200"/>
            <a:ext cx="11430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674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process execution ti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920960"/>
          <a:ext cx="8178840" cy="41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20960"/>
                    <a:ext cx="817884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communication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communication within PE is fre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of communication from P1 to P3 is d1 =2; cost of P2-&gt;P3 communication is d2 =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syste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048120"/>
            <a:ext cx="1371600" cy="1371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05740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362320"/>
            <a:ext cx="18288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657600"/>
            <a:ext cx="16002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648320"/>
            <a:ext cx="144792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43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34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00760" y="2514240"/>
            <a:ext cx="2133360" cy="762120"/>
            <a:chOff x="3200760" y="2514240"/>
            <a:chExt cx="2133360" cy="762120"/>
          </a:xfrm>
        </p:grpSpPr>
        <p:sp>
          <p:nvSpPr>
            <p:cNvPr id="98" name=""/>
            <p:cNvSpPr/>
            <p:nvPr/>
          </p:nvSpPr>
          <p:spPr>
            <a:xfrm flipV="1">
              <a:off x="3276720" y="2514240"/>
              <a:ext cx="20574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0760" y="251460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876920" y="3124080"/>
            <a:ext cx="826560" cy="1067040"/>
            <a:chOff x="4876920" y="3124080"/>
            <a:chExt cx="826560" cy="1067040"/>
          </a:xfrm>
        </p:grpSpPr>
        <p:sp>
          <p:nvSpPr>
            <p:cNvPr id="101" name=""/>
            <p:cNvSpPr/>
            <p:nvPr/>
          </p:nvSpPr>
          <p:spPr>
            <a:xfrm flipV="1">
              <a:off x="4876920" y="31240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13720" y="32418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352320" y="2895480"/>
            <a:ext cx="2750040" cy="762120"/>
            <a:chOff x="3352320" y="2895480"/>
            <a:chExt cx="2750040" cy="762120"/>
          </a:xfrm>
        </p:grpSpPr>
        <p:sp>
          <p:nvSpPr>
            <p:cNvPr id="104" name=""/>
            <p:cNvSpPr/>
            <p:nvPr/>
          </p:nvSpPr>
          <p:spPr>
            <a:xfrm flipH="1">
              <a:off x="3352320" y="2895480"/>
              <a:ext cx="21337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41960" y="293688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105520" y="3124080"/>
            <a:ext cx="918720" cy="1067040"/>
            <a:chOff x="5105520" y="3124080"/>
            <a:chExt cx="918720" cy="1067040"/>
          </a:xfrm>
        </p:grpSpPr>
        <p:sp>
          <p:nvSpPr>
            <p:cNvPr id="107" name=""/>
            <p:cNvSpPr/>
            <p:nvPr/>
          </p:nvSpPr>
          <p:spPr>
            <a:xfrm>
              <a:off x="5334480" y="32767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05520" y="31240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cate P1, P2 -&gt; M1; P3 -&gt; M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56386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040" y="61722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447920" y="27428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2680" y="3048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2680" y="3886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9680" y="4800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3240" y="579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6080" y="5791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6280" y="5791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532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02800" y="5791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48120"/>
            <a:ext cx="167616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3048120"/>
            <a:ext cx="16765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4800600"/>
            <a:ext cx="13716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3886200"/>
            <a:ext cx="16765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3241800"/>
            <a:ext cx="6400800" cy="492120"/>
            <a:chOff x="1447920" y="3241800"/>
            <a:chExt cx="6400800" cy="492120"/>
          </a:xfrm>
        </p:grpSpPr>
        <p:sp>
          <p:nvSpPr>
            <p:cNvPr id="288" name=""/>
            <p:cNvSpPr/>
            <p:nvPr/>
          </p:nvSpPr>
          <p:spPr>
            <a:xfrm>
              <a:off x="1447920" y="3733920"/>
              <a:ext cx="6400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17920" y="324180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ime = 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ond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cate P1 -&gt; M1; P2, P3 -&gt; M2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54100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447920" y="25142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2680" y="2819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2680" y="3657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9680" y="4572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3240" y="5562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608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628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532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280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2819520"/>
            <a:ext cx="167616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3657600"/>
            <a:ext cx="1981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4572000"/>
            <a:ext cx="6858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91320" y="3657600"/>
            <a:ext cx="16761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447920" y="3013200"/>
            <a:ext cx="6019560" cy="492120"/>
            <a:chOff x="1447920" y="3013200"/>
            <a:chExt cx="6019560" cy="492120"/>
          </a:xfrm>
        </p:grpSpPr>
        <p:sp>
          <p:nvSpPr>
            <p:cNvPr id="310" name=""/>
            <p:cNvSpPr/>
            <p:nvPr/>
          </p:nvSpPr>
          <p:spPr>
            <a:xfrm>
              <a:off x="1447920" y="3505320"/>
              <a:ext cx="6019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87160" y="301320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ime = 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integration and debug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debug the CPU/accelerator interface separately from the accelerator co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 scaffolding to test the accele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/software co-simulation can be usefu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vs. co-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-processor executes instru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s are dispatched by the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celerator appears as a device on the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ccelerator is controlled by regi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implement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-specific integrated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-programmable gate array (FPG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compon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graphics process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design tas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a heterogeneous multiprocessor archit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element (PE): CPU, accelerato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accelerator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cost/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 logic may be able to perform operation faster than a CPU of equivalent c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cost is a non-linear function of perform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60199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7440" y="48769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3080" y="586728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048120" y="4723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 flipV="1">
            <a:off x="3657600" y="4799880"/>
            <a:ext cx="1117800" cy="1067400"/>
          </a:xfrm>
          <a:prstGeom prst="curvedConnector2">
            <a:avLst/>
          </a:prstGeom>
          <a:ln w="28440">
            <a:solidFill>
              <a:srgbClr val="3366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accelerators?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real-time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time-critical functions on less-loaded processing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ember RMS utilization---extra CPU cycles must be reserved to meet deadl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5867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3760" y="4724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360" y="571500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4572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V="1">
            <a:off x="3809520" y="4647600"/>
            <a:ext cx="1118160" cy="1067400"/>
          </a:xfrm>
          <a:prstGeom prst="curvedConnector2">
            <a:avLst/>
          </a:prstGeom>
          <a:ln w="28440">
            <a:solidFill>
              <a:srgbClr val="3366ff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4197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5410080"/>
            <a:ext cx="2209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952520" y="51055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1055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6200" y="4876920"/>
            <a:ext cx="17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line 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accelerators?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for processing I/O in real-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consume less ener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better at streaming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able to do all the work on even the largest single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22T02:08:50Z</dcterms:modified>
  <cp:revision>66</cp:revision>
  <dc:subject/>
  <dc:title>No Slide Title</dc:title>
</cp:coreProperties>
</file>