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9B75-D40A-4830-B7EE-26E8C3DFC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5992-9F4A-4BBF-B9DC-1C161BE9D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689E-8973-43CA-8E46-113BB182B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BCCB-8A1B-4061-9252-CFF2F46C7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E9AA3-ACAA-4CD7-A9E4-AA0F32A6D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CDE5D-E9FE-4BEE-97F0-73A39125F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6ED5D-0153-4664-AA20-B2CB2962A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619C1-4645-4724-B2BC-9EEC2CCD8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C4D98-C882-4D4E-8413-5B2FB20E8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E9DB5-3181-4DDF-AFB2-D924E0D95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8C907-424C-4784-8706-8F199B05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2B97-2EAB-496A-A443-D49A3B634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3940B-C80A-4AAA-988C-244C8B644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B5FE8-7DB1-4F32-AE1F-267A0091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AA126-B273-48F7-A99E-97526E967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EB560-AA5D-4A07-A492-B736ECFA2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BAFE6-B087-40FD-8503-7BAB51C28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0A80-2451-40EF-AECB-CF6423B16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2D86-0ABE-4A92-95B1-32D704027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2202-5A8A-42BA-A1B5-677CE821C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D2A0-4D01-48CF-AE46-461C3F4AC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0495-68E4-42F4-BDCC-7BDC00FE8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21BF-4C7E-4E31-9025-912852072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F71D-FA3E-4B83-AFA7-C77CB2FDB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© 2000 Morgan Kauf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Overheads for </a:t>
            </a:r>
            <a:r>
              <a:rPr b="0" i="1" lang="en-US" sz="1400" spc="-1" strike="noStrike">
                <a:solidFill>
                  <a:srgbClr val="5e574e"/>
                </a:solidFill>
                <a:latin typeface="Arial"/>
              </a:rPr>
              <a:t>Computers as Compon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4844C-9D29-4A85-ACC2-15EF9BB9074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4B3A8-8502-4F38-9B9F-7D052CC7A50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cesses and operating system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ng system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cess initiation disciplin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eriodic proce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executes on (almost) every perio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Aperiodic proce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executes on deman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ing aperiodic process sets is harder---must consider worst-case combinations of process activation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iming requirements on process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erio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interval between process activat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Initiation interv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reciprocal of perio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Initiation tim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time at which process becomes read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Deadl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time at which process must finis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iming viola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appens if a process doesn’t finish by its deadlin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Hard deadlin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system fails if miss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oft deadlin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user may notice, but system doesn’t necessarily fai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: Space Shuttle software erro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ace Shuttle’s first launch was delayed by a software timing erro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control system PASS and backup system BF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FS failed to synchronize with PAS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to one routine added delay that threw off start time calcul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 in 67 chance of timing proble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process communic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Interprocess communic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IP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: OS provides mechanisms so that processes can pass dat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types of semantic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lock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sending process waits for response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non-block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sending process continu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PC styl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ared memory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es have some memory in common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operate to avoid destroying/missing messag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ssage passi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es send messages along a communication channel---no common address spa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hared memor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ared memory on a bu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1066680" y="5181480"/>
            <a:ext cx="67820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828800" y="3429000"/>
            <a:ext cx="1143000" cy="1143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3429000"/>
            <a:ext cx="1143000" cy="1143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57600" y="2971800"/>
            <a:ext cx="1600200" cy="1600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38280" y="4572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495680" y="4572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553080" y="4572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57600" y="3200400"/>
            <a:ext cx="160020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362320" y="3657600"/>
            <a:ext cx="2311200" cy="1689120"/>
          </a:xfrm>
          <a:custGeom>
            <a:avLst/>
            <a:gdLst/>
            <a:ahLst/>
            <a:rect l="l" t="t" r="r" b="b"/>
            <a:pathLst>
              <a:path w="1456" h="1064">
                <a:moveTo>
                  <a:pt x="96" y="480"/>
                </a:moveTo>
                <a:cubicBezTo>
                  <a:pt x="48" y="660"/>
                  <a:pt x="0" y="840"/>
                  <a:pt x="192" y="912"/>
                </a:cubicBezTo>
                <a:cubicBezTo>
                  <a:pt x="384" y="984"/>
                  <a:pt x="1040" y="1064"/>
                  <a:pt x="1248" y="912"/>
                </a:cubicBezTo>
                <a:cubicBezTo>
                  <a:pt x="1456" y="760"/>
                  <a:pt x="1448" y="380"/>
                  <a:pt x="144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91120" y="3657600"/>
            <a:ext cx="2628720" cy="1689120"/>
          </a:xfrm>
          <a:custGeom>
            <a:avLst/>
            <a:gdLst/>
            <a:ahLst/>
            <a:rect l="l" t="t" r="r" b="b"/>
            <a:pathLst>
              <a:path w="1656" h="1064">
                <a:moveTo>
                  <a:pt x="1536" y="480"/>
                </a:moveTo>
                <a:cubicBezTo>
                  <a:pt x="1596" y="660"/>
                  <a:pt x="1656" y="840"/>
                  <a:pt x="1440" y="912"/>
                </a:cubicBezTo>
                <a:cubicBezTo>
                  <a:pt x="1224" y="984"/>
                  <a:pt x="480" y="1064"/>
                  <a:pt x="240" y="912"/>
                </a:cubicBezTo>
                <a:cubicBezTo>
                  <a:pt x="0" y="760"/>
                  <a:pt x="0" y="380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ace condition in shared memor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lem when two CPUs try to write the same locat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PU 1 reads flag and sees 0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PU 2 reads flag and sees 0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PU 1 sets flag to one and writes loc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PU 2 sets flag to one and overwrites loc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tomic test-and-s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lem can be solved with an atomic test-and-se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bus operation reads memory location, tests it, writes i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M test-and-set provided by SWP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R r0,SEMAPH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R r1,#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TFLAG SWP r1,r1,[r0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NZ GET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ritical reg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ritical reg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section of code that cannot be interrupted by another proces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shared memory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ing I/O devi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perating system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operating system controls resourc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o gets the CPU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I/O takes place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much memory is allocat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st important resource is the CPU itself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PU access controlled by the schedul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maphor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emapho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OS primitive for controlling access to critical reg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toco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 access to semaphore with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P(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 critical region opera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semaphore with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V(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essage pass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7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ssage passing on a network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1066680" y="5181480"/>
            <a:ext cx="67820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828800" y="3429000"/>
            <a:ext cx="1143000" cy="1143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943600" y="3429000"/>
            <a:ext cx="1143000" cy="1143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438280" y="4572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553080" y="4572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447560" cy="4572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791320" y="4495680"/>
            <a:ext cx="1447560" cy="4572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311560" y="4952880"/>
            <a:ext cx="4546440" cy="838440"/>
            <a:chOff x="2311560" y="4952880"/>
            <a:chExt cx="4546440" cy="838440"/>
          </a:xfrm>
        </p:grpSpPr>
        <p:sp>
          <p:nvSpPr>
            <p:cNvPr id="186" name=""/>
            <p:cNvSpPr/>
            <p:nvPr/>
          </p:nvSpPr>
          <p:spPr>
            <a:xfrm>
              <a:off x="2311560" y="4952880"/>
              <a:ext cx="4546440" cy="533520"/>
            </a:xfrm>
            <a:custGeom>
              <a:avLst/>
              <a:gdLst/>
              <a:ahLst/>
              <a:rect l="l" t="t" r="r" b="b"/>
              <a:pathLst>
                <a:path w="2864" h="336">
                  <a:moveTo>
                    <a:pt x="80" y="0"/>
                  </a:moveTo>
                  <a:cubicBezTo>
                    <a:pt x="40" y="0"/>
                    <a:pt x="0" y="0"/>
                    <a:pt x="80" y="48"/>
                  </a:cubicBezTo>
                  <a:cubicBezTo>
                    <a:pt x="160" y="96"/>
                    <a:pt x="168" y="248"/>
                    <a:pt x="560" y="288"/>
                  </a:cubicBezTo>
                  <a:cubicBezTo>
                    <a:pt x="952" y="328"/>
                    <a:pt x="2048" y="336"/>
                    <a:pt x="2432" y="288"/>
                  </a:cubicBezTo>
                  <a:cubicBezTo>
                    <a:pt x="2816" y="240"/>
                    <a:pt x="2840" y="120"/>
                    <a:pt x="2864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09880" y="5334120"/>
              <a:ext cx="1447920" cy="4572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messa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cess data dependenci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process may not be able to start until another finish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dependencies defined in 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task grap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rocesses in one task run at the same ra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"/>
          <p:cNvSpPr/>
          <p:nvPr/>
        </p:nvSpPr>
        <p:spPr>
          <a:xfrm>
            <a:off x="5638680" y="2286000"/>
            <a:ext cx="685800" cy="6858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467480" y="2286000"/>
            <a:ext cx="685800" cy="6858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553080" y="3809880"/>
            <a:ext cx="685800" cy="6858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19920" y="297180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7086240" y="297180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629400" y="5029200"/>
            <a:ext cx="685800" cy="6858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934320" y="4495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ther operating system func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e/tim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le syst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work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urit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cess stat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rocess can be in one of three stat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execut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n the CPU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read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run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wait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da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5715000" y="228600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19720" y="4191120"/>
            <a:ext cx="1218960" cy="6858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4191120"/>
            <a:ext cx="1218960" cy="6858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i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486040" y="2971800"/>
            <a:ext cx="6094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4800600" y="2437920"/>
            <a:ext cx="91440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638680" y="464832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638320" y="434340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0" y="2971800"/>
            <a:ext cx="9144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7238520" y="2514240"/>
            <a:ext cx="121932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452000" y="2529000"/>
            <a:ext cx="11088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t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C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360" y="3276720"/>
            <a:ext cx="761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867280" y="3962520"/>
            <a:ext cx="107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t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942880" y="4648320"/>
            <a:ext cx="124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7600" y="3048120"/>
            <a:ext cx="12567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emp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3440" y="2895480"/>
            <a:ext cx="67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perating system structu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S needs to keep track of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prioritie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eduling state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activation recor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cesses may be created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ally before system start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ally during execu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mbedded vs. general-purpose schedul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rkstations try to avoid starving processes of CPU acces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 = access to CP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mbedded systems must meet deadlin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-priority processes may not run for a long tim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iority-driven schedul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process has a priorit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PU goes to highest-priority process that is read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orities determine scheduling policy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riority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-varying prioriti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iority-driven scheduling examp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l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rocess has a fixed priority (1 highest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st-priority ready process gets CPU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continues until done or wait sta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1: priority 1, execution time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2: priority 2, execution time 3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3: priority 3, execution time 2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iority-driven scheduling examp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4876920"/>
            <a:ext cx="7924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5720" y="5562720"/>
            <a:ext cx="7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457560" y="2362320"/>
            <a:ext cx="1761120" cy="1253880"/>
            <a:chOff x="457560" y="2362320"/>
            <a:chExt cx="1761120" cy="1253880"/>
          </a:xfrm>
        </p:grpSpPr>
        <p:sp>
          <p:nvSpPr>
            <p:cNvPr id="116" name=""/>
            <p:cNvSpPr/>
            <p:nvPr/>
          </p:nvSpPr>
          <p:spPr>
            <a:xfrm>
              <a:off x="853920" y="29304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57560" y="2362320"/>
              <a:ext cx="176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2 ready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t=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2286360" y="2362320"/>
            <a:ext cx="1913400" cy="1253880"/>
            <a:chOff x="2286360" y="2362320"/>
            <a:chExt cx="1913400" cy="1253880"/>
          </a:xfrm>
        </p:grpSpPr>
        <p:sp>
          <p:nvSpPr>
            <p:cNvPr id="119" name=""/>
            <p:cNvSpPr/>
            <p:nvPr/>
          </p:nvSpPr>
          <p:spPr>
            <a:xfrm>
              <a:off x="2682720" y="29304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86360" y="2362320"/>
              <a:ext cx="191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1 ready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t=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2743560" y="1905120"/>
            <a:ext cx="1913400" cy="1711080"/>
            <a:chOff x="2743560" y="1905120"/>
            <a:chExt cx="1913400" cy="1711080"/>
          </a:xfrm>
        </p:grpSpPr>
        <p:sp>
          <p:nvSpPr>
            <p:cNvPr id="122" name=""/>
            <p:cNvSpPr/>
            <p:nvPr/>
          </p:nvSpPr>
          <p:spPr>
            <a:xfrm>
              <a:off x="3048120" y="2286000"/>
              <a:ext cx="15840" cy="133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743560" y="1905120"/>
              <a:ext cx="191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3 ready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t=1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4876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71040" y="5195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87840" y="4862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96400" y="51814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057400" y="4876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65960" y="51958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4876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61600" y="51958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397720" y="4862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306640" y="51814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4876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76200" y="51958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162920" y="4876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071480" y="51958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2120" y="3962520"/>
            <a:ext cx="190476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62520" y="3962520"/>
            <a:ext cx="190476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66880" y="3962520"/>
            <a:ext cx="1295640" cy="609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962520"/>
            <a:ext cx="251460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 scheduling proble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we meet all deadlin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be able to meet deadlines in all cas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much CPU horsepower do we need to meet our deadlin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9T10:33:27Z</dcterms:created>
  <dc:creator>Wayne Wolf</dc:creator>
  <dc:description/>
  <dc:language>en-US</dc:language>
  <cp:lastModifiedBy>Wayne Wolf</cp:lastModifiedBy>
  <dcterms:modified xsi:type="dcterms:W3CDTF">2000-07-13T09:22:26Z</dcterms:modified>
  <cp:revision>60</cp:revision>
  <dc:subject/>
  <dc:title>No Slide Title</dc:title>
</cp:coreProperties>
</file>