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5831-7C0B-43E3-9BA9-184100B15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F677-95E3-42D1-B064-4293C930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A2F6-FD8F-41FC-BECF-3EFBB4039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C545-C3F7-4FAA-BCB9-B1E5F74E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E5EF-85ED-44C4-818C-17BF1577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1529-B3F5-4DF4-845C-D1AF0D67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8CF4-0CF9-4C15-9A48-86574CA6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C29F-AF3D-45E9-94CF-0710CD9D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23AD-BEC6-4596-B8F4-E83AF8E6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CA6A-D0FD-46CC-8E0C-97A8B99A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AEB3-D5C4-4C02-858B-2EB9C665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D971-EC82-4FF5-9B31-61105728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594B-7C4B-4BE4-A740-2E1F0370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9C8F-954F-48CB-955D-DFBF2DF7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7829-A9FD-460F-B28C-804D9215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CD1B-4817-445B-BF67-55DB72BD8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E5D1-58AF-4A45-A651-4D97E6892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0E43-B1CC-40A7-84BB-63F1F359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F0A5-2E0D-4D10-91A7-53E1C707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B9A2-390D-4FE1-8E0D-1BD73B2E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D02F-9EC4-4C23-AAB6-724AA010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FCDC-A674-4B2E-A04B-49452898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45A3-926E-43E5-9C83-FCA9E1FB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101D-5CB1-4798-8411-63CCFA27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5139-3DDA-4A4B-A278-4F55DCAFBC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9C00-588A-4BD9-B1EC-AD17CD07EF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odel train controll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les of message clas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message classes derived from message cla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es and operations will be filled in for detailed specific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message classes specify message type by their cla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have to add type as parameter to data structure in implement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bsystem collaboration diagra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ws relationship between console and receiver (ignores role of track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3962520"/>
            <a:ext cx="152388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10080" y="3962520"/>
            <a:ext cx="152424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4191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04600" y="335268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.n: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stem structure mode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classes define non-computer compone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 by *na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ose important systems at this point to show basic relationship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jor subsystem ro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Conso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state of front panel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at messag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messag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Tra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messag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 messag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he tra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sole system clas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"/>
          <p:cNvSpPr/>
          <p:nvPr/>
        </p:nvSpPr>
        <p:spPr>
          <a:xfrm>
            <a:off x="3657600" y="1752480"/>
            <a:ext cx="18288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57600" y="2286000"/>
            <a:ext cx="182880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3124080"/>
            <a:ext cx="18288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657600"/>
            <a:ext cx="182880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0" y="3124080"/>
            <a:ext cx="18288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7600" y="3657600"/>
            <a:ext cx="182880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05720" y="3124080"/>
            <a:ext cx="18288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05720" y="3657600"/>
            <a:ext cx="182880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4495680"/>
            <a:ext cx="18288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5029200"/>
            <a:ext cx="182880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05720" y="4495680"/>
            <a:ext cx="18288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05720" y="5029200"/>
            <a:ext cx="182880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1676160" y="2362320"/>
            <a:ext cx="1981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2362320"/>
            <a:ext cx="20574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2388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01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86360" y="194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2568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4048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9332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37200" y="25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380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4480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0200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24068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2192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sole class ro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an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describes analog knobs and interface hard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formatt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turns knob settings into bit strea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transmitt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ends data on tra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in system clas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"/>
          <p:cNvSpPr/>
          <p:nvPr/>
        </p:nvSpPr>
        <p:spPr>
          <a:xfrm>
            <a:off x="3657600" y="1752480"/>
            <a:ext cx="18288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57600" y="2286000"/>
            <a:ext cx="182880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57600" y="3048120"/>
            <a:ext cx="182880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57600" y="3581280"/>
            <a:ext cx="182880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3505320"/>
            <a:ext cx="182880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4038480"/>
            <a:ext cx="182880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4267080"/>
            <a:ext cx="18288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57600" y="4800600"/>
            <a:ext cx="182880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3276720"/>
            <a:ext cx="182880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781680" y="4038480"/>
            <a:ext cx="182880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4800600"/>
            <a:ext cx="18288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o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5334120"/>
            <a:ext cx="182880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81680" y="4800600"/>
            <a:ext cx="18288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se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81680" y="5334120"/>
            <a:ext cx="182880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209680" y="3276720"/>
            <a:ext cx="1447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86400" y="32767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9528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9608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372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3080" y="2666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5645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026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3170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9788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38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85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1148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16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340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in class ro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receiv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digitizes signal from tra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controll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interprets received commands and makes control decis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motor interfa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generates signals required by mo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tailed specifi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now fill in the details of the conceptual specific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lass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ketching out the spec first helps us understand the basic relationships in the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in speed contr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or controlled by pulse width modul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410080" y="4038120"/>
            <a:ext cx="1828800" cy="762120"/>
            <a:chOff x="5410080" y="4038120"/>
            <a:chExt cx="1828800" cy="762120"/>
          </a:xfrm>
        </p:grpSpPr>
        <p:sp>
          <p:nvSpPr>
            <p:cNvPr id="290" name=""/>
            <p:cNvSpPr/>
            <p:nvPr/>
          </p:nvSpPr>
          <p:spPr>
            <a:xfrm rot="16200000">
              <a:off x="6019560" y="3580920"/>
              <a:ext cx="762120" cy="1676520"/>
            </a:xfrm>
            <a:prstGeom prst="can">
              <a:avLst>
                <a:gd name="adj" fmla="val 25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6200000">
              <a:off x="5562360" y="4190400"/>
              <a:ext cx="152280" cy="457200"/>
            </a:xfrm>
            <a:prstGeom prst="can">
              <a:avLst>
                <a:gd name="adj" fmla="val 25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2" name=""/>
          <p:cNvCxnSpPr>
            <a:stCxn id="290" idx="4"/>
          </p:cNvCxnSpPr>
          <p:nvPr/>
        </p:nvCxnSpPr>
        <p:spPr>
          <a:xfrm flipV="1" rot="16200000">
            <a:off x="4990680" y="2628360"/>
            <a:ext cx="226440" cy="258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3" name=""/>
          <p:cNvCxnSpPr>
            <a:stCxn id="290" idx="2"/>
          </p:cNvCxnSpPr>
          <p:nvPr/>
        </p:nvCxnSpPr>
        <p:spPr>
          <a:xfrm rot="5400000">
            <a:off x="4948920" y="3581280"/>
            <a:ext cx="232560" cy="2664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4" name=""/>
          <p:cNvSpPr/>
          <p:nvPr/>
        </p:nvSpPr>
        <p:spPr>
          <a:xfrm>
            <a:off x="3888360" y="4191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87640" y="3733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7640" y="4572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76520" y="4800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828800" y="4419720"/>
            <a:ext cx="457200" cy="3808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95480" y="4419720"/>
            <a:ext cx="457200" cy="3808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8800" y="4267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58480" y="3505320"/>
            <a:ext cx="71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urposes of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 a design through several levels of abstra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in experience with UM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sole physical object clas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" y="1828800"/>
            <a:ext cx="32767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b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" y="2362320"/>
            <a:ext cx="3276720" cy="1828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-knob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-knob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rtia-knob: unsigned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ergency-stop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4191120"/>
            <a:ext cx="3276720" cy="838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use_cli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_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38480" y="1828800"/>
            <a:ext cx="32767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se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362320"/>
            <a:ext cx="3276720" cy="1295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se-width: unsigned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ion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38480" y="3581280"/>
            <a:ext cx="327672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038480" y="4038480"/>
            <a:ext cx="1600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038480" y="4572000"/>
            <a:ext cx="1600200" cy="304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4876920"/>
            <a:ext cx="160020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-b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943600" y="4038480"/>
            <a:ext cx="28954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o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43600" y="4572000"/>
            <a:ext cx="2895480" cy="304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43600" y="4876920"/>
            <a:ext cx="289548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-bit(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nel and motor interface clas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2133720"/>
            <a:ext cx="304812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38080" y="2666880"/>
            <a:ext cx="3048120" cy="304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8080" y="2971800"/>
            <a:ext cx="3048120" cy="2057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-number(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(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rtia(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op(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-settings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952880" y="2133720"/>
            <a:ext cx="304812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or-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952880" y="2666880"/>
            <a:ext cx="304812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3429000"/>
            <a:ext cx="3048120" cy="533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ass descrip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nel class defines the contro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-settings() behavior reads the contro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or-interface class defines the motor speed held as sta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nsmitter and receiver clas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"/>
          <p:cNvSpPr/>
          <p:nvPr/>
        </p:nvSpPr>
        <p:spPr>
          <a:xfrm>
            <a:off x="838080" y="2133720"/>
            <a:ext cx="327672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8080" y="2666880"/>
            <a:ext cx="3276720" cy="304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080" y="2971800"/>
            <a:ext cx="3276720" cy="2057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-speed(adrs: integ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: inte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-inertia(adrs: integ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: inte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-estop(adrs: inte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76920" y="2133720"/>
            <a:ext cx="327636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76920" y="2666880"/>
            <a:ext cx="327636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: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76920" y="3581280"/>
            <a:ext cx="3276360" cy="2438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-cm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-cmd(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cv-type(msg-ty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cv-speed(val: inte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cv-inertia(val:inte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ass descrip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mitter class has one behavior for each type of message s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eiver function provides methods 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 a new messag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its typ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its parameters (estop has no parameter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rmatter cla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4" name=""/>
          <p:cNvSpPr/>
          <p:nvPr/>
        </p:nvSpPr>
        <p:spPr>
          <a:xfrm>
            <a:off x="2438280" y="1981080"/>
            <a:ext cx="41911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38280" y="2514600"/>
            <a:ext cx="4191120" cy="21337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-train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-speed[ntrains]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-inertia[ntrains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igned-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-estop[ntrains]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438280" y="4648320"/>
            <a:ext cx="4191120" cy="12189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-comman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-active(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rmatter class descrip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tter class holds state for each train, setting for current tra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rate() operation performs the basic formatting tas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rol input ca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a soft panel to show current panel settings for each tra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ing train numb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hange soft panel settings to reflect current train’s speed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ling throttle/inertia/estop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panel, check for changes, perform comman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rol input sequence diagra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2" name=""/>
          <p:cNvSpPr/>
          <p:nvPr/>
        </p:nvSpPr>
        <p:spPr>
          <a:xfrm>
            <a:off x="1143000" y="1752480"/>
            <a:ext cx="10666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n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71800" y="1752480"/>
            <a:ext cx="9907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00600" y="1752480"/>
            <a:ext cx="14479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629400" y="1752480"/>
            <a:ext cx="1600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ansm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52280" y="2362320"/>
            <a:ext cx="990720" cy="2133360"/>
            <a:chOff x="152280" y="2362320"/>
            <a:chExt cx="990720" cy="2133360"/>
          </a:xfrm>
        </p:grpSpPr>
        <p:sp>
          <p:nvSpPr>
            <p:cNvPr id="347" name=""/>
            <p:cNvSpPr/>
            <p:nvPr/>
          </p:nvSpPr>
          <p:spPr>
            <a:xfrm flipH="1" rot="16200000">
              <a:off x="-419040" y="2933640"/>
              <a:ext cx="2133360" cy="990720"/>
            </a:xfrm>
            <a:prstGeom prst="flowChartPunchedCard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ange in speed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ertia/es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6200000">
              <a:off x="76320" y="2438640"/>
              <a:ext cx="380520" cy="228600"/>
            </a:xfrm>
            <a:prstGeom prst="rtTriangl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52280" y="4495320"/>
            <a:ext cx="990720" cy="1676880"/>
            <a:chOff x="152280" y="4495320"/>
            <a:chExt cx="990720" cy="1676880"/>
          </a:xfrm>
        </p:grpSpPr>
        <p:sp>
          <p:nvSpPr>
            <p:cNvPr id="350" name=""/>
            <p:cNvSpPr/>
            <p:nvPr/>
          </p:nvSpPr>
          <p:spPr>
            <a:xfrm flipH="1" rot="16200000">
              <a:off x="-190440" y="4838400"/>
              <a:ext cx="1676520" cy="990720"/>
            </a:xfrm>
            <a:prstGeom prst="flowChartPunchedCard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ange 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in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6200000">
              <a:off x="116640" y="4530600"/>
              <a:ext cx="299520" cy="228600"/>
            </a:xfrm>
            <a:prstGeom prst="rtTriangl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676520" y="228600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29000" y="228600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486400" y="228600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467480" y="228600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00200" y="2286000"/>
            <a:ext cx="152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2590920"/>
            <a:ext cx="1526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752480" y="2590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12960" y="2174760"/>
            <a:ext cx="135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410080" y="2286000"/>
            <a:ext cx="15264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391520" y="3352680"/>
            <a:ext cx="15228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504960" y="25909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505320" y="28954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33560" y="220968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503880" y="289548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 set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562720" y="2895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8672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5562720" y="3124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01920" y="247968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-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562720" y="33526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03360" y="293688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-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5562720" y="4648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526520" y="3394080"/>
            <a:ext cx="17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-spe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-inert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-e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352680" y="3505320"/>
            <a:ext cx="1526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3504960" y="35053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3809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33560" y="312408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3880" y="380988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 set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352680" y="4648320"/>
            <a:ext cx="152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3429000" y="4648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05320" y="48006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57240" y="426708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503880" y="480060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 set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16040" y="4606920"/>
            <a:ext cx="152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28800" y="4495680"/>
            <a:ext cx="135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523880" y="5715000"/>
            <a:ext cx="152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76520" y="5715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737360" y="58323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-kn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28800" y="4648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3581280" y="5410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641760" y="537516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-set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rmatter operate behavi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3" name=""/>
          <p:cNvSpPr/>
          <p:nvPr/>
        </p:nvSpPr>
        <p:spPr>
          <a:xfrm>
            <a:off x="838080" y="32767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62720" y="2133720"/>
            <a:ext cx="1981080" cy="6858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-panel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10080" y="380988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-comman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86200" y="3200400"/>
            <a:ext cx="838080" cy="76212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207160" y="297180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-activ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104440" y="297180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train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43760" y="4114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33720" y="3581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4572000" y="2742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0" y="373392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395" idx="2"/>
            <a:endCxn id="393" idx="2"/>
          </p:cNvCxnSpPr>
          <p:nvPr/>
        </p:nvCxnSpPr>
        <p:spPr>
          <a:xfrm flipV="1" rot="16200000">
            <a:off x="3752280" y="1694880"/>
            <a:ext cx="533880" cy="5067360"/>
          </a:xfrm>
          <a:prstGeom prst="bentConnector3">
            <a:avLst>
              <a:gd name="adj1" fmla="val -428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394" idx="0"/>
            <a:endCxn id="393" idx="0"/>
          </p:cNvCxnSpPr>
          <p:nvPr/>
        </p:nvCxnSpPr>
        <p:spPr>
          <a:xfrm rot="5400000">
            <a:off x="3447360" y="171000"/>
            <a:ext cx="1143720" cy="5067360"/>
          </a:xfrm>
          <a:prstGeom prst="bentConnector3">
            <a:avLst>
              <a:gd name="adj1" fmla="val -199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del train setu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2286000"/>
            <a:ext cx="6324480" cy="3124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7220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816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3840" y="49514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3840" y="4646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3840" y="43419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3840" y="40370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3840" y="3732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3840" y="34275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3840" y="3122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3840" y="2817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0120" y="4876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4572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4267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0120" y="3962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0120" y="3657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3352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0120" y="3048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2743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22860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467480" y="22096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67480" y="5181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1981080"/>
            <a:ext cx="21337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65800" y="1600200"/>
            <a:ext cx="22536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141880" y="1447200"/>
            <a:ext cx="673200" cy="2286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89720" y="1600200"/>
            <a:ext cx="6732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13640" y="1676520"/>
            <a:ext cx="2253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64240" y="2438280"/>
            <a:ext cx="374760" cy="3812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3962520"/>
            <a:ext cx="144792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352680"/>
            <a:ext cx="13716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886200" y="3809520"/>
            <a:ext cx="6858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2" idx="3"/>
            <a:endCxn id="136" idx="0"/>
          </p:cNvCxnSpPr>
          <p:nvPr/>
        </p:nvCxnSpPr>
        <p:spPr>
          <a:xfrm>
            <a:off x="3885840" y="4495320"/>
            <a:ext cx="762840" cy="839160"/>
          </a:xfrm>
          <a:prstGeom prst="curvedConnector2">
            <a:avLst/>
          </a:prstGeom>
          <a:ln w="28440">
            <a:solidFill>
              <a:srgbClr val="ff3300"/>
            </a:solidFill>
            <a:miter/>
          </a:ln>
        </p:spPr>
      </p:cxnSp>
      <p:sp>
        <p:nvSpPr>
          <p:cNvPr id="137" name=""/>
          <p:cNvSpPr/>
          <p:nvPr/>
        </p:nvSpPr>
        <p:spPr>
          <a:xfrm>
            <a:off x="5181480" y="2057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cv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5880" y="20574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81480" y="2438280"/>
            <a:ext cx="374760" cy="3812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365800" y="2514240"/>
            <a:ext cx="13478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371600" y="4876920"/>
            <a:ext cx="6172200" cy="1218600"/>
            <a:chOff x="1371600" y="4876920"/>
            <a:chExt cx="6172200" cy="1218600"/>
          </a:xfrm>
        </p:grpSpPr>
        <p:grpSp>
          <p:nvGrpSpPr>
            <p:cNvPr id="142" name=""/>
            <p:cNvGrpSpPr/>
            <p:nvPr/>
          </p:nvGrpSpPr>
          <p:grpSpPr>
            <a:xfrm>
              <a:off x="1371600" y="5334120"/>
              <a:ext cx="6172200" cy="761400"/>
              <a:chOff x="1371600" y="5334120"/>
              <a:chExt cx="6172200" cy="761400"/>
            </a:xfrm>
          </p:grpSpPr>
          <p:sp>
            <p:nvSpPr>
              <p:cNvPr id="143" name=""/>
              <p:cNvSpPr/>
              <p:nvPr/>
            </p:nvSpPr>
            <p:spPr>
              <a:xfrm>
                <a:off x="1904760" y="53341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209680" y="53341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514600" y="53341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819160" y="53341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124080" y="53341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429000" y="53341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33560" y="53341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038480" y="53341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343400" y="53341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47960" y="53341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952880" y="53341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257800" y="53341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562360" y="53341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67280" y="53341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172200" y="53341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476760" y="53341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781680" y="53341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476760" y="5486040"/>
                <a:ext cx="1067040" cy="609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EC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819160" y="5486040"/>
                <a:ext cx="1295640" cy="609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addres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371600" y="5486040"/>
                <a:ext cx="1523880" cy="609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ead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114800" y="5486040"/>
                <a:ext cx="2361960" cy="609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comman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 flipH="1">
              <a:off x="1371600" y="4876920"/>
              <a:ext cx="32004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0" y="4876920"/>
              <a:ext cx="2971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nel-active behavi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6" name=""/>
          <p:cNvSpPr/>
          <p:nvPr/>
        </p:nvSpPr>
        <p:spPr>
          <a:xfrm>
            <a:off x="2057400" y="167652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2666880"/>
            <a:ext cx="2667240" cy="6858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*:read-tr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029200" y="2362320"/>
            <a:ext cx="3429000" cy="13716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-train = train-kn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-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d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33920" y="2666880"/>
            <a:ext cx="838080" cy="76212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7672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81640" y="2403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1828440" y="20574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4495680"/>
            <a:ext cx="2667240" cy="6858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*:read-spee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029200" y="4191120"/>
            <a:ext cx="3429000" cy="13716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-speed = thro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d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733920" y="4495680"/>
            <a:ext cx="838080" cy="76212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572000" y="4876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81640" y="42321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1828800" y="3429000"/>
            <a:ext cx="2286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962520" y="342900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3276720" y="52578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33720" y="57564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48480" y="5299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2819520" y="3733920"/>
            <a:ext cx="39621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705720" y="55627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386400" y="58323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roller cla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9" name=""/>
          <p:cNvSpPr/>
          <p:nvPr/>
        </p:nvSpPr>
        <p:spPr>
          <a:xfrm>
            <a:off x="2209680" y="1981080"/>
            <a:ext cx="45720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209680" y="2514600"/>
            <a:ext cx="4572000" cy="21337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-train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-speed[ntrains]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-direction[ntrains]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-inertia[ntrains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igned-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09680" y="4648320"/>
            <a:ext cx="4572000" cy="12189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-comman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ting the spe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want to change speed instantaneous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ler should change speed gradually by sending several comman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quence diagram for set-speed comman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5" name=""/>
          <p:cNvSpPr/>
          <p:nvPr/>
        </p:nvSpPr>
        <p:spPr>
          <a:xfrm>
            <a:off x="1066680" y="1752480"/>
            <a:ext cx="12193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819520" y="1752480"/>
            <a:ext cx="13716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19720" y="1752480"/>
            <a:ext cx="20574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or-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629400" y="1752480"/>
            <a:ext cx="1600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ulse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676520" y="228600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429000" y="228600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486400" y="228600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391520" y="228600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2286000"/>
            <a:ext cx="22860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2286000"/>
            <a:ext cx="22860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410080" y="3505320"/>
            <a:ext cx="152640" cy="23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315200" y="2286000"/>
            <a:ext cx="22860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65960" y="217476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-c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666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980720" y="266688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-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768320" y="31590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981440" y="312408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cv-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768320" y="3616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870360" y="308916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-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81280" y="3505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562720" y="3657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699160" y="31654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-pu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562720" y="41148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699160" y="36226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-pu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562720" y="4648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699160" y="415620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-pu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562720" y="52578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699160" y="47656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-pu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562720" y="5867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699160" y="537516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-pu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roller operate behavi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6" name=""/>
          <p:cNvSpPr/>
          <p:nvPr/>
        </p:nvSpPr>
        <p:spPr>
          <a:xfrm>
            <a:off x="5410080" y="3581280"/>
            <a:ext cx="2667240" cy="6858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-comman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19320" y="35812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05360" y="301320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-comman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971800" y="38862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0" name=""/>
          <p:cNvCxnSpPr>
            <a:stCxn id="466" idx="2"/>
            <a:endCxn id="467" idx="2"/>
          </p:cNvCxnSpPr>
          <p:nvPr/>
        </p:nvCxnSpPr>
        <p:spPr>
          <a:xfrm rot="5400000">
            <a:off x="4418280" y="1943640"/>
            <a:ext cx="2520" cy="4649040"/>
          </a:xfrm>
          <a:prstGeom prst="bentConnector3">
            <a:avLst>
              <a:gd name="adj1" fmla="val 43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1" name=""/>
          <p:cNvSpPr/>
          <p:nvPr/>
        </p:nvSpPr>
        <p:spPr>
          <a:xfrm flipH="1">
            <a:off x="685080" y="1752480"/>
            <a:ext cx="2057400" cy="1447920"/>
          </a:xfrm>
          <a:prstGeom prst="flowChartPunchedCard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it f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362320" y="1752480"/>
            <a:ext cx="380880" cy="304920"/>
          </a:xfrm>
          <a:prstGeom prst="rtTriangl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ined command clas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4" name=""/>
          <p:cNvSpPr/>
          <p:nvPr/>
        </p:nvSpPr>
        <p:spPr>
          <a:xfrm>
            <a:off x="3352680" y="1676520"/>
            <a:ext cx="221004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352680" y="2209680"/>
            <a:ext cx="2210040" cy="1219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ype: 3-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: 3-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ity: 1-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29000" y="4114800"/>
            <a:ext cx="22096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-iner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29000" y="4648320"/>
            <a:ext cx="2209680" cy="838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=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: 3-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9480" y="4114800"/>
            <a:ext cx="221004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-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9480" y="4648320"/>
            <a:ext cx="2210040" cy="838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=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: 7-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324480" y="4114800"/>
            <a:ext cx="221004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324480" y="4648320"/>
            <a:ext cx="2210040" cy="838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=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267080" y="342900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1882200">
            <a:off x="3428640" y="342900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rot="19408800">
            <a:off x="5257440" y="342864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819160" y="37339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41972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486400" y="365760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e specification and programm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mistakes are easier to fix in the spe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g mistakes in programming cost a lot of 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can’t completely separate specification and architect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a few tasteful assump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quir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ole can control 8 trains on 1 tra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ottle has at least 63 leve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ertia control adjusts responsiveness with at least 8 leve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ergency stop butt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ror detection scheme on messag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quirements for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17760" y="1917720"/>
          <a:ext cx="5979960" cy="430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7760" y="1917720"/>
                    <a:ext cx="5979960" cy="43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ceptual specifi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fore we create a detailed specification, we will make an initial, simplified specific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s us practice in specification and UM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idea in general to identify potential problems before investing too much effort in detai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sic system command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1920960"/>
          <a:ext cx="8178840" cy="41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20960"/>
                    <a:ext cx="817884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ypical control seque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1828800"/>
            <a:ext cx="1600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62720" y="1828800"/>
            <a:ext cx="1600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ain_rcv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90920" y="23623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23623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2362320"/>
            <a:ext cx="30492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2362320"/>
            <a:ext cx="30456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1760" y="2057400"/>
            <a:ext cx="14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-iner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24382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-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33920" y="342900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-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9880" y="487692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-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15520" y="40384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251460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43200" y="289548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39625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43200" y="457200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541008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ssage clas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"/>
          <p:cNvSpPr/>
          <p:nvPr/>
        </p:nvSpPr>
        <p:spPr>
          <a:xfrm>
            <a:off x="3352680" y="1905120"/>
            <a:ext cx="221004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2438280"/>
            <a:ext cx="221004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29000" y="4114800"/>
            <a:ext cx="22096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-iner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29000" y="4648320"/>
            <a:ext cx="2209680" cy="838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: unsigned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4114800"/>
            <a:ext cx="221004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-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4648320"/>
            <a:ext cx="2210040" cy="838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24480" y="4114800"/>
            <a:ext cx="221004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4648320"/>
            <a:ext cx="2210040" cy="838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67080" y="289548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882200">
            <a:off x="3428640" y="289548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666520" y="3124080"/>
            <a:ext cx="8384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3200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86400" y="312408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9408800">
            <a:off x="5257440" y="289512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7T23:54:30Z</dcterms:created>
  <dc:creator>Preferred Customer</dc:creator>
  <dc:description/>
  <dc:language>en-US</dc:language>
  <cp:lastModifiedBy>Preferred Customer</cp:lastModifiedBy>
  <dcterms:modified xsi:type="dcterms:W3CDTF">2000-08-23T00:15:21Z</dcterms:modified>
  <cp:revision>159</cp:revision>
  <dc:subject/>
  <dc:title>Networking for Embedded Systems</dc:title>
</cp:coreProperties>
</file>