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ACB-22E2-479C-B7E1-5D148679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D9D-830B-4C5F-A3C6-46F31DB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E5E-7E16-48F8-B474-DEA3F140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47E-904B-4EB2-90D8-ADA2A1B8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6099-CB11-4A10-86FC-63F24C1D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88D-2699-4B7D-9F61-5F71676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B450-361D-4662-9BD8-11713AA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DC69-81A3-4C61-9E3D-D431E51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ACD-5CF3-4412-B072-FBBFDD7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2EE9-B34C-4E63-84D8-3725DCF8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B7BA-04D6-451B-96C1-85BCAFC7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08D-64ED-44F3-823C-569EE2DF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00C5-F281-4286-8D13-D9430E00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D347-B360-46A9-A1B0-D0789EC3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B62-FFD7-4839-AB9B-84934942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3D0C-FD61-42D4-99FD-8C3CA9FF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35A4-4236-4516-A4E4-695D6A8B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270-D4A9-4CD4-9EFE-0B73B61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525-A91A-41C5-A87F-2E0449B0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D87-96F8-465A-B4CE-93AED372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CA0-45BC-42F1-B639-01DF69C1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788-9068-4273-99C9-009E665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A7C-D60E-4103-A392-CA2F4E3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1CA-459B-40A2-9B20-8054514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2000 Morgan Kauf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Overheads for </a:t>
            </a: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Computers as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8D94-E20C-4B76-8674-F8A632B44F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3A74-871B-4DBA-84BA-2E9086C6F5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embedded syste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 in embedded computing system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ethodolog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MW 850i brake and stability control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nti-lock brake system (ABS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umps brakes to reduce skid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utomatic stability control (ASC+T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rols engine to improve stabi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 and ASC+T communic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 was introduced first---needed to interface to existing ABS mod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1828800"/>
            <a:ext cx="7391520" cy="4343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MW 850i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8954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057400"/>
            <a:ext cx="106704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4382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8954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2057400"/>
            <a:ext cx="106704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1814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7242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715000"/>
            <a:ext cx="106668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51814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724280"/>
            <a:ext cx="8384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715000"/>
            <a:ext cx="106668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733920"/>
            <a:ext cx="9907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3657600"/>
            <a:ext cx="1447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au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590560" y="304776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590560" y="45720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410080" y="3124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572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743200" y="449532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819160" y="22096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33920" y="2133360"/>
            <a:ext cx="21333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49568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acteristics of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phisticated functiona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-time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manufacturing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po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d to tight deadlines by small te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al complex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have to run sophisticated algorithms or multiple algorith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phone, laser pri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provide sophisticated user interf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-time op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finish operations by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Hard real tim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issing deadline causes fail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ft real tim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issing deadline results in degraded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ystems ar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ulti-r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ust handle operations at widely varying r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n-functional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embedded systems are mass-market items that must have low manufacturing co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memory, microprocessor pow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consumption is critical in battery-powered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ive power consumption increases system cost even in wall-powered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te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designed by a small team of design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must meet tight dead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month market window is comm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miss back-to-school window for calcu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use microprocessor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ves: field-programmable gate arrays (FPGAs), custom logic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processors are often very efficient: can use same logic to perform many different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processors simplify the design of families of produ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erformance parad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processors use much more logic to implement a function than does custom log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microprocessors are often at least as f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vily pipeline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design tea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gressive VLSI techn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 logic is a clear winner for low power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microprocessors offer features to help control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design techniques can help reduce 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Embedded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ny device that includes a programmable computer but is not itself a general-purpose compu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dvantage of application characteristics to optimize the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ll the general-purpose bells and whist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llenges in embedded system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hardware do we ne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big is the CPU? Mem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eet our deadli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hardware or cleverer softwa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inimize pow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n off unnecessary logic? Reduce memory ac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llenges, etc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really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specification correc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the implementation meet the spe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test for real-time characteristic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test on real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work on the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bility, controlla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our development platfor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methodolo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cedure for designing a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your methodology helps you ensure you didn’t skip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s, software engineering tools, computer-aided design (CAD) tools, etc., can be used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 automate methodology step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the methodology it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 speed, dead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ity and user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consum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requirements (physical size,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vels of abst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828800"/>
            <a:ext cx="19810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19810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657600"/>
            <a:ext cx="198108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4495680"/>
            <a:ext cx="19810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5410080"/>
            <a:ext cx="19810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p-down vs. bottom-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p-down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most abstract descri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to most detai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from small components to big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design uses both techniq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epwise refin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level of abstraction, we mu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design to determine characteristics of the current state of the desig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ref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design to add de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in language description of what the user wants and expects to g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developed in several w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king directly to custom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king to marketing representativ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ing prototypes to users for com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al vs. non-functional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requi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as a function of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functional requir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required to compute outpu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, weight, etc.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consumpt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r requirements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61960" y="1893960"/>
          <a:ext cx="6145200" cy="41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893960"/>
                    <a:ext cx="6145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676520"/>
            <a:ext cx="7315200" cy="457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bedding a compu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593720" y="3270240"/>
            <a:ext cx="1359000" cy="13590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2360" y="4489560"/>
            <a:ext cx="977760" cy="1511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5880" y="3187800"/>
            <a:ext cx="990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25880" y="2044800"/>
            <a:ext cx="99072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198520"/>
            <a:ext cx="0" cy="365616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0640" y="394956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4160" y="265428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4160" y="379728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4160" y="5092560"/>
            <a:ext cx="531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4089240" cy="4089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8040" y="2502000"/>
            <a:ext cx="12938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018040" y="3645000"/>
            <a:ext cx="12938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18360" y="2279520"/>
            <a:ext cx="1663560" cy="673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18360" y="3346560"/>
            <a:ext cx="1663560" cy="6728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8040" y="522288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GPS moving map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809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map obtains position from GPS, paints map from local data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752480"/>
            <a:ext cx="3657600" cy="434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17524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616120"/>
            <a:ext cx="3657600" cy="1727280"/>
          </a:xfrm>
          <a:custGeom>
            <a:avLst/>
            <a:gdLst/>
            <a:ahLst/>
            <a:rect l="l" t="t" r="r" b="b"/>
            <a:pathLst>
              <a:path w="2304" h="1088">
                <a:moveTo>
                  <a:pt x="0" y="1088"/>
                </a:moveTo>
                <a:cubicBezTo>
                  <a:pt x="312" y="720"/>
                  <a:pt x="624" y="352"/>
                  <a:pt x="1008" y="176"/>
                </a:cubicBezTo>
                <a:cubicBezTo>
                  <a:pt x="1392" y="0"/>
                  <a:pt x="1848" y="16"/>
                  <a:pt x="2304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1520" y="56386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: 40 13 lon: 32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76560" y="2479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6527520" y="37598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ch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nee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or automotive use. Show major roads and landma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t least 400 x 600 pixel screen. Three buttons max. Pop-up men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erform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p should scroll smoothly. No more than 1 sec power-up. Lock onto GPS within 15 seco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$500 street price = approx. $100 cost of goods s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need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hysical size/weigh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hould fit in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ower consum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hould run for 8 hours on four AA batte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requirements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2760" y="1893960"/>
          <a:ext cx="443700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893960"/>
                    <a:ext cx="44370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re precise description of the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imply a particular architectu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input to the architecture design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include functional and non-functiona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executable or may be in mathematical form for proof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spec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received from GP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da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s required to satisfy user reques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operations needed to keep the system run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ajor components go satisfying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s, peripheral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programs and their op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take into account functional and non-functional specif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808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block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2666880"/>
            <a:ext cx="1371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2666880"/>
            <a:ext cx="1371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4267080"/>
            <a:ext cx="15238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4191120"/>
            <a:ext cx="1371600" cy="144756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259092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362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38080" y="2361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862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hard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3505320"/>
            <a:ext cx="15238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858000" y="3200040"/>
            <a:ext cx="304920" cy="762120"/>
            <a:chOff x="6858000" y="3200040"/>
            <a:chExt cx="304920" cy="762120"/>
          </a:xfrm>
        </p:grpSpPr>
        <p:sp>
          <p:nvSpPr>
            <p:cNvPr id="228" name=""/>
            <p:cNvSpPr/>
            <p:nvPr/>
          </p:nvSpPr>
          <p:spPr>
            <a:xfrm>
              <a:off x="7010280" y="32004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0" y="3200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3200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010280" y="32000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191120" y="20574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438280"/>
            <a:ext cx="11430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4724280"/>
            <a:ext cx="15238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190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076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40044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9076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438280"/>
            <a:ext cx="1447920" cy="1067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438280"/>
            <a:ext cx="1143000" cy="1371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19720"/>
            <a:ext cx="1143000" cy="99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moving map softwar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898560" y="27846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2666880"/>
            <a:ext cx="16002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2666880"/>
            <a:ext cx="16002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191120"/>
            <a:ext cx="16002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4191120"/>
            <a:ext cx="16002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7080" y="2708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11444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2767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digital assistant (PD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 ph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obile: engine, brakes, dash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v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hold applia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 keyboard (scans key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ing hardware and softwar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pend time architecting the system before you start co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components are ready-made,  some can be modified from existing designs, others must be designed from scrat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integ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together the compon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bugs appear only at this s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a plan for integrating components to uncover bugs quickly, test as much functionality as early as poss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computers are all around 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ystems have complex embedded hardware and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systems pose many design challenges: design time, deadlines, power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ethodologies help us manage the desig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y hist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1940’s: MIT Whirlwind computer was designed for real-time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ly designed to control an aircraft simu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microprocessor was Intel 4004 in early 1970’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-35 calculator used several chips to implement a microprocessor in 197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ly history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obiles used microprocessor-based engine controllers starting in 1970’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fuel/air mixture, engine ti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modes of operation: warm-up, cruise, hill climb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lower emissions, better fuel effici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processor varie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icrocontroller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cludes I/O devices, on-board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igital signal processor (DSP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croprocessor optimized for digital signal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embedded word sizes: 8-bit, 16-bit, 32-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 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control: front panel of microwave ove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on EOS 3 has three micro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-bit RISC CPU runs autofocus and eye control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 TV: channel selectio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TV: programmable CPUs + hardwired log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omotive embedd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’s high-end automobile may have 100 microprocess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-bit microcontroller checks seat bel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controllers run dashboard devic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/32-bit microprocessor controls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23:54:30Z</dcterms:created>
  <dc:creator>Preferred Customer</dc:creator>
  <dc:description/>
  <dc:language>en-US</dc:language>
  <cp:lastModifiedBy>Preferred Customer</cp:lastModifiedBy>
  <dcterms:modified xsi:type="dcterms:W3CDTF">2000-08-21T02:27:38Z</dcterms:modified>
  <cp:revision>92</cp:revision>
  <dc:subject/>
  <dc:title>Networking for Embedded Systems</dc:title>
</cp:coreProperties>
</file>