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548-570B-4D4C-AE98-AF186FC0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F6C-4EA1-4CB9-94EB-C10CF5FA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7E4-6634-4733-B522-23195840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DEB-A955-47AD-ACC5-B345EC6A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A223-978A-4586-884C-2FF6C83A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BB54-E873-42D6-A181-AA24C301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9DAA-3A72-45F2-9635-4B66DED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D331-484F-47F4-8AAC-D984BDB3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912E-6F63-4BAE-A56A-CE8CF1BD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D489-CA4F-499C-BF35-92986882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4115-DED3-40EC-85E4-E2C5D0F2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FB7-92EA-4EE9-836E-14BE067D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9391-A8AD-4716-B96A-881C6DC5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3337-0214-4B6B-BEEE-4E62A263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A4BE-4EF9-4DDE-A799-2509D625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03BA-C39D-4A9B-99B3-3BCFAE36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EB01-0E9B-4135-BD99-9EB1FDC6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73F-69D8-4324-89BB-1EC89D77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9F1-C7B0-4B20-BFE3-ED2A94E2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7A7-A3E3-476A-B7FD-E7E42007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445-A671-4357-8002-458EE176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C5E-B45A-4AA9-8455-662B6980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502-DE22-4C1D-81BA-B0D96D5C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5E8-2221-4219-94F4-3FB743A8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6C3A-6C02-40EE-B5EB-6E21A07B21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6262-6CC3-481C-867D-F3BD9E37F9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 compr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-compressor behavi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nc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akes one-byte input, generates packed encoded symbols and a Boolean indicating whether the buffer is fu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ew-symbol-tab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stalls new symbol table in object, throws away old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lus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turns current state of buffer, including number of valid bits in buff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xiliary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743200"/>
            <a:ext cx="312408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uf[databuflen]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114800"/>
            <a:ext cx="3124080" cy="1219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(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22096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bol-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2743200"/>
            <a:ext cx="312408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[nsymbols]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4114800"/>
            <a:ext cx="3124080" cy="1219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() :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xiliary class ro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-buffer holds both packed and unpacked symb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st Huffman code for 8-bit inputs is 256 b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bol-table indexes encoded verison of each symb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() puts data in a new symbol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relationshi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3657600"/>
            <a:ext cx="31244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bol-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28600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-comp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657600"/>
            <a:ext cx="2133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14240" y="2819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2819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7196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5284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324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70560" y="2708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cod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505320"/>
            <a:ext cx="99072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28600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new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o bu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44197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o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24382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44197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352680"/>
            <a:ext cx="762120" cy="7621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3581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276720" y="32000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4114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67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6840" y="29718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91880" y="354636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fi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10040" y="270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34080" y="430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rt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236232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1000" y="3581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2468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429000"/>
            <a:ext cx="762120" cy="7621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4343400"/>
            <a:ext cx="2438640" cy="1600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 bottom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this buff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bits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flow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3352680"/>
            <a:ext cx="1219320" cy="838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33720" y="28954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1911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334120" y="41911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320040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440" y="2743200"/>
            <a:ext cx="10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25560" y="354636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bu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19320" y="2784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7400" y="438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n object-oriented language, we can reflect the UML specification in the code more direct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non-object-oriented language, we must eith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de to provide object-oriented featur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erge from the specification stru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++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data_buffer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 databuf[databuflen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l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length_in_chars() { return len/bitsperbyte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insert(data_buffer,data_buffer&amp;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length() { return len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length_in_bytes() { return (int)ceil(len/8.0)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initialize(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++ classe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data_compressor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_buffer buff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current_bi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_table tabl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 encode(char,data_buffer&amp;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new_symbol_table(symbol_tabl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flush(data_buffer&amp;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_compressor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data_compressor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 data_compressor_stru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_buffer buff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current_bi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_table tabl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def struct data_compressor_struct data_compresso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data_compressor_pt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 data_compressor_encode(data_compressor_ptr mycmptrs, char isymbol, data_buffer *fullbuf)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ess data transmitted over serial 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s byte-size input symb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s output symbols packed into by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build software module only 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by encoding, then decod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3962520"/>
            <a:ext cx="19051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819520"/>
            <a:ext cx="21337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39625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39625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51055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3886200"/>
            <a:ext cx="12952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038480" y="33526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767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4267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457200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86040" y="44956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e inspection t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the code for potential 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run past end of symbol tab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happens when the next symbol does not fill the buffer? Does fill 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very long encoded symbols work properly? Very short symbo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flush() work prope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llaboration diagram for compr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971800"/>
            <a:ext cx="1143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97180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data comp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2971800"/>
            <a:ext cx="1143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3526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34290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12960" y="247968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.n: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320" y="2133720"/>
            <a:ext cx="174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.m: p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uffman co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statistical text compression algorith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non-uniform size c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horter codes for more common symb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longer codes for less common symb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llow decoding, codes must have unique prefix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de can be a prefix of a longer valid 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uffman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haract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4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71800" y="2208960"/>
            <a:ext cx="5384520" cy="1035360"/>
            <a:chOff x="2971800" y="2208960"/>
            <a:chExt cx="5384520" cy="1035360"/>
          </a:xfrm>
        </p:grpSpPr>
        <p:sp>
          <p:nvSpPr>
            <p:cNvPr id="100" name=""/>
            <p:cNvSpPr/>
            <p:nvPr/>
          </p:nvSpPr>
          <p:spPr>
            <a:xfrm rot="5400000">
              <a:off x="7086240" y="2286000"/>
              <a:ext cx="685800" cy="5331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266688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"/>
            <p:cNvCxnSpPr>
              <a:stCxn id="103" idx="0"/>
              <a:endCxn id="100" idx="2"/>
            </p:cNvCxnSpPr>
            <p:nvPr/>
          </p:nvCxnSpPr>
          <p:spPr>
            <a:xfrm flipV="1">
              <a:off x="6399360" y="2208960"/>
              <a:ext cx="762480" cy="1027800"/>
            </a:xfrm>
            <a:prstGeom prst="bentConnector3">
              <a:avLst>
                <a:gd name="adj1" fmla="val 5016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4" name=""/>
            <p:cNvSpPr/>
            <p:nvPr/>
          </p:nvSpPr>
          <p:spPr>
            <a:xfrm>
              <a:off x="7696080" y="2590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81680" y="278460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P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24080" y="2894760"/>
            <a:ext cx="4257720" cy="841680"/>
            <a:chOff x="3124080" y="2894760"/>
            <a:chExt cx="4257720" cy="841680"/>
          </a:xfrm>
        </p:grpSpPr>
        <p:sp>
          <p:nvSpPr>
            <p:cNvPr id="103" name=""/>
            <p:cNvSpPr/>
            <p:nvPr/>
          </p:nvSpPr>
          <p:spPr>
            <a:xfrm rot="5400000">
              <a:off x="5790960" y="2971440"/>
              <a:ext cx="685800" cy="5335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>
              <a:stCxn id="108" idx="0"/>
              <a:endCxn id="103" idx="2"/>
            </p:cNvCxnSpPr>
            <p:nvPr/>
          </p:nvCxnSpPr>
          <p:spPr>
            <a:xfrm flipV="1">
              <a:off x="5179680" y="2894760"/>
              <a:ext cx="686520" cy="723240"/>
            </a:xfrm>
            <a:prstGeom prst="bentConnector3">
              <a:avLst>
                <a:gd name="adj1" fmla="val 5020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9" name=""/>
            <p:cNvSpPr/>
            <p:nvPr/>
          </p:nvSpPr>
          <p:spPr>
            <a:xfrm>
              <a:off x="3124080" y="31240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5520" y="31240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8560" y="327672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P=.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84760" y="3276720"/>
            <a:ext cx="2125440" cy="1712880"/>
            <a:chOff x="3884760" y="3276720"/>
            <a:chExt cx="2125440" cy="1712880"/>
          </a:xfrm>
        </p:grpSpPr>
        <p:sp>
          <p:nvSpPr>
            <p:cNvPr id="108" name=""/>
            <p:cNvSpPr/>
            <p:nvPr/>
          </p:nvSpPr>
          <p:spPr>
            <a:xfrm rot="5400000">
              <a:off x="4571640" y="3353040"/>
              <a:ext cx="685800" cy="5331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4" idx="0"/>
              <a:endCxn id="108" idx="4"/>
            </p:cNvCxnSpPr>
            <p:nvPr/>
          </p:nvCxnSpPr>
          <p:spPr>
            <a:xfrm flipV="1">
              <a:off x="3884760" y="3960360"/>
              <a:ext cx="762480" cy="1029600"/>
            </a:xfrm>
            <a:prstGeom prst="bentConnector3">
              <a:avLst>
                <a:gd name="adj1" fmla="val 5016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>
              <a:stCxn id="116" idx="0"/>
              <a:endCxn id="108" idx="2"/>
            </p:cNvCxnSpPr>
            <p:nvPr/>
          </p:nvCxnSpPr>
          <p:spPr>
            <a:xfrm flipV="1">
              <a:off x="3884760" y="3276720"/>
              <a:ext cx="762480" cy="722520"/>
            </a:xfrm>
            <a:prstGeom prst="bentConnector3">
              <a:avLst>
                <a:gd name="adj1" fmla="val 5016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7" name=""/>
            <p:cNvSpPr/>
            <p:nvPr/>
          </p:nvSpPr>
          <p:spPr>
            <a:xfrm>
              <a:off x="5106960" y="380988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P=.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048120" y="3657600"/>
            <a:ext cx="1361880" cy="916920"/>
            <a:chOff x="3048120" y="3657600"/>
            <a:chExt cx="1361880" cy="916920"/>
          </a:xfrm>
        </p:grpSpPr>
        <p:sp>
          <p:nvSpPr>
            <p:cNvPr id="116" name=""/>
            <p:cNvSpPr/>
            <p:nvPr/>
          </p:nvSpPr>
          <p:spPr>
            <a:xfrm rot="5400000">
              <a:off x="3276360" y="3733560"/>
              <a:ext cx="685800" cy="5335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4267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3733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6760" y="411480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P=.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048120" y="4648320"/>
            <a:ext cx="1361880" cy="992880"/>
            <a:chOff x="3048120" y="4648320"/>
            <a:chExt cx="1361880" cy="992880"/>
          </a:xfrm>
        </p:grpSpPr>
        <p:sp>
          <p:nvSpPr>
            <p:cNvPr id="114" name=""/>
            <p:cNvSpPr/>
            <p:nvPr/>
          </p:nvSpPr>
          <p:spPr>
            <a:xfrm rot="5400000">
              <a:off x="3276360" y="4724280"/>
              <a:ext cx="685800" cy="5335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48120" y="5257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8120" y="47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6760" y="518148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</a:rPr>
                <a:t>P=.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Huffman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code from root to le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uffman coder requirements t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3120" y="1886040"/>
          <a:ext cx="614520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886040"/>
                    <a:ext cx="61452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ilding a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on diagram shows only steady-state input/outp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l system mu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 an encoding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 system reset that flushes the compression buff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-compressor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810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-comp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2514600"/>
            <a:ext cx="312408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: data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: symbol-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bit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3886200"/>
            <a:ext cx="31240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(): boole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symbol-ta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13T01:57:09Z</dcterms:modified>
  <cp:revision>41</cp:revision>
  <dc:subject/>
  <dc:title>No Slide Title</dc:title>
</cp:coreProperties>
</file>