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45D-DEBF-422D-90CB-FE91E95A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071-7032-4801-BF5B-E9742F7C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91D-C5EC-4EA9-B7F5-87261012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6C2-35A6-4956-99D4-8065551E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B2AC-2459-4D8B-AE2F-5F38EC0E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6C8A-E174-4738-B9A6-85B5BDF9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0530-886C-418D-B850-812AED2E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F35A-E848-4B46-AE59-B6765A4B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4194-4D79-4066-AC13-3DF8DC25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779D-B075-4AE1-9DD1-4724AE39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23EA-0942-4117-84BB-42493E13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96A-0D9D-4A0C-A57A-DF388597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8A76-AF3B-451C-B62F-A255956B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0DEB-111C-4C36-A2ED-D5A7CCF2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B9BE-5D11-4F97-A5D9-409B31CB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6CA9-B1A7-4763-9EAC-7DAECB39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25C6-0751-474A-8EAE-68D552B9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F5B-15F9-4BB3-99F1-2B18CF8D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DC2-F669-45C1-B814-4CFCCF33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791C-7D06-4927-8D4C-3F4614A9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727-6127-45E5-8E30-AA664433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FF1-780F-4F62-BF36-F3CC7353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C1D-DF40-4F54-982D-864D3C77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F2A-4BEA-4FC7-BE83-D31C7970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0A86-AB5B-4806-A5B0-6158172101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F541-D7DD-4518-A99C-A4FA8E21C8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instruction s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ver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assembly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programming mod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memory organ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data op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flow of contr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operation varie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al shif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s with zero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ithmetic shif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s with 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RX performs 33-bit rotate, including C bit from CPSR above sign b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comparison instru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MP : comp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MN : negated comp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ST : bit-wise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Q : bit-wise negated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instructions set only the NZCV bits of CPS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move instru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, MVN : move (negat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OV r0, r1 ; sets r0 to r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load/store instru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DR, LDRH, LDRB : load (half-word, by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, STRH, STRB : store (half-word, by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ing mo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 indirect 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[r1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second register 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[r1,-r2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onstant 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[r1,#4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ADR pseudo-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refer to an address directly in an instr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value by performing arithmetic on P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 pseudo-op generates instruction required to calculate addres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R r1,FO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 assign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(a + b) - c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get address for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get value of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b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get address for b, reusing r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,[r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get value of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r3,r0,r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compute a+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get address for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2[r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get value of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assignment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 r3,r3,r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complete computation of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get address for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 r3[r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store value of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 assign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a*(b+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b ; get address for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4] ; get value of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c ; get address for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,[r4] ; get value of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r2,r0,r1 ; compute partial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a ; get address for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4] ; get value of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assignment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 r2,r2,r0 ; compute final value for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y ; get address for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 r2,[r4] ; sto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 assign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(a &lt;&lt; 2) |  (b &amp; 1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a ; get address for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4] ; get value of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r0,r0,LSL 2 ; perform shi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b ; get address for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,[r4] ; get value of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 r1,r1,#15 ; perform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R r1,r0,r1 ; perform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ver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architecture has been extended over several ver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concentrate on ARM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assignment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z ; get address for 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 r1,[r4] ; store value for 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ditional addressing mo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-plus-offset address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[r1,#16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from location r1+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-indexing increments base regist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[r1,#16]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-indexing fetches, then does offs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[r1],#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r0 from r1, then adds 16 to r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flow of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perations can be performed conditionally, testing CPS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, NE, CS, CC, MI, PL, VS, VC, HI, LS, GE, LT, GT, 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 oper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 #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erformed conditional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if stat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 x = 5; y = c + d; } else x = c - 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compute and test cond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a ; get address for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4] ; get value of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b ; get address for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,[r4] ; get value for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 r0,r1 ; compare a &lt;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GE fblock ; if a &gt;= b, branch to false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f statement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true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r0,#5 ; generate value for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x ; get address for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 r0,[r4] ; store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c ; get address for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4] ; get value of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d ; get address for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,[r4] ; get value of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r0,r0,r1 ; comput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y ; get address for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 r0,[r4] ; sto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after ; branch around false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f statement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false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block ADR r4,c ; get address for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4] ; get value of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d ; get address for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,[r4] ; get value for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 r0,r0,r1 ; compute a-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x ; get address for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 r0,[r4] ; store value of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fter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onditional instruction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true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LT r0,#5 ; generate value for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LT r4,x ; get address for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LT r0,[r4] ; store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LT r4,c ; get address for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LT r0,[r4] ; get value of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LT r4,d ; get address for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LT r1,[r4] ; get value of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LT r0,r0,r1 ; comput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LT r4,y ; get address for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LT r0,[r4] ; sto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ditional instruction implementation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false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GE r4,c ; get address for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GE r0,[r4] ; get value of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GE r4,d ; get address for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GE r1,[r4] ; get value for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GE r0,r0,r1 ; compute a-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GE r4,x ; get address for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GE r0,[r4] ; store value of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switch stat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 (test) { case 0: … break; case 1: …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2,test ; get address for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2] ; load value for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1,switchtab ; load address for switch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,[r1,r0,LSL #2] ; index switch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tab DCD case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CD case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FIR fil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=0, f=0; i&lt;N; i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 = f + c[i]*x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loop initiation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r0,#0 ; use r0 for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r8,#0 ; use separate index for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2,N ; get address for 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,[r2] ; get value of 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r2,#0 ; use r2 for 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assembly langu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rly standard assembly langu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DR r0,[r8] ; a com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D r4,r0,r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 filter, cont’.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3,c ; load r3 with base of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5,x ; load r5 with base of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loop 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op LDR r4,[r3,r8] ; get c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6,[r5,r8] ; get x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 r4,r4,r6 ; compute c[i]*x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r2,r2,r4 ; add into running 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r8,r8,#4 ; add one word offset to array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r0,r0,#1 ; add 1 to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 r0,r1 ; ex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T loop ; if i &lt; N, contin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subroutine lin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 and link instru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L fo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ies current PC to r14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return from subrouti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 r15,r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sted subroutine c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sting/recursion requires coding conven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13] ; load arg into r0 from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call f2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 r13!,[r14] ; store f1’s return ad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 r13!,[r0] ; store arg to f2 on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 f2 ; branch and link to f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return from f1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 r13,#4 ; pop f2’s arg off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3!,r15 ; restore register and retu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ad/store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instructions are RISCy, operate in single cyc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ulti-register operations take long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instructions can be executed conditional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programming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213372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251460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2895480"/>
            <a:ext cx="121896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327672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65760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4038480"/>
            <a:ext cx="121896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41972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80060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13372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251460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895480"/>
            <a:ext cx="121896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27672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365760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4038480"/>
            <a:ext cx="121896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441972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480060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5 (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3200400"/>
            <a:ext cx="259056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28480" y="2681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30680" y="2666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791320" y="3809880"/>
            <a:ext cx="1676160" cy="916920"/>
            <a:chOff x="5791320" y="3809880"/>
            <a:chExt cx="1676160" cy="916920"/>
          </a:xfrm>
        </p:grpSpPr>
        <p:sp>
          <p:nvSpPr>
            <p:cNvPr id="110" name=""/>
            <p:cNvSpPr/>
            <p:nvPr/>
          </p:nvSpPr>
          <p:spPr>
            <a:xfrm rot="5400000">
              <a:off x="6324480" y="3276720"/>
              <a:ext cx="609840" cy="1676160"/>
            </a:xfrm>
            <a:custGeom>
              <a:avLst/>
              <a:gdLst>
                <a:gd name="textAreaLeft" fmla="*/ 389520 w 609840"/>
                <a:gd name="textAreaRight" fmla="*/ 610200 w 6098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22800" y="4267080"/>
              <a:ext cx="123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N Z C 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dian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hip between bit and byte/word ordering defines endiannes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9625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9625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39625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39625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39625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39625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39625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9625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000" y="339408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bit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86760" y="342900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bit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360" y="342900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bit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72760" y="34290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bit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3280" y="45720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-en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692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-en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data typ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d is 32 bits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d can be divided into four 8-bit by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addresses cam be 32 bits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 refers to 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4 starts at byte 4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configured at power-up as either little- or bit-endian m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status b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 arithmetic, logical, or shifting operation sets CPSR bi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(negative), Z (zero), C (carry), V (overflow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 + 1 = 0: NZCV = 011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+1 = -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NZCV = 01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data instru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forma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 r0,r1,r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s r1+r2, stores in r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mediate operan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 r0,r1,#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s r1+2, stores in r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data instru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, ADC : add (w. car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, SBC : subtract (w. car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SB, RSC : reverse subtract (w. car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, MLA : multiply (and accumul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, ORR, E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C : bit cl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SL, LSR : logical shift left/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L, ASR : arithmetic shift left/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R : rotat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RX : rotate right extended with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Wayne Wolf</dc:creator>
  <dc:description/>
  <dc:language>en-US</dc:language>
  <cp:lastModifiedBy>Preferred Customer</cp:lastModifiedBy>
  <dcterms:modified xsi:type="dcterms:W3CDTF">2000-08-24T02:20:25Z</dcterms:modified>
  <cp:revision>76</cp:revision>
  <dc:subject/>
  <dc:title>SHARC programming model</dc:title>
</cp:coreProperties>
</file>