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A6E-D439-4709-8FC6-10351A8A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BF6-951A-4C4B-99C6-D0D467B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A10-F223-4472-9F1D-03BC00B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A2C-5279-4588-8CAD-C63EADD2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20D-635D-4A56-9EE9-15CB0F44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B98-76E6-4F5B-BF9C-74A4F5A6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F30-63F7-40B6-951E-7A211C3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5835-A74C-49DE-9C7E-E2B4D022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FBA-569C-4423-A83E-3F5C5DB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EED-44AF-4527-9E7B-9A59410F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7F3-740B-479D-9DC8-4E7C2EE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F8F-88C1-4466-BDC4-0E92EB9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D7D8-0135-4396-B9E6-95557FB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E90-86E1-4532-B492-457EE6F8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2141-938B-40DF-8095-6F1BB7A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19D3-40EB-4573-8292-B6ED15D6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0159-8FF5-49C5-B6D3-DCABB386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623-11D6-46D7-B648-D48FE3E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D5D-2171-4C7B-8AA5-91B7F0B2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D7C-9C2F-4CFD-BCC0-5CF0A5A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F72-1903-4F7A-ADFE-7D388424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18C-5CCE-467D-B3E7-BBE4925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E55-1591-4D01-94D1-EE41BFF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074-6677-4577-9FD0-58B9299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E03B-B3CE-45D7-B582-8281633D2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9F75-D264-46B7-B220-476F21B92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embedded systems plat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larm 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an-keyboard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209680"/>
            <a:ext cx="365760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button ac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048120"/>
            <a:ext cx="76176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16002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7913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0481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26708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.buzzer(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2819520"/>
            <a:ext cx="213372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 w.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M/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343400"/>
            <a:ext cx="213372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w.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M/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4956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37920" y="327636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047760" y="37339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52880" y="33526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42900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65760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83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38320" y="39625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79640" y="28605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6840" y="3622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0920" y="167652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-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89160" y="541008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-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iodic behavior (clock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eriodic behavior (buttons, buzzer activ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jor 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-driven routine updates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ground program deals with buttons, comma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-driven rout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r probably can’t handle one-minute interrupt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oftware variable to convert interrupt frequency to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eground pro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s as while loo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_buttons(button_value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_command(button_value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_alarm(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interrupt code on the platfor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est foreground program using a mock-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ly few components to integrat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clock accurac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recognition of buttons, buzz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9718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733920"/>
            <a:ext cx="3049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19810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1920" y="18702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9810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90512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572000"/>
            <a:ext cx="55627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4640" y="446076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560" y="5410080"/>
            <a:ext cx="7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560" y="541008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864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0120" y="5410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2120" y="4191120"/>
            <a:ext cx="761760" cy="8380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360" y="5070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00800" y="5334120"/>
            <a:ext cx="990720" cy="4572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99720" y="57564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6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9360" y="2590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057400"/>
            <a:ext cx="1066680" cy="121932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time: hold set time, depress hour, min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alarm time: hold set alarm, depress hour, min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 alarm on/off: depress alarm on/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70040" y="1978200"/>
          <a:ext cx="781524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978200"/>
                    <a:ext cx="78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class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886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t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9528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57800" y="32767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57800" y="327636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9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9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3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404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8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98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physical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362320"/>
            <a:ext cx="24386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819520"/>
            <a:ext cx="243864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-va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-sca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-l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828800"/>
            <a:ext cx="2666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t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2362320"/>
            <a:ext cx="2666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2819520"/>
            <a:ext cx="2666880" cy="24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alarm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ff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2362320"/>
            <a:ext cx="24386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819520"/>
            <a:ext cx="243864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play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1752480"/>
            <a:ext cx="3353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286000"/>
            <a:ext cx="335304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[4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indicator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indicator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581280"/>
            <a:ext cx="33530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light-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light-of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-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-of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sm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371600"/>
            <a:ext cx="51818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905120"/>
            <a:ext cx="5181840" cy="3352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-hours, ones-hours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-minutes, ones-minutes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tens-hours, alarm-ones-hou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tens-minutes, alarm-ones-min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257800"/>
            <a:ext cx="51818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-keyboar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pdate-tim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36576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82880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373392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3520" y="220968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819520"/>
            <a:ext cx="7621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9718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3000" y="3317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776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5627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55627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7621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828440" y="5029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029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9360" y="49528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&gt;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76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&gt;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828800"/>
            <a:ext cx="38102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.set-time(curre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2895480"/>
            <a:ext cx="4267080" cy="762120"/>
          </a:xfrm>
          <a:prstGeom prst="hexagon">
            <a:avLst>
              <a:gd name="adj" fmla="val 139974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&gt;= alarm and alarm-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11480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.buzzer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96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72400" y="4038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120" y="3622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44160" y="293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19720" y="2437920"/>
            <a:ext cx="30456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43200" y="2514600"/>
            <a:ext cx="19810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4T02:27:43Z</dcterms:modified>
  <cp:revision>42</cp:revision>
  <dc:subject/>
  <dc:title>No Slide Title</dc:title>
</cp:coreProperties>
</file>