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B2A-9B29-418F-8DD8-5B5B4C3A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E5FF-8ED3-4573-A4DC-8043A413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C1C-D0E4-4F55-8041-127DB2D7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4CD-6A10-44A9-A2F6-B2286249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C39A-6A34-45C3-8B23-813AEE99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A221-3D9F-4E70-AC38-CE3054B5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5901-4BBE-43EA-8C00-17B00E74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C026-7299-4EC8-8F40-73363DCC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862A-6EFC-4897-8EDB-71864F2B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27BF-CB2F-4850-8F73-DAFF7446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E5CF-5C2E-4C7A-A6E7-FE23353D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D51-C5B8-4D8D-970B-EE9DF72E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2BA6-1EAD-4634-9EB3-08D8719B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48B7-53C1-4207-BFF2-30AC4407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2D1F-82F6-4358-A4C5-0BF54CD6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CAC4-D58D-4B58-ACB6-C606277B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F253-7DA6-43D9-A0A9-BB00923D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5DE8-718B-4EB1-8649-BEED099A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E23-6033-4226-B88E-B6E3E785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199-6637-4069-84EE-5CF523FF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1B4-83DE-4F3F-80DF-D5C995EE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7632-40AB-4BBB-B6A4-BE8732E3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DD9E-E5DC-4912-8FE1-497741FF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3C6-C9A9-4A23-B3EB-2A24B8AB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692F-D009-4EA5-967B-450327DA25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13B4-7F4F-4D6D-AA06-E1C1B6194B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design techniq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y assur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MU Capability Maturity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ve levels of organizational maturit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it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poorly organized process, depends on individu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epea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basic tracking mechanis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fin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processes documented and standardiz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nag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makes detailed measur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ptimiz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measurements used for improve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flipH="1">
            <a:off x="1371600" y="3657600"/>
            <a:ext cx="6477120" cy="2133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 and testing are important throughout the design fl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rly bugs are more expensive to fi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295280" y="39625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57913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75320" y="59086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90520" y="466164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to 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105520" y="4800600"/>
            <a:ext cx="2743200" cy="990720"/>
          </a:xfrm>
          <a:prstGeom prst="rtTriangl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ing 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ifying requirements and spec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typ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typing languag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-existing syst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scenario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l techniq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re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eetings to catch design fla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, low-c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en by experiments to be effec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ther people in the project/company to help spot design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review play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sign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present design to rest of team, make cha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view lead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coordinates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view scrib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akes notes of meet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view audi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ooks for bu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fore the design re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eam prepares documents used to describe the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 recruits audience, coordinates meetings, distributes handouts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dience members familiarize themselves with the documents before they go to the mee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review mee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 keeps meeting moving; scribe takes no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present the desig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handou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at is going 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through detai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review audi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for any proble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design consistent with the specifi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interface correc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well is the component’s internal architecture design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d they use good design/coding practic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testing strategy adequat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llow-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make suggested cha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chan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 checks on results of changes, may distribute to audience for further review or additional revie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asu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ments help ground our belief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our practices really wor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y work where we think they wor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measurem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gs found at different stages of desig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gs as a function of ti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gs in different types of componen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bugs are fou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ality assur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Qu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udged by how well product satisfies its intended fun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easured in different ways for different kinds of produ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Quality assur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makes sure that all stages of the design process help to deliver a quality produ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rac-25 Medical Imager (Leveson and Turne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 known accidents: radiation overdoses leading to death and serious inju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diation gun controlled by PDP-1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 major software compon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d dat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task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rupt ser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rac-25 tas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atment monitor controlled and monitored setup and delivery of treatment in eight pha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o task controlled radiation g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sekeeper task took care of status interlocks and limit chec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eatment monitor tas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at was main monitor tas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ght subrouti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at rescheduled itself after every subrout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 timing r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ing-dependent use of mode and energ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keyboard handler sets completion behavior before operator changes mode/energy data, Datent task will not detect the change, but Hand task wi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 timing err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parameters made by operator may show on screen but not be sensed by Datent tas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accident caused by entering mode/energy, changing mode/energy, returning to command line in 8 seco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lled operators typed faster, more likely to exercise bu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veson and Turner observ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ed limited safety analysis: guessed at error probabilities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d not use mechanical backups to check machine ope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overly complex programs written in unreliable sty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SO 900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ed by International Standards organiz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s to a broad range indust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ntrates on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idation based on extensive documentation of organization’s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Wayne Wolf</cp:lastModifiedBy>
  <dcterms:modified xsi:type="dcterms:W3CDTF">2000-07-13T13:35:01Z</dcterms:modified>
  <cp:revision>85</cp:revision>
  <dc:subject/>
  <dc:title>No Slide Title</dc:title>
</cp:coreProperties>
</file>