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CF8-592A-4095-B50D-C598F5AF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447-8EAC-4A71-B49A-B7BD6E6F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2BA-99A6-41AE-AEB7-CA0E463B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BAE-2C6F-462B-8EB6-1677E55F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962C-16D5-4F85-B8A7-840AB079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D962-D7DF-4AF2-AFC1-CBBF1313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D802-53E6-4F25-B76F-2E05A572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9459-451F-4780-8D20-09F81336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C290-9305-4106-8D55-38369837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ACB7-0105-4A21-8E8D-579BA24F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B905-29F1-4389-BAF8-FBE62F1A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A71-8253-4763-A113-6BDAC715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0967-CCA2-45D3-890F-B326AF5D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834B-5122-4A13-8BF5-BE76A5EE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0789-F17A-4241-B0AE-0F502292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B465-D7B9-4FF4-BC00-57E6370C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2C6C-0496-4B75-A8CD-2B383DEA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9ECF-81AB-44A9-AFE1-81849C17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E3B-1E3F-48CF-83BC-89F86BF3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082-EED5-4CF5-97BB-63063735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6FF-8DD3-4031-8AC1-EE1131E9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A75-DD2C-4E5C-815D-DB1B313A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99C-4D4C-46CD-9A55-0E7DE5F5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6EE-2247-4565-8354-192A7116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5132-2542-4642-8F2E-E4EB00450E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2289-EA35-4A45-805D-C278FA309E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ing for Embedded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we use networ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abstra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networ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int-to-point networ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ource, one or more destinations, no data switching (serial port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581280"/>
            <a:ext cx="1295280" cy="1295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3657600"/>
            <a:ext cx="11430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3429000"/>
            <a:ext cx="1523880" cy="1600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42670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4267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75440" y="453708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480" y="457200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s networ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hysical conne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3200400"/>
            <a:ext cx="99072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3200400"/>
            <a:ext cx="99072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200400"/>
            <a:ext cx="99072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3200400"/>
            <a:ext cx="99072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48006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523880" y="4800600"/>
            <a:ext cx="6957000" cy="914400"/>
            <a:chOff x="1523880" y="4800600"/>
            <a:chExt cx="6957000" cy="914400"/>
          </a:xfrm>
        </p:grpSpPr>
        <p:sp>
          <p:nvSpPr>
            <p:cNvPr id="170" name=""/>
            <p:cNvSpPr/>
            <p:nvPr/>
          </p:nvSpPr>
          <p:spPr>
            <a:xfrm>
              <a:off x="1523880" y="5181480"/>
              <a:ext cx="914400" cy="533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38280" y="5181480"/>
              <a:ext cx="1447920" cy="5335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86200" y="5181480"/>
              <a:ext cx="1600200" cy="533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86400" y="5181480"/>
              <a:ext cx="9907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523880" y="4800600"/>
              <a:ext cx="1371600" cy="380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4572000" y="4800600"/>
              <a:ext cx="1905120" cy="380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11400" y="5222880"/>
              <a:ext cx="186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 for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s arbit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Fix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ame order of resolution every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Fa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every PE has same access over long perio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round-rob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rotate top priority among P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44640" y="57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2000" y="58672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,B,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78360" y="59436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,B,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4572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9160" y="511956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nd-ro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4648320"/>
            <a:ext cx="9144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4648320"/>
            <a:ext cx="9144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4648320"/>
            <a:ext cx="914400" cy="38088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4648320"/>
            <a:ext cx="9144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4648320"/>
            <a:ext cx="9144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62920" y="4648320"/>
            <a:ext cx="914400" cy="38088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5334120"/>
            <a:ext cx="9144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43200" y="5334120"/>
            <a:ext cx="9144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5334120"/>
            <a:ext cx="914400" cy="38088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920" y="5334120"/>
            <a:ext cx="9144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5334120"/>
            <a:ext cx="9144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5334120"/>
            <a:ext cx="914400" cy="38088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ossba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124080" y="2286000"/>
            <a:ext cx="2514600" cy="3276720"/>
            <a:chOff x="3124080" y="2286000"/>
            <a:chExt cx="2514600" cy="3276720"/>
          </a:xfrm>
        </p:grpSpPr>
        <p:sp>
          <p:nvSpPr>
            <p:cNvPr id="200" name=""/>
            <p:cNvSpPr/>
            <p:nvPr/>
          </p:nvSpPr>
          <p:spPr>
            <a:xfrm flipV="1">
              <a:off x="3124080" y="2286000"/>
              <a:ext cx="0" cy="327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962520" y="2286000"/>
              <a:ext cx="0" cy="327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800600" y="2286000"/>
              <a:ext cx="0" cy="327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5638680" y="2286000"/>
              <a:ext cx="0" cy="327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819520" y="2743200"/>
            <a:ext cx="3276360" cy="2514600"/>
            <a:chOff x="2819520" y="2743200"/>
            <a:chExt cx="3276360" cy="2514600"/>
          </a:xfrm>
        </p:grpSpPr>
        <p:sp>
          <p:nvSpPr>
            <p:cNvPr id="205" name=""/>
            <p:cNvSpPr/>
            <p:nvPr/>
          </p:nvSpPr>
          <p:spPr>
            <a:xfrm>
              <a:off x="2819520" y="2743200"/>
              <a:ext cx="32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19520" y="3581640"/>
              <a:ext cx="32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9520" y="4419720"/>
              <a:ext cx="32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19520" y="5257800"/>
              <a:ext cx="32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200400" y="2819160"/>
            <a:ext cx="228600" cy="228960"/>
            <a:chOff x="3200400" y="2819160"/>
            <a:chExt cx="228600" cy="228960"/>
          </a:xfrm>
        </p:grpSpPr>
        <p:sp>
          <p:nvSpPr>
            <p:cNvPr id="210" name=""/>
            <p:cNvSpPr/>
            <p:nvPr/>
          </p:nvSpPr>
          <p:spPr>
            <a:xfrm flipV="1">
              <a:off x="3200400" y="28191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76720" y="29718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038480" y="2819160"/>
            <a:ext cx="228600" cy="228960"/>
            <a:chOff x="4038480" y="2819160"/>
            <a:chExt cx="228600" cy="228960"/>
          </a:xfrm>
        </p:grpSpPr>
        <p:sp>
          <p:nvSpPr>
            <p:cNvPr id="213" name=""/>
            <p:cNvSpPr/>
            <p:nvPr/>
          </p:nvSpPr>
          <p:spPr>
            <a:xfrm flipV="1">
              <a:off x="4038480" y="28191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14800" y="29718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952880" y="2819160"/>
            <a:ext cx="228600" cy="228960"/>
            <a:chOff x="4952880" y="2819160"/>
            <a:chExt cx="228600" cy="228960"/>
          </a:xfrm>
        </p:grpSpPr>
        <p:sp>
          <p:nvSpPr>
            <p:cNvPr id="216" name=""/>
            <p:cNvSpPr/>
            <p:nvPr/>
          </p:nvSpPr>
          <p:spPr>
            <a:xfrm flipV="1">
              <a:off x="4952880" y="28191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29200" y="29718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791320" y="2819160"/>
            <a:ext cx="228600" cy="228960"/>
            <a:chOff x="5791320" y="2819160"/>
            <a:chExt cx="228600" cy="228960"/>
          </a:xfrm>
        </p:grpSpPr>
        <p:sp>
          <p:nvSpPr>
            <p:cNvPr id="219" name=""/>
            <p:cNvSpPr/>
            <p:nvPr/>
          </p:nvSpPr>
          <p:spPr>
            <a:xfrm flipV="1">
              <a:off x="5791320" y="28191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67640" y="29718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200400" y="3657240"/>
            <a:ext cx="228600" cy="228960"/>
            <a:chOff x="3200400" y="3657240"/>
            <a:chExt cx="228600" cy="228960"/>
          </a:xfrm>
        </p:grpSpPr>
        <p:sp>
          <p:nvSpPr>
            <p:cNvPr id="222" name=""/>
            <p:cNvSpPr/>
            <p:nvPr/>
          </p:nvSpPr>
          <p:spPr>
            <a:xfrm flipV="1">
              <a:off x="3200400" y="36572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76720" y="380988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038480" y="3657240"/>
            <a:ext cx="228600" cy="228960"/>
            <a:chOff x="4038480" y="3657240"/>
            <a:chExt cx="228600" cy="228960"/>
          </a:xfrm>
        </p:grpSpPr>
        <p:sp>
          <p:nvSpPr>
            <p:cNvPr id="225" name=""/>
            <p:cNvSpPr/>
            <p:nvPr/>
          </p:nvSpPr>
          <p:spPr>
            <a:xfrm flipV="1">
              <a:off x="4038480" y="36572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14800" y="380988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952880" y="3657240"/>
            <a:ext cx="228600" cy="228960"/>
            <a:chOff x="4952880" y="3657240"/>
            <a:chExt cx="228600" cy="228960"/>
          </a:xfrm>
        </p:grpSpPr>
        <p:sp>
          <p:nvSpPr>
            <p:cNvPr id="228" name=""/>
            <p:cNvSpPr/>
            <p:nvPr/>
          </p:nvSpPr>
          <p:spPr>
            <a:xfrm flipV="1">
              <a:off x="4952880" y="36572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29200" y="380988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791320" y="3657240"/>
            <a:ext cx="228600" cy="228960"/>
            <a:chOff x="5791320" y="3657240"/>
            <a:chExt cx="228600" cy="228960"/>
          </a:xfrm>
        </p:grpSpPr>
        <p:sp>
          <p:nvSpPr>
            <p:cNvPr id="231" name=""/>
            <p:cNvSpPr/>
            <p:nvPr/>
          </p:nvSpPr>
          <p:spPr>
            <a:xfrm flipV="1">
              <a:off x="5791320" y="36572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67640" y="380988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200400" y="4495320"/>
            <a:ext cx="228600" cy="228960"/>
            <a:chOff x="3200400" y="4495320"/>
            <a:chExt cx="228600" cy="228960"/>
          </a:xfrm>
        </p:grpSpPr>
        <p:sp>
          <p:nvSpPr>
            <p:cNvPr id="234" name=""/>
            <p:cNvSpPr/>
            <p:nvPr/>
          </p:nvSpPr>
          <p:spPr>
            <a:xfrm flipV="1">
              <a:off x="3200400" y="44953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76720" y="464796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038480" y="4495320"/>
            <a:ext cx="228600" cy="228960"/>
            <a:chOff x="4038480" y="4495320"/>
            <a:chExt cx="228600" cy="228960"/>
          </a:xfrm>
        </p:grpSpPr>
        <p:sp>
          <p:nvSpPr>
            <p:cNvPr id="237" name=""/>
            <p:cNvSpPr/>
            <p:nvPr/>
          </p:nvSpPr>
          <p:spPr>
            <a:xfrm flipV="1">
              <a:off x="4038480" y="44953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14800" y="464796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952880" y="4495320"/>
            <a:ext cx="228600" cy="228960"/>
            <a:chOff x="4952880" y="4495320"/>
            <a:chExt cx="228600" cy="228960"/>
          </a:xfrm>
        </p:grpSpPr>
        <p:sp>
          <p:nvSpPr>
            <p:cNvPr id="240" name=""/>
            <p:cNvSpPr/>
            <p:nvPr/>
          </p:nvSpPr>
          <p:spPr>
            <a:xfrm flipV="1">
              <a:off x="4952880" y="44953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29200" y="464796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791320" y="4495320"/>
            <a:ext cx="228600" cy="228960"/>
            <a:chOff x="5791320" y="4495320"/>
            <a:chExt cx="228600" cy="228960"/>
          </a:xfrm>
        </p:grpSpPr>
        <p:sp>
          <p:nvSpPr>
            <p:cNvPr id="243" name=""/>
            <p:cNvSpPr/>
            <p:nvPr/>
          </p:nvSpPr>
          <p:spPr>
            <a:xfrm flipV="1">
              <a:off x="5791320" y="44953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67640" y="464796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200400" y="5333760"/>
            <a:ext cx="228600" cy="228960"/>
            <a:chOff x="3200400" y="5333760"/>
            <a:chExt cx="228600" cy="228960"/>
          </a:xfrm>
        </p:grpSpPr>
        <p:sp>
          <p:nvSpPr>
            <p:cNvPr id="246" name=""/>
            <p:cNvSpPr/>
            <p:nvPr/>
          </p:nvSpPr>
          <p:spPr>
            <a:xfrm flipV="1">
              <a:off x="3200400" y="53337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76720" y="54864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038480" y="5333760"/>
            <a:ext cx="228600" cy="228960"/>
            <a:chOff x="4038480" y="5333760"/>
            <a:chExt cx="228600" cy="228960"/>
          </a:xfrm>
        </p:grpSpPr>
        <p:sp>
          <p:nvSpPr>
            <p:cNvPr id="249" name=""/>
            <p:cNvSpPr/>
            <p:nvPr/>
          </p:nvSpPr>
          <p:spPr>
            <a:xfrm flipV="1">
              <a:off x="4038480" y="53337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14800" y="54864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952880" y="5333760"/>
            <a:ext cx="228600" cy="228960"/>
            <a:chOff x="4952880" y="5333760"/>
            <a:chExt cx="228600" cy="228960"/>
          </a:xfrm>
        </p:grpSpPr>
        <p:sp>
          <p:nvSpPr>
            <p:cNvPr id="252" name=""/>
            <p:cNvSpPr/>
            <p:nvPr/>
          </p:nvSpPr>
          <p:spPr>
            <a:xfrm flipV="1">
              <a:off x="4952880" y="53337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29200" y="54864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791320" y="5333760"/>
            <a:ext cx="228600" cy="228960"/>
            <a:chOff x="5791320" y="5333760"/>
            <a:chExt cx="228600" cy="228960"/>
          </a:xfrm>
        </p:grpSpPr>
        <p:sp>
          <p:nvSpPr>
            <p:cNvPr id="255" name=""/>
            <p:cNvSpPr/>
            <p:nvPr/>
          </p:nvSpPr>
          <p:spPr>
            <a:xfrm flipV="1">
              <a:off x="5791320" y="53337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67640" y="54864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880720" y="56037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i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18800" y="56037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i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3080" y="5638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in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95320" y="56037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in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25560" y="5029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u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25560" y="41911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u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09720" y="33177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u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09720" y="2479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u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048120" y="4343400"/>
            <a:ext cx="3124080" cy="1295280"/>
            <a:chOff x="3048120" y="4343400"/>
            <a:chExt cx="3124080" cy="1295280"/>
          </a:xfrm>
        </p:grpSpPr>
        <p:sp>
          <p:nvSpPr>
            <p:cNvPr id="266" name=""/>
            <p:cNvSpPr/>
            <p:nvPr/>
          </p:nvSpPr>
          <p:spPr>
            <a:xfrm flipV="1">
              <a:off x="3124080" y="441972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048120" y="4343400"/>
              <a:ext cx="0" cy="129528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48120" y="4343400"/>
              <a:ext cx="3124080" cy="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ossbar characterist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block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handle arbitrary multi-cast combin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proportional to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-stage networ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several stages of switching ele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block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smaller than crossb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3733920"/>
            <a:ext cx="4572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3880" y="4343400"/>
            <a:ext cx="4572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3880" y="4952880"/>
            <a:ext cx="4572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5562720"/>
            <a:ext cx="4572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38680" y="3733920"/>
            <a:ext cx="4572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4343400"/>
            <a:ext cx="4572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38680" y="4952880"/>
            <a:ext cx="4572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5562720"/>
            <a:ext cx="4572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3886200"/>
            <a:ext cx="3657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81080" y="4572000"/>
            <a:ext cx="3657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5105520"/>
            <a:ext cx="3657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81080" y="5791320"/>
            <a:ext cx="3657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3886200"/>
            <a:ext cx="8384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981080" y="3885840"/>
            <a:ext cx="76212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3809880"/>
            <a:ext cx="152280" cy="1526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4495680"/>
            <a:ext cx="152280" cy="1526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81080" y="5105520"/>
            <a:ext cx="8384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981080" y="5105160"/>
            <a:ext cx="76212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5029200"/>
            <a:ext cx="152280" cy="1522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5715000"/>
            <a:ext cx="152280" cy="1522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5480" y="3962520"/>
            <a:ext cx="274320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95480" y="4572000"/>
            <a:ext cx="274320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895480" y="4571640"/>
            <a:ext cx="274320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895480" y="3885840"/>
            <a:ext cx="274320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4495680"/>
            <a:ext cx="152280" cy="1526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5029200"/>
            <a:ext cx="152280" cy="1522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5715000"/>
            <a:ext cx="152280" cy="1522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3809880"/>
            <a:ext cx="152280" cy="1526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62720" y="4495680"/>
            <a:ext cx="152280" cy="1526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5029200"/>
            <a:ext cx="152280" cy="1522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62720" y="5715000"/>
            <a:ext cx="152280" cy="1522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ssage-based program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port layer provides message-based programming interf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nd_msg(adrs,data1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must be broken into packets at source, reassembled at destin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Data-push programm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make things happen in network based on data transf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b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d for low-cost, medium data rate applic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ial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maste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-priority arbitr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microcontrollers come with built-in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controll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physical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1371600" y="2514600"/>
            <a:ext cx="12193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2514600"/>
            <a:ext cx="12193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14600" y="4267080"/>
            <a:ext cx="12193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62720" y="4267080"/>
            <a:ext cx="121896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3429000"/>
            <a:ext cx="6934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962520"/>
            <a:ext cx="6934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3200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81952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4290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79132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771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62940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62920" y="3200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1480" y="37339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S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5640" y="30891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69280" y="28605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92960" y="354636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ck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data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"/>
          <p:cNvSpPr/>
          <p:nvPr/>
        </p:nvSpPr>
        <p:spPr>
          <a:xfrm>
            <a:off x="519840" y="26319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0200" y="43848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335268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3880" y="495288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47920" y="2590920"/>
            <a:ext cx="380880" cy="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828800" y="2590560"/>
            <a:ext cx="1523880" cy="686160"/>
            <a:chOff x="1828800" y="2590560"/>
            <a:chExt cx="1523880" cy="686160"/>
          </a:xfrm>
        </p:grpSpPr>
        <p:sp>
          <p:nvSpPr>
            <p:cNvPr id="335" name=""/>
            <p:cNvSpPr/>
            <p:nvPr/>
          </p:nvSpPr>
          <p:spPr>
            <a:xfrm>
              <a:off x="1828800" y="2590920"/>
              <a:ext cx="152280" cy="68580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81080" y="3276720"/>
              <a:ext cx="60984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590920" y="2590560"/>
              <a:ext cx="152280" cy="68580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43200" y="2590920"/>
              <a:ext cx="60948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352680" y="2590560"/>
            <a:ext cx="1523880" cy="686160"/>
            <a:chOff x="3352680" y="2590560"/>
            <a:chExt cx="1523880" cy="686160"/>
          </a:xfrm>
        </p:grpSpPr>
        <p:sp>
          <p:nvSpPr>
            <p:cNvPr id="340" name=""/>
            <p:cNvSpPr/>
            <p:nvPr/>
          </p:nvSpPr>
          <p:spPr>
            <a:xfrm>
              <a:off x="3352680" y="2590920"/>
              <a:ext cx="152280" cy="68580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04960" y="3276720"/>
              <a:ext cx="60984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114800" y="2590560"/>
              <a:ext cx="152280" cy="68580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67080" y="2590920"/>
              <a:ext cx="60948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400800" y="2590560"/>
            <a:ext cx="1523880" cy="686160"/>
            <a:chOff x="6400800" y="2590560"/>
            <a:chExt cx="1523880" cy="686160"/>
          </a:xfrm>
        </p:grpSpPr>
        <p:sp>
          <p:nvSpPr>
            <p:cNvPr id="345" name=""/>
            <p:cNvSpPr/>
            <p:nvPr/>
          </p:nvSpPr>
          <p:spPr>
            <a:xfrm>
              <a:off x="6400800" y="2590920"/>
              <a:ext cx="152280" cy="68580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53080" y="3276720"/>
              <a:ext cx="60984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7162920" y="2590560"/>
              <a:ext cx="152280" cy="68580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15200" y="2590920"/>
              <a:ext cx="60948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986600" y="2708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7920" y="4191120"/>
            <a:ext cx="75960" cy="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4191120"/>
            <a:ext cx="152640" cy="68580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76520" y="4876920"/>
            <a:ext cx="914400" cy="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666880" y="4191120"/>
            <a:ext cx="1447920" cy="685800"/>
            <a:chOff x="2666880" y="4191120"/>
            <a:chExt cx="1447920" cy="685800"/>
          </a:xfrm>
        </p:grpSpPr>
        <p:sp>
          <p:nvSpPr>
            <p:cNvPr id="354" name=""/>
            <p:cNvSpPr/>
            <p:nvPr/>
          </p:nvSpPr>
          <p:spPr>
            <a:xfrm flipV="1">
              <a:off x="2666880" y="4191120"/>
              <a:ext cx="76320" cy="38088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43200" y="4191120"/>
              <a:ext cx="129528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66880" y="4572000"/>
              <a:ext cx="152640" cy="30492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19520" y="4876920"/>
              <a:ext cx="121896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4038480" y="4496040"/>
              <a:ext cx="76320" cy="38088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38480" y="4191120"/>
              <a:ext cx="76320" cy="30492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729880" y="52992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12960" y="52992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590920" y="4571640"/>
            <a:ext cx="75960" cy="30492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114800" y="4191120"/>
            <a:ext cx="1447920" cy="685800"/>
            <a:chOff x="4114800" y="4191120"/>
            <a:chExt cx="1447920" cy="685800"/>
          </a:xfrm>
        </p:grpSpPr>
        <p:sp>
          <p:nvSpPr>
            <p:cNvPr id="364" name=""/>
            <p:cNvSpPr/>
            <p:nvPr/>
          </p:nvSpPr>
          <p:spPr>
            <a:xfrm flipV="1">
              <a:off x="4114800" y="4191120"/>
              <a:ext cx="76320" cy="38088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91120" y="4191120"/>
              <a:ext cx="129528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14800" y="4572000"/>
              <a:ext cx="152640" cy="30492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67440" y="4876920"/>
              <a:ext cx="121896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486400" y="4496040"/>
              <a:ext cx="76320" cy="38088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86400" y="4191120"/>
              <a:ext cx="76320" cy="30492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5716800" y="42670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4191120"/>
            <a:ext cx="380880" cy="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238880" y="4191120"/>
            <a:ext cx="152640" cy="68580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391520" y="4876920"/>
            <a:ext cx="609480" cy="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8001000" y="4571640"/>
            <a:ext cx="76320" cy="30492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00080" y="52228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2590920"/>
            <a:ext cx="152280" cy="68580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3276720"/>
            <a:ext cx="609480" cy="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40480" y="25909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el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2514600"/>
            <a:ext cx="99072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2971800"/>
            <a:ext cx="60948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4952880"/>
            <a:ext cx="1218960" cy="1219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4267080"/>
            <a:ext cx="1600200" cy="838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2209680" y="342900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572000" y="358092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5105520"/>
            <a:ext cx="2667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14680" y="39276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4952520" y="38858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09720" y="43434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2819160" y="4038480"/>
            <a:ext cx="2514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560" y="1905120"/>
            <a:ext cx="40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computing plat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66520" y="563868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 may be CPUs or AS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electrical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3200400"/>
            <a:ext cx="6933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7560" y="29368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754380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7543800" y="28191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7315200" y="26668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7315200" y="2514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7315200" y="24382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7315200" y="22856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62012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833960" y="19461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collector interf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4683240"/>
            <a:ext cx="6933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67200" y="4419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7543800" y="4377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7543800" y="43020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7315200" y="414936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7315200" y="399708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7315200" y="392112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7315200" y="376848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620120" y="3616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833960" y="3429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666520" y="3200400"/>
            <a:ext cx="686160" cy="990720"/>
            <a:chOff x="2666520" y="3200400"/>
            <a:chExt cx="686160" cy="990720"/>
          </a:xfrm>
        </p:grpSpPr>
        <p:sp>
          <p:nvSpPr>
            <p:cNvPr id="402" name=""/>
            <p:cNvSpPr/>
            <p:nvPr/>
          </p:nvSpPr>
          <p:spPr>
            <a:xfrm>
              <a:off x="3276720" y="3200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2971440" y="3429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7180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971800" y="3809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7672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200400" y="403848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9548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66652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666520" y="4724280"/>
            <a:ext cx="686160" cy="990720"/>
            <a:chOff x="2666520" y="4724280"/>
            <a:chExt cx="686160" cy="990720"/>
          </a:xfrm>
        </p:grpSpPr>
        <p:sp>
          <p:nvSpPr>
            <p:cNvPr id="411" name=""/>
            <p:cNvSpPr/>
            <p:nvPr/>
          </p:nvSpPr>
          <p:spPr>
            <a:xfrm>
              <a:off x="327672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971440" y="49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71800" y="49528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71800" y="5333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76720" y="5333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3200400" y="556236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95480" y="49528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666520" y="5105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 flipV="1">
            <a:off x="3276720" y="4647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signa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der pulls down bus for 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der listens to bus---if it tried to send a 1 and heard a 0, someone else is simultaneously transmit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missions occur in 8-bit by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data link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 device has an address (7 bits in standard, 10 bits in extensio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8 of address signals read or wr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 call address allows broadca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bus arbit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der listens while sending addr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sender hears a conflict, if its address is higher, it stops signal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-priority senders relinquish control early enough in clock cycle to allow bit to be transmitted reliab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transmis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"/>
          <p:cNvSpPr/>
          <p:nvPr/>
        </p:nvSpPr>
        <p:spPr>
          <a:xfrm>
            <a:off x="819360" y="20224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byte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4360" y="327672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from s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44840" y="47656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, then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19320" y="2590920"/>
            <a:ext cx="457200" cy="609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676520" y="2590920"/>
            <a:ext cx="1218960" cy="60948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895480" y="2590920"/>
            <a:ext cx="457200" cy="6094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52680" y="2590920"/>
            <a:ext cx="137160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24280" y="2590920"/>
            <a:ext cx="137160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5880" y="2590920"/>
            <a:ext cx="4572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19320" y="3886200"/>
            <a:ext cx="457200" cy="609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86200"/>
            <a:ext cx="1218960" cy="60948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3886200"/>
            <a:ext cx="457200" cy="6094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52680" y="3886200"/>
            <a:ext cx="14479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00600" y="3886200"/>
            <a:ext cx="4572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19320" y="5181480"/>
            <a:ext cx="457200" cy="60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76520" y="5181480"/>
            <a:ext cx="1218960" cy="60984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95480" y="5181480"/>
            <a:ext cx="457200" cy="60984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5181480"/>
            <a:ext cx="1371600" cy="6098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24280" y="5181480"/>
            <a:ext cx="457200" cy="60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1480" y="5181480"/>
            <a:ext cx="1219320" cy="60984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00800" y="5181480"/>
            <a:ext cx="457200" cy="60984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0" y="5181480"/>
            <a:ext cx="144792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305920" y="5181480"/>
            <a:ext cx="45720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processor networ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DSPs are often connected by high-speed networks for signal process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3352680" y="3657600"/>
            <a:ext cx="83844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029200" y="3657600"/>
            <a:ext cx="83808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52680" y="4952880"/>
            <a:ext cx="838440" cy="838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029200" y="4952880"/>
            <a:ext cx="838080" cy="838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954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91120" y="3809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8954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91120" y="5715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672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91120" y="42670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4191120" y="42670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73392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4100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link 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 per CP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 bits per link po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ets have 32- or 48-bit paylo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controlled by D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half-duplex---must be turned around by prog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non-telephone L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ions: 10 Mb/s, 100 Mb/s, 1 Gb/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: reliable communication over an unreliable mediu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top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-based system, several possible physical lay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1676520" y="342900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42900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15000" y="342900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143000" y="480060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1337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911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7220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rier sense multiple access with collision dete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se collision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onentially back off in ti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s in embedded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276720"/>
            <a:ext cx="1295280" cy="1295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3200400"/>
            <a:ext cx="60948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66688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3505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3200400"/>
            <a:ext cx="121932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4648320"/>
            <a:ext cx="60948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4952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4648320"/>
            <a:ext cx="121932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72600" y="2251080"/>
            <a:ext cx="2277720" cy="644400"/>
            <a:chOff x="5772600" y="2251080"/>
            <a:chExt cx="2277720" cy="644400"/>
          </a:xfrm>
        </p:grpSpPr>
        <p:sp>
          <p:nvSpPr>
            <p:cNvPr id="112" name=""/>
            <p:cNvSpPr/>
            <p:nvPr/>
          </p:nvSpPr>
          <p:spPr>
            <a:xfrm flipH="1">
              <a:off x="5791320" y="2895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72600" y="2251080"/>
              <a:ext cx="227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itial proces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345760" y="2708280"/>
            <a:ext cx="2190960" cy="873000"/>
            <a:chOff x="2345760" y="2708280"/>
            <a:chExt cx="2190960" cy="873000"/>
          </a:xfrm>
        </p:grpSpPr>
        <p:sp>
          <p:nvSpPr>
            <p:cNvPr id="115" name=""/>
            <p:cNvSpPr/>
            <p:nvPr/>
          </p:nvSpPr>
          <p:spPr>
            <a:xfrm flipH="1">
              <a:off x="2361960" y="3124080"/>
              <a:ext cx="2057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45760" y="270828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re proces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ponential back-off tim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2" name=""/>
          <p:cNvSpPr/>
          <p:nvPr/>
        </p:nvSpPr>
        <p:spPr>
          <a:xfrm>
            <a:off x="1981080" y="541008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1981080" y="198072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552720" y="55627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1981080" y="5257440"/>
            <a:ext cx="914400" cy="152280"/>
          </a:xfrm>
          <a:prstGeom prst="line">
            <a:avLst/>
          </a:prstGeom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895480" y="4647960"/>
            <a:ext cx="990720" cy="609480"/>
          </a:xfrm>
          <a:prstGeom prst="line">
            <a:avLst/>
          </a:prstGeom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886200" y="3047760"/>
            <a:ext cx="1371600" cy="1600200"/>
          </a:xfrm>
          <a:prstGeom prst="line">
            <a:avLst/>
          </a:prstGeom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5257800" y="1600200"/>
            <a:ext cx="838080" cy="1447920"/>
          </a:xfrm>
          <a:prstGeom prst="line">
            <a:avLst/>
          </a:prstGeom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1981080" y="5105520"/>
            <a:ext cx="838440" cy="30456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2743200" y="4800240"/>
            <a:ext cx="1295280" cy="30492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038480" y="2742840"/>
            <a:ext cx="914400" cy="205740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952880" y="1523520"/>
            <a:ext cx="914400" cy="121932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packe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" y="3276720"/>
            <a:ext cx="114300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276720"/>
            <a:ext cx="144792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048120" y="3276720"/>
            <a:ext cx="11430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91120" y="327672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9920" y="3276720"/>
            <a:ext cx="121896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3276720"/>
            <a:ext cx="914400" cy="9144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38880" y="3276720"/>
            <a:ext cx="990720" cy="9144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d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229600" y="3276720"/>
            <a:ext cx="685800" cy="91440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perform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ity-of-service tends to non-linearly decrease at high load leve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’t guarantee real-time deadlines. However, may provide very good service at proper load leve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Prot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Internet 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I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s basis for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n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internetwork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andard: between two Ethernets, Ethernet and token ring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er-level services are built on top of I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in commun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4876920"/>
            <a:ext cx="213372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343400"/>
            <a:ext cx="2133720" cy="533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809880"/>
            <a:ext cx="2133720" cy="5335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3276720"/>
            <a:ext cx="2133720" cy="53316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9480" y="2209680"/>
            <a:ext cx="213372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1676520"/>
            <a:ext cx="2133720" cy="5331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2743200"/>
            <a:ext cx="2133720" cy="53352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400800" y="4876920"/>
            <a:ext cx="213372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400800" y="4343400"/>
            <a:ext cx="2133720" cy="533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00800" y="3809880"/>
            <a:ext cx="2133720" cy="5335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400800" y="3276720"/>
            <a:ext cx="2133720" cy="53316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400800" y="2209680"/>
            <a:ext cx="213372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400800" y="1676520"/>
            <a:ext cx="2133720" cy="5331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00800" y="2743200"/>
            <a:ext cx="2133720" cy="53352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505320" y="4876920"/>
            <a:ext cx="213336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05320" y="4343400"/>
            <a:ext cx="2133360" cy="533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505320" y="3809880"/>
            <a:ext cx="2133360" cy="5335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743200" y="51055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38680" y="51814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52640" y="552780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038840" y="548640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935760" y="563868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590920" y="3962520"/>
            <a:ext cx="228600" cy="9903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3352680" y="3962160"/>
            <a:ext cx="381240" cy="9903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3962520"/>
            <a:ext cx="175248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3962520"/>
            <a:ext cx="228600" cy="9903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15000" y="4952880"/>
            <a:ext cx="53352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6248520" y="3885840"/>
            <a:ext cx="228600" cy="106668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68880" y="32004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pack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, service type,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,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imum data payload is 65,535 by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addre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 bits in early IP, 128 bits in IPv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ically written in form </a:t>
            </a:r>
            <a:r>
              <a:rPr b="1" lang="en-US" sz="3200" spc="-1" strike="noStrike">
                <a:solidFill>
                  <a:srgbClr val="ff5050"/>
                </a:solidFill>
                <a:latin typeface="Courier New"/>
              </a:rPr>
              <a:t>xxx.xx.xx.x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s (foo.baz.com) translated to IP address by </a:t>
            </a: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domain name ser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DN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effort rou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n’t guarantee data delivery at IP lay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can var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to sess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to pack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gher-level Internet servi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Transmission Control 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TC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provides connection-oriented servi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ity-of-service (QoS) guaranteed services are under develo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Internet service sta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"/>
          <p:cNvSpPr/>
          <p:nvPr/>
        </p:nvSpPr>
        <p:spPr>
          <a:xfrm>
            <a:off x="914400" y="4495680"/>
            <a:ext cx="6400800" cy="9144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181480" y="3657600"/>
            <a:ext cx="2133720" cy="838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181480" y="2819520"/>
            <a:ext cx="213372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3657600"/>
            <a:ext cx="365760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451640" y="3622680"/>
            <a:ext cx="138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2743200"/>
            <a:ext cx="9907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2743200"/>
            <a:ext cx="83808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743200" y="2743200"/>
            <a:ext cx="9144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743200"/>
            <a:ext cx="9144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y distributed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er performance at lower co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ysically distributed activities---time constants may not allow transmission to central si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oved debugging---use one CPU in network to debug oth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uy subsystems that have embedded process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abstra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ational Standards Organization (ISO) developed the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Open Systems Interconnec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OS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model to describe networ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layer mod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tandard way to classify network components and ope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286000" y="5257800"/>
            <a:ext cx="6192720" cy="536040"/>
            <a:chOff x="2286000" y="5257800"/>
            <a:chExt cx="6192720" cy="536040"/>
          </a:xfrm>
        </p:grpSpPr>
        <p:sp>
          <p:nvSpPr>
            <p:cNvPr id="123" name=""/>
            <p:cNvSpPr/>
            <p:nvPr/>
          </p:nvSpPr>
          <p:spPr>
            <a:xfrm>
              <a:off x="2286000" y="5257800"/>
              <a:ext cx="3276720" cy="533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32560" y="5334120"/>
              <a:ext cx="284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chanical, electr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86000" y="4724280"/>
            <a:ext cx="6194520" cy="533520"/>
            <a:chOff x="2286000" y="4724280"/>
            <a:chExt cx="6194520" cy="533520"/>
          </a:xfrm>
        </p:grpSpPr>
        <p:sp>
          <p:nvSpPr>
            <p:cNvPr id="126" name=""/>
            <p:cNvSpPr/>
            <p:nvPr/>
          </p:nvSpPr>
          <p:spPr>
            <a:xfrm>
              <a:off x="2286000" y="4724280"/>
              <a:ext cx="3276720" cy="53352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4360" y="4724280"/>
              <a:ext cx="284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liable data 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286000" y="4191120"/>
            <a:ext cx="5796360" cy="533160"/>
            <a:chOff x="2286000" y="4191120"/>
            <a:chExt cx="5796360" cy="533160"/>
          </a:xfrm>
        </p:grpSpPr>
        <p:sp>
          <p:nvSpPr>
            <p:cNvPr id="129" name=""/>
            <p:cNvSpPr/>
            <p:nvPr/>
          </p:nvSpPr>
          <p:spPr>
            <a:xfrm>
              <a:off x="2286000" y="4191120"/>
              <a:ext cx="3276720" cy="53316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36880" y="4191120"/>
              <a:ext cx="244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d-to-end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286000" y="3657600"/>
            <a:ext cx="4991400" cy="533520"/>
            <a:chOff x="2286000" y="3657600"/>
            <a:chExt cx="4991400" cy="533520"/>
          </a:xfrm>
        </p:grpSpPr>
        <p:sp>
          <p:nvSpPr>
            <p:cNvPr id="132" name=""/>
            <p:cNvSpPr/>
            <p:nvPr/>
          </p:nvSpPr>
          <p:spPr>
            <a:xfrm>
              <a:off x="2286000" y="3657600"/>
              <a:ext cx="3276720" cy="533520"/>
            </a:xfrm>
            <a:prstGeom prst="rect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320" y="3657600"/>
              <a:ext cx="163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ne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286000" y="2590920"/>
            <a:ext cx="4932360" cy="533160"/>
            <a:chOff x="2286000" y="2590920"/>
            <a:chExt cx="4932360" cy="533160"/>
          </a:xfrm>
        </p:grpSpPr>
        <p:sp>
          <p:nvSpPr>
            <p:cNvPr id="135" name=""/>
            <p:cNvSpPr/>
            <p:nvPr/>
          </p:nvSpPr>
          <p:spPr>
            <a:xfrm>
              <a:off x="2286000" y="2590920"/>
              <a:ext cx="3276720" cy="53316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37240" y="2590920"/>
              <a:ext cx="158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for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0" y="3124080"/>
            <a:ext cx="6667920" cy="536040"/>
            <a:chOff x="2286000" y="3124080"/>
            <a:chExt cx="6667920" cy="536040"/>
          </a:xfrm>
        </p:grpSpPr>
        <p:sp>
          <p:nvSpPr>
            <p:cNvPr id="138" name=""/>
            <p:cNvSpPr/>
            <p:nvPr/>
          </p:nvSpPr>
          <p:spPr>
            <a:xfrm>
              <a:off x="2286000" y="3124080"/>
              <a:ext cx="3276720" cy="5335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3640" y="3200400"/>
              <a:ext cx="332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ication dialog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286000" y="2057400"/>
            <a:ext cx="5626800" cy="533520"/>
            <a:chOff x="2286000" y="2057400"/>
            <a:chExt cx="5626800" cy="533520"/>
          </a:xfrm>
        </p:grpSpPr>
        <p:sp>
          <p:nvSpPr>
            <p:cNvPr id="141" name=""/>
            <p:cNvSpPr/>
            <p:nvPr/>
          </p:nvSpPr>
          <p:spPr>
            <a:xfrm>
              <a:off x="2286000" y="2057400"/>
              <a:ext cx="3276720" cy="53352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36520" y="2057400"/>
              <a:ext cx="22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d-use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hysic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connectors, bit formats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Data lin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error detection and control across a single link (single hop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etwor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end-to-end multi-hop data commun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ranspor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provides connections; may optimize network resour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SI layers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es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ervices for end-user applications: data grouping, checkpointing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es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ata formats, transformation servi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ppl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terface between network and end-user progra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rdware architect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different types of networ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ing of communica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23:54:30Z</dcterms:created>
  <dc:creator>Preferred Customer</dc:creator>
  <dc:description/>
  <dc:language>en-US</dc:language>
  <cp:lastModifiedBy>Preferred Customer</cp:lastModifiedBy>
  <dcterms:modified xsi:type="dcterms:W3CDTF">2000-02-09T01:56:46Z</dcterms:modified>
  <cp:revision>32</cp:revision>
  <dc:subject/>
  <dc:title>Networking for Embedded Systems</dc:title>
</cp:coreProperties>
</file>