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E67-1A24-497C-AB5B-A419BD57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D9D-2A3C-4971-8985-8AB234B2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B41-6660-43BC-BA68-CD71227E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96C-7059-44A9-B79A-36A630F1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DCFC-0108-4FC8-ACC9-F9C772C7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288C-F265-4144-8919-E8895553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F768-6235-495C-A6B0-970AC329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A879-938A-4783-B898-34471684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ECD1-BA45-4A8D-9D30-387B2B98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8C35-07CA-4345-97FD-257385F9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0318-DE3E-43EE-9068-150F7790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D0E-EC57-4498-8589-F8BBA63E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FACA-358A-4FED-BE3F-DC2D1FC1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01BC-622B-42D2-A1B2-9B2AA47B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E1B7-CA2B-4CAF-B444-A7B54FD6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6BBE-2DCD-44B5-AE35-5D42D9E9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56BD-3B02-4586-8FDD-0286D0AC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04C-51BB-45B8-A62F-146D4004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8A0-27A2-4770-B421-3097E842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F8C-42B7-4186-BBBE-146CE0C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78E-3192-4B59-AE6D-9A17B976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157B-A165-483B-9D08-834240B9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8B6-19B1-490B-9CFA-5AA28956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5D2-4073-42EA-B11C-5EADD60E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3894-90F1-4F9A-849D-687D552AE3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A62C-54CD-463F-BC12-5A53D78446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design techni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methodolog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nd specif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ral model critiqu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ive refinement of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mock-ups, move through simple systems to full-scale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bottom-up feedback from previous st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ing through stages may take too much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ccessive refinement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822600" y="20988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78000" y="270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840" y="342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640" y="4038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840" y="4572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514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905120"/>
            <a:ext cx="3352680" cy="3276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68720" y="54100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i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61080" y="20988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16480" y="270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4320" y="342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480" y="4038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4572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25146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1905120"/>
            <a:ext cx="3352680" cy="3276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8640" y="54100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505320" y="2514600"/>
            <a:ext cx="144756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543800" y="2209680"/>
            <a:ext cx="10666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/software design flo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3350880" y="182880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1760" y="29718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39625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388620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440" y="472428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120" y="55627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971800" y="34290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34290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4956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257800" y="43434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-design method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architect hardware and software togeth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fficient resourc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software bottlenec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uild pieces somewhat independently, but integration is major st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requires bottom-up feedb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erarchical design flo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 systems must be designed across multiple levels of abstra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architectur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and software syste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and software compon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need design flows within design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erarchical HW/SW flo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38080" y="1752480"/>
            <a:ext cx="2667240" cy="4269960"/>
            <a:chOff x="838080" y="1752480"/>
            <a:chExt cx="2667240" cy="4269960"/>
          </a:xfrm>
        </p:grpSpPr>
        <p:sp>
          <p:nvSpPr>
            <p:cNvPr id="175" name=""/>
            <p:cNvSpPr/>
            <p:nvPr/>
          </p:nvSpPr>
          <p:spPr>
            <a:xfrm>
              <a:off x="1753560" y="190512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69440" y="259092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76680" y="3546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0200" y="3546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2440" y="419112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g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12960" y="491796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337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447920" y="304812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7920" y="403848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4600" y="304812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590560" y="39625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372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8080" y="1752480"/>
              <a:ext cx="2667240" cy="3657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9160" y="5562720"/>
              <a:ext cx="10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447920" y="1828800"/>
            <a:ext cx="6019560" cy="4269600"/>
            <a:chOff x="1447920" y="1828800"/>
            <a:chExt cx="6019560" cy="4269600"/>
          </a:xfrm>
        </p:grpSpPr>
        <p:grpSp>
          <p:nvGrpSpPr>
            <p:cNvPr id="190" name=""/>
            <p:cNvGrpSpPr/>
            <p:nvPr/>
          </p:nvGrpSpPr>
          <p:grpSpPr>
            <a:xfrm>
              <a:off x="4800600" y="1828800"/>
              <a:ext cx="2666880" cy="4269600"/>
              <a:chOff x="4800600" y="1828800"/>
              <a:chExt cx="2666880" cy="426960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0600" y="1828800"/>
                <a:ext cx="2666880" cy="36576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00240" y="2022480"/>
                <a:ext cx="72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e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7400" y="2666880"/>
                <a:ext cx="220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W archite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79680" y="3429000"/>
                <a:ext cx="202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tailed desig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92800" y="4232160"/>
                <a:ext cx="150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tegr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67640" y="4876920"/>
                <a:ext cx="60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095880" y="24382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95880" y="31240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95880" y="3886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095880" y="4648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63440" y="563868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hardwa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 flipV="1">
              <a:off x="1676520" y="1828800"/>
              <a:ext cx="3124080" cy="1752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7920" y="3962520"/>
              <a:ext cx="3352680" cy="15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666880" y="1828800"/>
            <a:ext cx="5181480" cy="4269600"/>
            <a:chOff x="2666880" y="1828800"/>
            <a:chExt cx="5181480" cy="4269600"/>
          </a:xfrm>
        </p:grpSpPr>
        <p:grpSp>
          <p:nvGrpSpPr>
            <p:cNvPr id="205" name=""/>
            <p:cNvGrpSpPr/>
            <p:nvPr/>
          </p:nvGrpSpPr>
          <p:grpSpPr>
            <a:xfrm>
              <a:off x="5181480" y="1828800"/>
              <a:ext cx="2666880" cy="4269600"/>
              <a:chOff x="5181480" y="1828800"/>
              <a:chExt cx="2666880" cy="4269600"/>
            </a:xfrm>
          </p:grpSpPr>
          <p:sp>
            <p:nvSpPr>
              <p:cNvPr id="206" name=""/>
              <p:cNvSpPr/>
              <p:nvPr/>
            </p:nvSpPr>
            <p:spPr>
              <a:xfrm>
                <a:off x="5181480" y="1828800"/>
                <a:ext cx="2666880" cy="36576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81120" y="2022480"/>
                <a:ext cx="72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e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07560" y="2666880"/>
                <a:ext cx="215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W archite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60560" y="3429000"/>
                <a:ext cx="202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tailed desig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73680" y="4232160"/>
                <a:ext cx="150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tegr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48520" y="4876920"/>
                <a:ext cx="60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76760" y="24382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476760" y="31240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76760" y="3886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76760" y="4648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43960" y="5638680"/>
                <a:ext cx="1232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softwa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2666880" y="1828800"/>
              <a:ext cx="2514600" cy="1752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66880" y="3962520"/>
              <a:ext cx="2514600" cy="15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urrent engine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 projects use many people from multiple discipl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on several tasks at once to reduce desig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edback between tasks helps improve quality, reduce number of later design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urrent engineering techni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ss-functional te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urrent product real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information shar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ed product mana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ier involv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 foc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&amp;T PBX concurrent engine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chmark against competi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breakthrough improv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ize current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new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y new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and impro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quirements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qui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formal description of what customer wa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recise description of what design team should deli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phase links customers with design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methodolog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 for creating a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systems are comple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specifica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esign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anufactu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 processes improv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of design and manufa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put/output relationshi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on-func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 consump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facturing c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siz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-to-marke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od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mbiguo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able: is each requirement satisfied in the final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: requirements do not contradict each 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od requirements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able: can update requirements easi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 why each requirement exis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from source documents to requireme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from requirement to implement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from implementation to requir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 intervie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son with competi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es feedb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ck-ups, prototyp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-bench syndrome (HP): design a product for someone like yo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ecif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ture functional and non-functional proper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y correctness of spec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e spec to implem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specification sty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-oriented vs. data-oriente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ual vs. graphic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is one specification/design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D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telecommunications protocol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-oriented state machine mod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82880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39625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791320" y="2895480"/>
            <a:ext cx="1904760" cy="838440"/>
            <a:chOff x="5791320" y="2895480"/>
            <a:chExt cx="1904760" cy="838440"/>
          </a:xfrm>
        </p:grpSpPr>
        <p:sp>
          <p:nvSpPr>
            <p:cNvPr id="242" name=""/>
            <p:cNvSpPr/>
            <p:nvPr/>
          </p:nvSpPr>
          <p:spPr>
            <a:xfrm>
              <a:off x="5791320" y="2895480"/>
              <a:ext cx="1523880" cy="838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ller go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-ho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315200" y="2895480"/>
              <a:ext cx="380880" cy="45720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15200" y="3352680"/>
              <a:ext cx="380880" cy="38124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943600" y="4876920"/>
            <a:ext cx="1904760" cy="761760"/>
            <a:chOff x="5943600" y="4876920"/>
            <a:chExt cx="1904760" cy="761760"/>
          </a:xfrm>
        </p:grpSpPr>
        <p:sp>
          <p:nvSpPr>
            <p:cNvPr id="246" name=""/>
            <p:cNvSpPr/>
            <p:nvPr/>
          </p:nvSpPr>
          <p:spPr>
            <a:xfrm>
              <a:off x="5943600" y="4876920"/>
              <a:ext cx="1447560" cy="7617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ller g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al 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7238880" y="502920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7057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6" idx="2"/>
          </p:cNvCxnSpPr>
          <p:nvPr/>
        </p:nvCxnSpPr>
        <p:spPr>
          <a:xfrm rot="5400000">
            <a:off x="6076440" y="5276520"/>
            <a:ext cx="22932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46" idx="2"/>
          </p:cNvCxnSpPr>
          <p:nvPr/>
        </p:nvCxnSpPr>
        <p:spPr>
          <a:xfrm flipH="1" rot="16200000">
            <a:off x="7029360" y="5276160"/>
            <a:ext cx="22932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57150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cha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cestor of UML state diagr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d composite sta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stat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st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site states reduce the size of the state transition gra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410080" y="1752480"/>
            <a:ext cx="1905120" cy="403884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4038840"/>
              <a:gd name="textAreaBottom" fmla="*/ 3945960 h 4038840"/>
            </a:gdLst>
            <a:ahLst/>
            <a:rect l="textAreaLeft" t="textAreaTop" r="textAreaRight" b="textAreaBottom"/>
            <a:pathLst>
              <a:path w="21600" h="45787">
                <a:moveTo>
                  <a:pt x="3600" y="0"/>
                </a:moveTo>
                <a:arcTo wR="3600" hR="3600" stAng="16200000" swAng="-5400000"/>
                <a:lnTo>
                  <a:pt x="0" y="42187"/>
                </a:lnTo>
                <a:arcTo wR="3600" hR="3600" stAng="10800000" swAng="-5400000"/>
                <a:lnTo>
                  <a:pt x="18000" y="457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chart OR st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2133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5053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9528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350532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228600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438280" y="403812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3200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59" idx="1"/>
            <a:endCxn id="261" idx="1"/>
          </p:cNvCxnSpPr>
          <p:nvPr/>
        </p:nvCxnSpPr>
        <p:spPr>
          <a:xfrm flipH="1" flipV="1" rot="10800000">
            <a:off x="1599840" y="2399400"/>
            <a:ext cx="2160" cy="2819880"/>
          </a:xfrm>
          <a:prstGeom prst="bentConnector3">
            <a:avLst>
              <a:gd name="adj1" fmla="val -25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1433160" y="1641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85440" y="3013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57040" y="247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99840" y="33177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47560" y="4308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82200" y="583236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9920" y="2209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35812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502920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72400" y="35812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52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1600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57800" y="2666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1"/>
            <a:endCxn id="279" idx="1"/>
          </p:cNvCxnSpPr>
          <p:nvPr/>
        </p:nvCxnSpPr>
        <p:spPr>
          <a:xfrm flipH="1" flipV="1" rot="10800000">
            <a:off x="6019560" y="2476080"/>
            <a:ext cx="2160" cy="2820240"/>
          </a:xfrm>
          <a:prstGeom prst="bentConnector3">
            <a:avLst>
              <a:gd name="adj1" fmla="val -23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5852520" y="1717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05160" y="3089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92600" y="3124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04800" y="59086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13716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952880" y="1905120"/>
            <a:ext cx="3200400" cy="281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chart AND st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930240" y="2244600"/>
            <a:ext cx="83808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82720" y="2244600"/>
            <a:ext cx="83844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30240" y="3921120"/>
            <a:ext cx="83808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82720" y="3921120"/>
            <a:ext cx="83844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16240" y="4911840"/>
            <a:ext cx="83808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615680" y="1863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68320" y="23972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68320" y="270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68320" y="407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768320" y="437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92560" y="453060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1720" y="54864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58840" y="285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539720" y="2854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87640" y="285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368520" y="2854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825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8720" y="270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6868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45920" y="323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2720" y="4419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5040" y="3540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74320" y="437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9760" y="323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128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7800" y="2209680"/>
            <a:ext cx="83808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10280" y="2209680"/>
            <a:ext cx="83844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3886200"/>
            <a:ext cx="83808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3886200"/>
            <a:ext cx="83844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43800" y="5181480"/>
            <a:ext cx="83808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94324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0120" y="44956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53240" y="54514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2819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867280" y="2819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2819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696080" y="2819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9624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348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6892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73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28840" y="3165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1905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1523880"/>
            <a:ext cx="6098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16002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5880" y="426708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-OR tab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nate way of specifying complex condi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1 or (cond2 and !cond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200400" y="3962160"/>
            <a:ext cx="0" cy="19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4114800"/>
            <a:ext cx="4343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2320" y="48420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48840" y="3546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duct metr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-to-mark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t competitors to marke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t marketing window (back-to-schoo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facturing c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AS II 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AS II: aircraft collision avoidanc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s aircraft and air traffic inf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udio warnings and directives to avoid colli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son et al used RMSL language to capture the TCAS specif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S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scrip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bus for transitions between many st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3124080"/>
            <a:ext cx="3657600" cy="281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266688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96252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33412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1080" y="3276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5400" y="441972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7040" y="5410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5880" y="380988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858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5880" y="441972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85800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502920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8580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5880" y="563868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858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315200" y="3809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AS top-level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1905120"/>
            <a:ext cx="7315200" cy="403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144792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2209680"/>
            <a:ext cx="1447920" cy="3812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-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2743200"/>
            <a:ext cx="6095880" cy="2971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3505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33720" y="2362320"/>
            <a:ext cx="16002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-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69200" y="2743200"/>
            <a:ext cx="5802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AS-operational-status {operational,not-operational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62320" y="3886200"/>
            <a:ext cx="358128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358128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-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380988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457200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62320" y="434340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502920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2440" y="38862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-airc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08120" y="4495680"/>
            <a:ext cx="24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-aircraft i:[1..3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03800" y="5029200"/>
            <a:ext cx="33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-s-ground-station i:[1..1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552720" y="25909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010280" y="36576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943240" y="39625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4267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94324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4360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wn-Aircraft AND st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1905120"/>
            <a:ext cx="7848720" cy="426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144792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808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51055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13920" y="1905120"/>
            <a:ext cx="548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n-alt-radio: integer standby-discrete-input: {true,fals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n-alt-barometric:integer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5960" y="30481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-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304812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-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33200" y="30481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-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1440" y="297180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mb-ini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1280" y="297180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end-ini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0840" y="358128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-climb-ini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0840" y="403848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-Descend-ini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1920" y="449568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isory-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35053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4771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9625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76920" y="44956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0280" y="3886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188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4068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560" y="3429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74200" y="3886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6928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49360" y="4114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35053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248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75212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38862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524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75212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6483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5248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75212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57400" y="3505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41148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7280" y="4114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5480" y="35053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20004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38862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20004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95480" y="46483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20004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05320" y="3505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38280" y="4114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11400" y="510552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nd-aural-alarm: {true,false} aural-alarm-inhibit: {true, fals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d-control-out: enumerate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C car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l-known method for analyzing a system and developing an archite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each clas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labora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other classes that work with a cla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m-oriented methodolo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740120" y="2244600"/>
            <a:ext cx="4038840" cy="2438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C card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"/>
          <p:cNvSpPr/>
          <p:nvPr/>
        </p:nvSpPr>
        <p:spPr>
          <a:xfrm>
            <a:off x="473040" y="2244600"/>
            <a:ext cx="4038480" cy="2438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3520" y="2320920"/>
            <a:ext cx="346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na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clas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ibiliti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bora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89880" y="2397240"/>
            <a:ext cx="189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na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’s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57760" y="49528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25560" y="49528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C method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an initial list of cla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description is O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members should discuss their cho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initial responsibilities/collabora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s to define the cla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some usage scen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uses of system and clas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C methodology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k through scen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what works and doesn’t 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ine the classes, responsibilities, and collabora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class relatoinship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class, subcla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C cards for elev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-world clas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vator car, passenger, floor control, car control, car sens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chitectural classes: car state, floor control reader, car control reader, car control sender, schedul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vator responsibilities and collabor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61880" y="1917720"/>
          <a:ext cx="8153640" cy="41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17720"/>
                    <a:ext cx="815364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rs Climate Ob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t on Mars in September 199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did not specify uni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kheed Martin used English; JPL wanted metr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caught by manual inspe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flo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sign fl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quence of steps in a design methodolo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partially or fully autom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ools to transform, verify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low is one component of methodology. Methodology also includes management organization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terfall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model for software develop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8954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7560" y="3581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9040" y="41911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5000" y="4876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680" y="55627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3276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828800" y="33523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9625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200400" y="40381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5720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962520" y="46483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5334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105160" y="53341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terfall model ste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: determine basic characteristi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chitecture: decompose into basic modu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ing: implement and integr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: exercise and uncover b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deploy, fix bugs, upgra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terfall model critiqu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local feedback---may need iterations between coding and requirements, for examp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n’t integrate top-down and bottom-up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hardware is giv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495680" y="495252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4286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5257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4360" y="4967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51055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7480" y="541008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5440" y="17524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ystem fea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6520" y="243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124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5800" y="38098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i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7960" y="441972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hanc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25880" y="1828800"/>
            <a:ext cx="1003320" cy="330120"/>
          </a:xfrm>
          <a:custGeom>
            <a:avLst/>
            <a:gdLst/>
            <a:ahLst/>
            <a:rect l="l" t="t" r="r" b="b"/>
            <a:pathLst>
              <a:path w="632" h="208">
                <a:moveTo>
                  <a:pt x="632" y="96"/>
                </a:moveTo>
                <a:cubicBezTo>
                  <a:pt x="564" y="48"/>
                  <a:pt x="496" y="0"/>
                  <a:pt x="392" y="0"/>
                </a:cubicBezTo>
                <a:cubicBezTo>
                  <a:pt x="288" y="0"/>
                  <a:pt x="16" y="64"/>
                  <a:pt x="8" y="96"/>
                </a:cubicBezTo>
                <a:cubicBezTo>
                  <a:pt x="0" y="128"/>
                  <a:pt x="248" y="176"/>
                  <a:pt x="344" y="192"/>
                </a:cubicBezTo>
                <a:cubicBezTo>
                  <a:pt x="440" y="208"/>
                  <a:pt x="512" y="200"/>
                  <a:pt x="584" y="19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72080" y="2133720"/>
            <a:ext cx="1269720" cy="685800"/>
          </a:xfrm>
          <a:custGeom>
            <a:avLst/>
            <a:gdLst/>
            <a:ahLst/>
            <a:rect l="l" t="t" r="r" b="b"/>
            <a:pathLst>
              <a:path w="800" h="432">
                <a:moveTo>
                  <a:pt x="744" y="0"/>
                </a:moveTo>
                <a:cubicBezTo>
                  <a:pt x="772" y="104"/>
                  <a:pt x="800" y="208"/>
                  <a:pt x="744" y="240"/>
                </a:cubicBezTo>
                <a:cubicBezTo>
                  <a:pt x="688" y="272"/>
                  <a:pt x="528" y="184"/>
                  <a:pt x="408" y="192"/>
                </a:cubicBezTo>
                <a:cubicBezTo>
                  <a:pt x="288" y="200"/>
                  <a:pt x="0" y="248"/>
                  <a:pt x="24" y="288"/>
                </a:cubicBezTo>
                <a:cubicBezTo>
                  <a:pt x="48" y="328"/>
                  <a:pt x="424" y="432"/>
                  <a:pt x="552" y="432"/>
                </a:cubicBezTo>
                <a:cubicBezTo>
                  <a:pt x="680" y="432"/>
                  <a:pt x="752" y="312"/>
                  <a:pt x="792" y="28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2666880"/>
            <a:ext cx="1600200" cy="939960"/>
          </a:xfrm>
          <a:custGeom>
            <a:avLst/>
            <a:gdLst/>
            <a:ahLst/>
            <a:rect l="l" t="t" r="r" b="b"/>
            <a:pathLst>
              <a:path w="1008" h="592">
                <a:moveTo>
                  <a:pt x="864" y="0"/>
                </a:moveTo>
                <a:cubicBezTo>
                  <a:pt x="936" y="128"/>
                  <a:pt x="1008" y="256"/>
                  <a:pt x="960" y="288"/>
                </a:cubicBezTo>
                <a:cubicBezTo>
                  <a:pt x="912" y="320"/>
                  <a:pt x="736" y="184"/>
                  <a:pt x="576" y="192"/>
                </a:cubicBezTo>
                <a:cubicBezTo>
                  <a:pt x="416" y="200"/>
                  <a:pt x="0" y="272"/>
                  <a:pt x="0" y="336"/>
                </a:cubicBezTo>
                <a:cubicBezTo>
                  <a:pt x="0" y="400"/>
                  <a:pt x="416" y="560"/>
                  <a:pt x="576" y="576"/>
                </a:cubicBezTo>
                <a:cubicBezTo>
                  <a:pt x="736" y="592"/>
                  <a:pt x="848" y="512"/>
                  <a:pt x="960" y="43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3352680"/>
            <a:ext cx="1930320" cy="1003320"/>
          </a:xfrm>
          <a:custGeom>
            <a:avLst/>
            <a:gdLst/>
            <a:ahLst/>
            <a:rect l="l" t="t" r="r" b="b"/>
            <a:pathLst>
              <a:path w="1216" h="632">
                <a:moveTo>
                  <a:pt x="1056" y="48"/>
                </a:moveTo>
                <a:cubicBezTo>
                  <a:pt x="1072" y="24"/>
                  <a:pt x="1088" y="0"/>
                  <a:pt x="1104" y="48"/>
                </a:cubicBezTo>
                <a:cubicBezTo>
                  <a:pt x="1120" y="96"/>
                  <a:pt x="1216" y="304"/>
                  <a:pt x="1152" y="336"/>
                </a:cubicBezTo>
                <a:cubicBezTo>
                  <a:pt x="1088" y="368"/>
                  <a:pt x="912" y="224"/>
                  <a:pt x="720" y="240"/>
                </a:cubicBezTo>
                <a:cubicBezTo>
                  <a:pt x="528" y="256"/>
                  <a:pt x="0" y="368"/>
                  <a:pt x="0" y="432"/>
                </a:cubicBezTo>
                <a:cubicBezTo>
                  <a:pt x="0" y="496"/>
                  <a:pt x="528" y="616"/>
                  <a:pt x="720" y="624"/>
                </a:cubicBezTo>
                <a:cubicBezTo>
                  <a:pt x="912" y="632"/>
                  <a:pt x="1032" y="556"/>
                  <a:pt x="1152" y="4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4191120"/>
            <a:ext cx="2095560" cy="863640"/>
          </a:xfrm>
          <a:custGeom>
            <a:avLst/>
            <a:gdLst/>
            <a:ahLst/>
            <a:rect l="l" t="t" r="r" b="b"/>
            <a:pathLst>
              <a:path w="1320" h="544">
                <a:moveTo>
                  <a:pt x="1152" y="0"/>
                </a:moveTo>
                <a:cubicBezTo>
                  <a:pt x="1236" y="104"/>
                  <a:pt x="1320" y="208"/>
                  <a:pt x="1248" y="240"/>
                </a:cubicBezTo>
                <a:cubicBezTo>
                  <a:pt x="1176" y="272"/>
                  <a:pt x="928" y="168"/>
                  <a:pt x="720" y="192"/>
                </a:cubicBezTo>
                <a:cubicBezTo>
                  <a:pt x="512" y="216"/>
                  <a:pt x="0" y="328"/>
                  <a:pt x="0" y="384"/>
                </a:cubicBezTo>
                <a:cubicBezTo>
                  <a:pt x="0" y="440"/>
                  <a:pt x="512" y="544"/>
                  <a:pt x="720" y="528"/>
                </a:cubicBezTo>
                <a:cubicBezTo>
                  <a:pt x="928" y="512"/>
                  <a:pt x="1088" y="400"/>
                  <a:pt x="1248" y="28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3T13:22:55Z</dcterms:modified>
  <cp:revision>77</cp:revision>
  <dc:subject/>
  <dc:title>No Slide Title</dc:title>
</cp:coreProperties>
</file>