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62F-264B-4FDD-8DA0-1F882B62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5F4-8045-4C13-AD36-971FD212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9F7-FA41-4A33-B042-496AC732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81F-E1F6-4B80-BC9E-EC659821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4222-6DCC-4B5D-9956-9F82B8CF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02AD-105B-44BA-9ACC-A7F42ED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A8CA-432A-4084-96A4-9E6D16C7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ACC9-A0A2-4BD8-98EA-30D6C963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1370-8FA7-486A-AE22-F360C9F4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D23F-CEA9-4789-962A-041DD963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D065-2752-4E3C-9ADA-7988B278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89C-6D66-4722-B7D3-FC6F13F4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170E-72FE-4CCB-891F-77D1D17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B279-EB09-49E6-9C7C-9E9E224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AF5A-320C-4D41-9F7C-F2532151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D72A-C06C-40D4-AB70-9F57DC66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B24F-8084-48F3-8F01-5A988DE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854-702F-40FD-975A-EF27DA1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3D4-D845-4CB4-9244-DE3651B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CB8-72E2-41C2-8F3A-C7AA30E1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650-4676-4D54-BCB8-51EAFADB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11B-BDF7-499C-8FDC-D8E514DF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23A-D22D-43ED-8094-9BD9D33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4D3-8FFA-4285-ACEF-600C474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C564-2524-4CA3-B3BA-841F6B2E6A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DCF2-1E19-4575-B723-59F37D99A2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 and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s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y and l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lar buffer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209680"/>
            <a:ext cx="3047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971800"/>
            <a:ext cx="3047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657600"/>
            <a:ext cx="3047760" cy="1905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(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h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lement(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lar buffer implementation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circ_buffer[N], circ_buffer_head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c[N]; /* coefficients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ibuf, i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f=0, ibuff=circ_buff_head, ic=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&lt;N; ibuff=(ibuff==N-1?0:ibuff++), ic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= f + c[ic]*circ_buffer[ibuf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els of prog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code is not a good representation for progra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ms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ves much information implic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s derive intermediate representations to manipulate and optiize the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F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ata flow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represent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s basic block: code with no entry or ex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the minimal ordering requirements on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assignment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x * 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b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basic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x * 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1 = b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assignment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= a +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= x * 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1 = b +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assignment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666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11920" y="270180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419112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419112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08120" y="55627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621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31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8920" y="190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47240" y="19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2362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867280" y="23623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27672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820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404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5960" y="232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245080" y="239724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857640" y="3311640"/>
            <a:ext cx="1158840" cy="9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56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62320"/>
            <a:ext cx="14479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76" idx="2"/>
            <a:endCxn id="170" idx="6"/>
          </p:cNvCxnSpPr>
          <p:nvPr/>
        </p:nvCxnSpPr>
        <p:spPr>
          <a:xfrm rot="5400000">
            <a:off x="7081560" y="3163680"/>
            <a:ext cx="2099160" cy="56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75438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77120" y="5222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FGs and partial or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or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+b, c-d; b+d x*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o pairs of operations in any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743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4840" y="27781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267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267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5080" y="1946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56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14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80160" y="201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438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600200" y="24382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352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11120" y="5257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340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68520" y="23972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78000" y="2473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90560" y="3352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8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2438280"/>
            <a:ext cx="14475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0" idx="2"/>
            <a:endCxn id="195" idx="6"/>
          </p:cNvCxnSpPr>
          <p:nvPr/>
        </p:nvCxnSpPr>
        <p:spPr>
          <a:xfrm rot="5400000">
            <a:off x="2813760" y="3240000"/>
            <a:ext cx="2099520" cy="56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3276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096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-data flow grap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DF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presents control and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data flow graphs as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ypes of n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flow n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apsulates a data flow grap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operations in basic block form for simpli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971800"/>
            <a:ext cx="24386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c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895480"/>
            <a:ext cx="1676520" cy="11430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05120" y="2936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7560" y="392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38640" y="521496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quival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3048120"/>
            <a:ext cx="2667240" cy="838080"/>
          </a:xfrm>
          <a:prstGeom prst="hexagon">
            <a:avLst>
              <a:gd name="adj" fmla="val 79564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266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1055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38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05320" y="293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8620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24480" y="3774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05720" y="293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att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sign patter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generalized description of the design of a certain type of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 fills in details to customize the pattern to a particular programming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DFG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cond1) bb1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bb2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3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(test1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c1: bb4(); bre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c2: bb5(); bre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c3: bb6(); bre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1828800"/>
            <a:ext cx="14479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18288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27432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36576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3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486400"/>
            <a:ext cx="9907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4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2057400" cy="609480"/>
          </a:xfrm>
          <a:prstGeom prst="hexagon">
            <a:avLst>
              <a:gd name="adj" fmla="val 84392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486400"/>
            <a:ext cx="9903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5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5486400"/>
            <a:ext cx="9903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6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77120" y="1641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29560" y="232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38480" y="47656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0800" y="5222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38880" y="4613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9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39" idx="2"/>
            <a:endCxn id="240" idx="3"/>
          </p:cNvCxnSpPr>
          <p:nvPr/>
        </p:nvCxnSpPr>
        <p:spPr>
          <a:xfrm rot="5400000">
            <a:off x="7409520" y="2190600"/>
            <a:ext cx="6105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670572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105160" y="4952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72400" y="4952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543440" y="6095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lo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(i=0; i&lt;N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_body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=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(i&lt;N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_body(); i++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3733920"/>
            <a:ext cx="3810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3200400"/>
            <a:ext cx="1523880" cy="9907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648320"/>
            <a:ext cx="1828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_bod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10080" y="40798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29760" y="316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6" idx="1"/>
            <a:endCxn id="265" idx="1"/>
          </p:cNvCxnSpPr>
          <p:nvPr/>
        </p:nvCxnSpPr>
        <p:spPr>
          <a:xfrm flipH="1" rot="10800000">
            <a:off x="5790240" y="3695040"/>
            <a:ext cx="153000" cy="1410480"/>
          </a:xfrm>
          <a:prstGeom prst="bentConnector3">
            <a:avLst>
              <a:gd name="adj1" fmla="val -1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5943600" y="2057400"/>
            <a:ext cx="15238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057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mbly and lin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 steps in compi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2666880"/>
            <a:ext cx="7621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2666880"/>
            <a:ext cx="144792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2666880"/>
            <a:ext cx="137160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05720" y="2743200"/>
            <a:ext cx="144756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743200"/>
            <a:ext cx="7617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2819520"/>
            <a:ext cx="7621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274320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819520"/>
            <a:ext cx="137160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4648320"/>
            <a:ext cx="144792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4724280"/>
            <a:ext cx="137160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4648320"/>
            <a:ext cx="144792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0199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88584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75212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14400" y="4343400"/>
            <a:ext cx="838080" cy="1295280"/>
            <a:chOff x="914400" y="4343400"/>
            <a:chExt cx="838080" cy="1295280"/>
          </a:xfrm>
        </p:grpSpPr>
        <p:sp>
          <p:nvSpPr>
            <p:cNvPr id="295" name=""/>
            <p:cNvSpPr/>
            <p:nvPr/>
          </p:nvSpPr>
          <p:spPr>
            <a:xfrm>
              <a:off x="990720" y="4343400"/>
              <a:ext cx="685800" cy="1295280"/>
            </a:xfrm>
            <a:prstGeom prst="rect">
              <a:avLst/>
            </a:prstGeom>
            <a:solidFill>
              <a:srgbClr val="5e57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4800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00200" y="44197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0200" y="45720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0200" y="47242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0200" y="48769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50292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814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3341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54864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44197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45720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47242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48769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400" y="50292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14400" y="518148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4400" y="5334120"/>
              <a:ext cx="152280" cy="75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14400" y="5486400"/>
              <a:ext cx="152280" cy="763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-module prog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s may be composed from several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es become more specific during proce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lative addr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measured relative to the start of a modul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bsolute addr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measured relative to the start of the CPU address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mbl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ta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binary for symbolic instruc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labels into addres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pseudo-ops (data, etc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one-to-one trans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y labe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4,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bol t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0,r1,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3,r4,r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P r0,r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 r5,r6,r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mbly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bol table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rogram location counter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L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determine address of each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program, keeping count of PL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es are generated at assembly time, not execu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bol tabl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0,r1,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3,r4,r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P r0,r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 r5,r6,r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401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2362320"/>
            <a:ext cx="4012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6480" y="1523880"/>
            <a:ext cx="1455120" cy="609840"/>
            <a:chOff x="366480" y="1523880"/>
            <a:chExt cx="1455120" cy="609840"/>
          </a:xfrm>
        </p:grpSpPr>
        <p:sp>
          <p:nvSpPr>
            <p:cNvPr id="327" name=""/>
            <p:cNvSpPr/>
            <p:nvPr/>
          </p:nvSpPr>
          <p:spPr>
            <a:xfrm>
              <a:off x="382320" y="1523880"/>
              <a:ext cx="1439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66480" y="1565280"/>
              <a:ext cx="1419840" cy="568440"/>
              <a:chOff x="366480" y="1565280"/>
              <a:chExt cx="1419840" cy="568440"/>
            </a:xfrm>
          </p:grpSpPr>
          <p:sp>
            <p:nvSpPr>
              <p:cNvPr id="329" name=""/>
              <p:cNvSpPr/>
              <p:nvPr/>
            </p:nvSpPr>
            <p:spPr>
              <a:xfrm>
                <a:off x="551880" y="2133720"/>
                <a:ext cx="930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6480" y="156528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382680" y="2057400"/>
            <a:ext cx="1455480" cy="609480"/>
            <a:chOff x="382680" y="2057400"/>
            <a:chExt cx="1455480" cy="609480"/>
          </a:xfrm>
        </p:grpSpPr>
        <p:sp>
          <p:nvSpPr>
            <p:cNvPr id="332" name=""/>
            <p:cNvSpPr/>
            <p:nvPr/>
          </p:nvSpPr>
          <p:spPr>
            <a:xfrm>
              <a:off x="398520" y="2057400"/>
              <a:ext cx="14396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82680" y="2098800"/>
              <a:ext cx="1419840" cy="568080"/>
              <a:chOff x="382680" y="2098800"/>
              <a:chExt cx="1419840" cy="568080"/>
            </a:xfrm>
          </p:grpSpPr>
          <p:sp>
            <p:nvSpPr>
              <p:cNvPr id="334" name=""/>
              <p:cNvSpPr/>
              <p:nvPr/>
            </p:nvSpPr>
            <p:spPr>
              <a:xfrm>
                <a:off x="568080" y="2666880"/>
                <a:ext cx="931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2680" y="209880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382320" y="2590920"/>
            <a:ext cx="1455120" cy="609120"/>
            <a:chOff x="382320" y="2590920"/>
            <a:chExt cx="1455120" cy="609120"/>
          </a:xfrm>
        </p:grpSpPr>
        <p:sp>
          <p:nvSpPr>
            <p:cNvPr id="337" name=""/>
            <p:cNvSpPr/>
            <p:nvPr/>
          </p:nvSpPr>
          <p:spPr>
            <a:xfrm>
              <a:off x="398160" y="2590920"/>
              <a:ext cx="14392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382320" y="2631960"/>
              <a:ext cx="1419840" cy="568080"/>
              <a:chOff x="382320" y="2631960"/>
              <a:chExt cx="1419840" cy="568080"/>
            </a:xfrm>
          </p:grpSpPr>
          <p:sp>
            <p:nvSpPr>
              <p:cNvPr id="339" name=""/>
              <p:cNvSpPr/>
              <p:nvPr/>
            </p:nvSpPr>
            <p:spPr>
              <a:xfrm>
                <a:off x="567720" y="3200040"/>
                <a:ext cx="930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2320" y="263196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382320" y="3124080"/>
            <a:ext cx="1455120" cy="609840"/>
            <a:chOff x="382320" y="3124080"/>
            <a:chExt cx="1455120" cy="609840"/>
          </a:xfrm>
        </p:grpSpPr>
        <p:sp>
          <p:nvSpPr>
            <p:cNvPr id="342" name=""/>
            <p:cNvSpPr/>
            <p:nvPr/>
          </p:nvSpPr>
          <p:spPr>
            <a:xfrm>
              <a:off x="398160" y="3124080"/>
              <a:ext cx="1439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82320" y="3165480"/>
              <a:ext cx="1419840" cy="568440"/>
              <a:chOff x="382320" y="3165480"/>
              <a:chExt cx="1419840" cy="568440"/>
            </a:xfrm>
          </p:grpSpPr>
          <p:sp>
            <p:nvSpPr>
              <p:cNvPr id="344" name=""/>
              <p:cNvSpPr/>
              <p:nvPr/>
            </p:nvSpPr>
            <p:spPr>
              <a:xfrm>
                <a:off x="567720" y="3733920"/>
                <a:ext cx="930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2320" y="3165480"/>
                <a:ext cx="141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LC=0x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-pass assembl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binary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ve address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label values may not be known at assembly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s within the module may be kept in relative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keep track of external labels---can’t generate full binary for instructions that use external lab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st design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209680"/>
            <a:ext cx="27432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971800"/>
            <a:ext cx="2743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429000"/>
            <a:ext cx="2743200" cy="1981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-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-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-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25909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-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007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46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seudo-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eudo-ops do not generate instru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R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ts program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Q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enerates symbol table entry without advancing PL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ta state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ine data bloc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s several object modules into a single executable mod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modules in ord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lve labels across modu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1752480" y="2479680"/>
            <a:ext cx="2816280" cy="459720"/>
            <a:chOff x="1752480" y="2479680"/>
            <a:chExt cx="2816280" cy="459720"/>
          </a:xfrm>
        </p:grpSpPr>
        <p:sp>
          <p:nvSpPr>
            <p:cNvPr id="355" name=""/>
            <p:cNvSpPr/>
            <p:nvPr/>
          </p:nvSpPr>
          <p:spPr>
            <a:xfrm>
              <a:off x="1752480" y="2514600"/>
              <a:ext cx="304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90600" y="247968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ernal 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428280" y="1523880"/>
            <a:ext cx="1524600" cy="914400"/>
            <a:chOff x="3428280" y="1523880"/>
            <a:chExt cx="1524600" cy="914400"/>
          </a:xfrm>
        </p:grpSpPr>
        <p:sp>
          <p:nvSpPr>
            <p:cNvPr id="358" name=""/>
            <p:cNvSpPr/>
            <p:nvPr/>
          </p:nvSpPr>
          <p:spPr>
            <a:xfrm>
              <a:off x="4648320" y="1981080"/>
              <a:ext cx="30456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28280" y="15238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y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nals and entry po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012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1,r2,r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y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 r4,yy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r3,r4,r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209680" y="2286000"/>
            <a:ext cx="236232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143000" y="2286000"/>
            <a:ext cx="586728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ule ord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modules must be placed in absolute positions in the memory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oad ma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linker flags control the order of modu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4038480"/>
            <a:ext cx="19810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198108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791320"/>
            <a:ext cx="1981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5410080"/>
            <a:ext cx="1981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lin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perating systems link modules dynamically at run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s one copy of library among all executing progra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programs to be updated with new versions of libr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attern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machine is useful in many contex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ing user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ing to complex stimu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ing sequential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7339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3733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029200"/>
            <a:ext cx="129564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0"/>
            <a:endCxn id="100" idx="2"/>
          </p:cNvCxnSpPr>
          <p:nvPr/>
        </p:nvCxnSpPr>
        <p:spPr>
          <a:xfrm flipH="1" rot="16200000">
            <a:off x="4115520" y="2742120"/>
            <a:ext cx="610560" cy="2160"/>
          </a:xfrm>
          <a:prstGeom prst="curvedConnector5">
            <a:avLst>
              <a:gd name="adj1" fmla="val -37463"/>
              <a:gd name="adj2" fmla="val 26400000"/>
              <a:gd name="adj3" fmla="val -37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102" idx="2"/>
          </p:cNvCxnSpPr>
          <p:nvPr/>
        </p:nvCxnSpPr>
        <p:spPr>
          <a:xfrm flipH="1" rot="16200000">
            <a:off x="6401520" y="4036680"/>
            <a:ext cx="610200" cy="2160"/>
          </a:xfrm>
          <a:prstGeom prst="curvedConnector5">
            <a:avLst>
              <a:gd name="adj1" fmla="val -37485"/>
              <a:gd name="adj2" fmla="val 28800000"/>
              <a:gd name="adj3" fmla="val -37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029200" y="274320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05160" y="43434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4343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419720" y="3124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3434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24080" y="40384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28195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41600" y="20988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t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6520" y="281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t/timer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56560" y="3317760"/>
            <a:ext cx="102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9840" y="50292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elt/timer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8480" y="42670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65240" y="453708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e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2640" y="39625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t/buzzer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360" y="32767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t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43828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e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209680"/>
            <a:ext cx="3047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971800"/>
            <a:ext cx="3047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657600"/>
            <a:ext cx="3047760" cy="1905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tep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IDLE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SEATED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BELTED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define BUZZER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tch (stat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IDLE: if (seat) { state = SEATED; timer_on = TRUE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SEATED: if (belt) state = BELT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f (timer) state = BUZZ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lar buff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810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9810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9810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33720" y="2819520"/>
            <a:ext cx="3047760" cy="891000"/>
            <a:chOff x="2133720" y="2819520"/>
            <a:chExt cx="3047760" cy="891000"/>
          </a:xfrm>
        </p:grpSpPr>
        <p:sp>
          <p:nvSpPr>
            <p:cNvPr id="136" name=""/>
            <p:cNvSpPr/>
            <p:nvPr/>
          </p:nvSpPr>
          <p:spPr>
            <a:xfrm rot="16200000">
              <a:off x="3505320" y="1447920"/>
              <a:ext cx="304560" cy="3047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2880" y="32004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95480" y="2819160"/>
            <a:ext cx="3048120" cy="891360"/>
            <a:chOff x="2895480" y="2819160"/>
            <a:chExt cx="3048120" cy="891360"/>
          </a:xfrm>
        </p:grpSpPr>
        <p:sp>
          <p:nvSpPr>
            <p:cNvPr id="139" name=""/>
            <p:cNvSpPr/>
            <p:nvPr/>
          </p:nvSpPr>
          <p:spPr>
            <a:xfrm rot="16200000">
              <a:off x="4267080" y="1447560"/>
              <a:ext cx="304920" cy="30481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9200 h 3048120"/>
                <a:gd name="textAreaBottom" fmla="*/ 296892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8320" y="32004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57600" y="2819520"/>
            <a:ext cx="3047760" cy="891000"/>
            <a:chOff x="3657600" y="2819520"/>
            <a:chExt cx="3047760" cy="891000"/>
          </a:xfrm>
        </p:grpSpPr>
        <p:sp>
          <p:nvSpPr>
            <p:cNvPr id="142" name=""/>
            <p:cNvSpPr/>
            <p:nvPr/>
          </p:nvSpPr>
          <p:spPr>
            <a:xfrm rot="16200000">
              <a:off x="5029200" y="1447920"/>
              <a:ext cx="304560" cy="3047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60440" y="32004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580200" y="37339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34340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434340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4343400"/>
            <a:ext cx="7617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34340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3880" y="533412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3434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43434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343400"/>
            <a:ext cx="7617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Wayne Wolf</cp:lastModifiedBy>
  <dcterms:modified xsi:type="dcterms:W3CDTF">2000-07-11T15:58:17Z</dcterms:modified>
  <cp:revision>34</cp:revision>
  <dc:subject/>
  <dc:title>No Slide Title</dc:title>
</cp:coreProperties>
</file>