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1D6-7D25-43F3-9AE3-816C9F80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25-064C-48DF-A1A0-EFFD34DC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977-EE33-49CE-9491-933C503B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FDD-1CB6-4789-8269-F4C82ED2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692-5749-405B-918D-6D11D360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8AF5-8048-4CCF-81EB-5557913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BEAA-3D9E-4A49-819B-7351C9D7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4FE-D1B4-4082-9BDC-08281FB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A70-BD45-4A11-B414-71BC6B9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D55-9B76-4534-A30C-C147542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1B0-7D5C-497D-B00E-399E43D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486-EB2D-4C7E-82E7-48A52C0B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E5D-79E5-46B3-8B93-044CC12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C79-9E09-4ED7-BF41-393D29E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1A2D-97E4-41BE-81E2-FD48CC2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C72B-F37A-440A-8C0B-315A7EBA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6B46-D134-45A3-B4E8-8B222B9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A44-6E92-48D1-A470-5503D13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418-4CE4-4396-B338-77AEFC1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F73-BEBD-4F4F-963D-60E98EA8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3FA-FBA2-4146-A65B-4FE03CF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1B4-CE0F-49C9-B195-52667CB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CF9-1282-4DE4-8541-756B5C5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D79-40FD-4BF9-803A-7A9DD6E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7BA-708D-42B6-88B0-50E2A8CB9F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024-611B-4AFF-A9DB-1E845E88F0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mana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organiz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lly-assoc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ny memory location can be stored anywhere in the cache (almost never implemente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rect-mapp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ach memory location maps onto exactly on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-way set-assoc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each memory location can go into one of n s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performance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frequently-accessed locations in fast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retrieves more than one word at a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 accesses are faster after first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981080"/>
            <a:ext cx="83844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8769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638680" y="48769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267080"/>
            <a:ext cx="99036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267080"/>
            <a:ext cx="9907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267080"/>
            <a:ext cx="9907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1960" y="560376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760" y="5562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981080"/>
            <a:ext cx="175248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1981080"/>
            <a:ext cx="335268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9" idx="2"/>
            <a:endCxn id="137" idx="2"/>
          </p:cNvCxnSpPr>
          <p:nvPr/>
        </p:nvCxnSpPr>
        <p:spPr>
          <a:xfrm flipH="1" rot="16200000">
            <a:off x="2589840" y="3314520"/>
            <a:ext cx="191160" cy="331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1" idx="3"/>
            <a:endCxn id="138" idx="1"/>
          </p:cNvCxnSpPr>
          <p:nvPr/>
        </p:nvCxnSpPr>
        <p:spPr>
          <a:xfrm>
            <a:off x="3504960" y="4572000"/>
            <a:ext cx="2246400" cy="534240"/>
          </a:xfrm>
          <a:prstGeom prst="bentConnector3">
            <a:avLst>
              <a:gd name="adj1" fmla="val 707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" name=""/>
          <p:cNvGrpSpPr/>
          <p:nvPr/>
        </p:nvGrpSpPr>
        <p:grpSpPr>
          <a:xfrm>
            <a:off x="1028880" y="2286000"/>
            <a:ext cx="7124400" cy="1981080"/>
            <a:chOff x="1028880" y="2286000"/>
            <a:chExt cx="7124400" cy="1981080"/>
          </a:xfrm>
        </p:grpSpPr>
        <p:sp>
          <p:nvSpPr>
            <p:cNvPr id="153" name=""/>
            <p:cNvSpPr/>
            <p:nvPr/>
          </p:nvSpPr>
          <p:spPr>
            <a:xfrm>
              <a:off x="2209680" y="2286000"/>
              <a:ext cx="83844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8120" y="2286000"/>
              <a:ext cx="175248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x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2286000"/>
              <a:ext cx="335268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yte byte byt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39" idx="0"/>
              <a:endCxn id="153" idx="1"/>
            </p:cNvCxnSpPr>
            <p:nvPr/>
          </p:nvCxnSpPr>
          <p:spPr>
            <a:xfrm flipH="1" flipV="1" rot="5400000">
              <a:off x="723600" y="2781000"/>
              <a:ext cx="1791360" cy="1181520"/>
            </a:xfrm>
            <a:prstGeom prst="bentConnector2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1027800" y="2666880"/>
            <a:ext cx="3544200" cy="2400480"/>
            <a:chOff x="1027800" y="2666880"/>
            <a:chExt cx="3544200" cy="2400480"/>
          </a:xfrm>
        </p:grpSpPr>
        <p:cxnSp>
          <p:nvCxnSpPr>
            <p:cNvPr id="158" name=""/>
            <p:cNvCxnSpPr>
              <a:stCxn id="139" idx="2"/>
              <a:endCxn id="137" idx="2"/>
            </p:cNvCxnSpPr>
            <p:nvPr/>
          </p:nvCxnSpPr>
          <p:spPr>
            <a:xfrm flipH="1" rot="16200000">
              <a:off x="2589840" y="3314520"/>
              <a:ext cx="191160" cy="3315240"/>
            </a:xfrm>
            <a:prstGeom prst="bentConnector2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4572000" y="2666880"/>
              <a:ext cx="0" cy="21337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504960" y="2666880"/>
            <a:ext cx="2895840" cy="3353040"/>
            <a:chOff x="3504960" y="2666880"/>
            <a:chExt cx="2895840" cy="3353040"/>
          </a:xfrm>
        </p:grpSpPr>
        <p:cxnSp>
          <p:nvCxnSpPr>
            <p:cNvPr id="161" name=""/>
            <p:cNvCxnSpPr/>
            <p:nvPr/>
          </p:nvCxnSpPr>
          <p:spPr>
            <a:xfrm>
              <a:off x="3504960" y="4572000"/>
              <a:ext cx="2246400" cy="534240"/>
            </a:xfrm>
            <a:prstGeom prst="bentConnector3">
              <a:avLst>
                <a:gd name="adj1" fmla="val 70748"/>
              </a:avLst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</p:cxnSp>
        <p:grpSp>
          <p:nvGrpSpPr>
            <p:cNvPr id="162" name=""/>
            <p:cNvGrpSpPr/>
            <p:nvPr/>
          </p:nvGrpSpPr>
          <p:grpSpPr>
            <a:xfrm>
              <a:off x="5410080" y="2666880"/>
              <a:ext cx="990720" cy="3353040"/>
              <a:chOff x="5410080" y="2666880"/>
              <a:chExt cx="990720" cy="3353040"/>
            </a:xfrm>
          </p:grpSpPr>
          <p:sp>
            <p:nvSpPr>
              <p:cNvPr id="163" name=""/>
              <p:cNvSpPr/>
              <p:nvPr/>
            </p:nvSpPr>
            <p:spPr>
              <a:xfrm>
                <a:off x="5867280" y="2666880"/>
                <a:ext cx="0" cy="221004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10080" y="5638680"/>
                <a:ext cx="990720" cy="381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by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5334120"/>
                <a:ext cx="0" cy="30456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2209680" y="3200400"/>
            <a:ext cx="59436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c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rite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rite-throu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mmediately copy write to ma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rite-b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rite to main memory only when location is removed from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lo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locations map onto the same cache bl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lict misses are easy to gener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a[] uses locations 0, 1, 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b[] uses locations 1024, 1025, 1026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 a[i] + b[i] generates conflict mi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-associative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t of direct-mapped cach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743200"/>
            <a:ext cx="13716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4680" y="3276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43400" y="4876920"/>
            <a:ext cx="9144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8480" y="4115160"/>
            <a:ext cx="761400" cy="1370880"/>
            <a:chOff x="3048480" y="4115160"/>
            <a:chExt cx="761400" cy="1370880"/>
          </a:xfrm>
        </p:grpSpPr>
        <p:sp>
          <p:nvSpPr>
            <p:cNvPr id="179" name=""/>
            <p:cNvSpPr/>
            <p:nvPr/>
          </p:nvSpPr>
          <p:spPr>
            <a:xfrm rot="5400000">
              <a:off x="2743560" y="4419720"/>
              <a:ext cx="13708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5400000">
              <a:off x="2743920" y="4420080"/>
              <a:ext cx="137088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3277080" y="4419720"/>
              <a:ext cx="303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3277440" y="4420080"/>
              <a:ext cx="30384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828800" y="41911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4191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733560" y="419112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800" y="56386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0200" y="5680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41911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1911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105160" y="41911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direct-mapped vs. set-associa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31840" y="1886040"/>
          <a:ext cx="682956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886040"/>
                    <a:ext cx="68295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0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10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01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00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-mapped cache behavior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0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111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oc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s and 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743200"/>
            <a:ext cx="167652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2476440" y="3161880"/>
            <a:ext cx="213372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4382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438280"/>
            <a:ext cx="18288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1424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62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160" y="44197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20968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3240" y="4343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53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26708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8480" y="22096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14600" y="3047760"/>
            <a:ext cx="4343400" cy="609840"/>
            <a:chOff x="2514600" y="3047760"/>
            <a:chExt cx="4343400" cy="609840"/>
          </a:xfrm>
        </p:grpSpPr>
        <p:sp>
          <p:nvSpPr>
            <p:cNvPr id="103" name=""/>
            <p:cNvSpPr/>
            <p:nvPr/>
          </p:nvSpPr>
          <p:spPr>
            <a:xfrm>
              <a:off x="2514600" y="3048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3657600"/>
              <a:ext cx="28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343400" y="304776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0481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14240" y="2743200"/>
            <a:ext cx="2362680" cy="1219320"/>
            <a:chOff x="2514240" y="2743200"/>
            <a:chExt cx="2362680" cy="1219320"/>
          </a:xfrm>
        </p:grpSpPr>
        <p:sp>
          <p:nvSpPr>
            <p:cNvPr id="108" name=""/>
            <p:cNvSpPr/>
            <p:nvPr/>
          </p:nvSpPr>
          <p:spPr>
            <a:xfrm flipH="1">
              <a:off x="3962520" y="27432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14240" y="396252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240" y="3962520"/>
            <a:ext cx="4343400" cy="304560"/>
            <a:chOff x="2514240" y="3962520"/>
            <a:chExt cx="4343400" cy="304560"/>
          </a:xfrm>
        </p:grpSpPr>
        <p:sp>
          <p:nvSpPr>
            <p:cNvPr id="111" name=""/>
            <p:cNvSpPr/>
            <p:nvPr/>
          </p:nvSpPr>
          <p:spPr>
            <a:xfrm flipH="1">
              <a:off x="3962160" y="4267080"/>
              <a:ext cx="28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514240" y="39625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way set-associtive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tate of cache (twice as big as direct-mappe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da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way set-associative cach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tate of cache (same size as direct-mappe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0 da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ta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lk 1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ca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A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Kbyte, 32-way, 32-byte block instruction c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Kbyte, 32-way, 32-byte block data cache (write-back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-instruction, 2-way instruction c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management unit (MMU) translates addre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505320"/>
            <a:ext cx="16765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200400"/>
            <a:ext cx="18288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429000"/>
            <a:ext cx="1905120" cy="18288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3520" y="33940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4290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programs to move in physical memory during exec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irtual memo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images kept in secondary stor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returned to main memory on demand during exec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age fa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est for location not resident 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some sort of register/table to allow arbitrary mappings of logical to physical addr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basic sche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gmen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g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ation and paging can be combined (x86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gments and pa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1752480"/>
            <a:ext cx="3124080" cy="419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905120"/>
            <a:ext cx="3124080" cy="1752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648320"/>
            <a:ext cx="3124080" cy="10666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905120"/>
            <a:ext cx="312408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2286000"/>
            <a:ext cx="312408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gment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09680"/>
            <a:ext cx="28191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bas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2819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962520"/>
            <a:ext cx="16765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5334120"/>
            <a:ext cx="28195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1" idx="2"/>
            <a:endCxn id="235" idx="2"/>
          </p:cNvCxnSpPr>
          <p:nvPr/>
        </p:nvCxnSpPr>
        <p:spPr>
          <a:xfrm flipH="1" rot="16200000">
            <a:off x="3523320" y="1390320"/>
            <a:ext cx="686520" cy="339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47800" y="385128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4720" y="3886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low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4720" y="4267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upp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2209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209680"/>
            <a:ext cx="1447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48769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876920"/>
            <a:ext cx="14475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057400"/>
            <a:ext cx="2590920" cy="3505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971800"/>
            <a:ext cx="25909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i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733920"/>
            <a:ext cx="16765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7" idx="2"/>
            <a:endCxn id="252" idx="3"/>
          </p:cNvCxnSpPr>
          <p:nvPr/>
        </p:nvCxnSpPr>
        <p:spPr>
          <a:xfrm rot="5400000">
            <a:off x="3961800" y="2057400"/>
            <a:ext cx="45792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2" idx="2"/>
            <a:endCxn id="253" idx="1"/>
          </p:cNvCxnSpPr>
          <p:nvPr/>
        </p:nvCxnSpPr>
        <p:spPr>
          <a:xfrm flipH="1" rot="16200000">
            <a:off x="3314520" y="209520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table organiz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508040" y="537516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7760" y="537516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905120"/>
            <a:ext cx="2362320" cy="3429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8954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038480" y="2819520"/>
            <a:ext cx="1143000" cy="1447560"/>
            <a:chOff x="4038480" y="2819520"/>
            <a:chExt cx="1143000" cy="1447560"/>
          </a:xfrm>
        </p:grpSpPr>
        <p:sp>
          <p:nvSpPr>
            <p:cNvPr id="264" name=""/>
            <p:cNvSpPr/>
            <p:nvPr/>
          </p:nvSpPr>
          <p:spPr>
            <a:xfrm>
              <a:off x="4038480" y="358128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38480" y="388620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320040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480" y="281952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867280" y="1752480"/>
            <a:ext cx="1143000" cy="1447560"/>
            <a:chOff x="5867280" y="1752480"/>
            <a:chExt cx="1143000" cy="1447560"/>
          </a:xfrm>
        </p:grpSpPr>
        <p:sp>
          <p:nvSpPr>
            <p:cNvPr id="269" name=""/>
            <p:cNvSpPr/>
            <p:nvPr/>
          </p:nvSpPr>
          <p:spPr>
            <a:xfrm>
              <a:off x="5867280" y="251424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28191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67280" y="21333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175248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67280" y="3809880"/>
            <a:ext cx="1143000" cy="1447560"/>
            <a:chOff x="5867280" y="3809880"/>
            <a:chExt cx="1143000" cy="1447560"/>
          </a:xfrm>
        </p:grpSpPr>
        <p:sp>
          <p:nvSpPr>
            <p:cNvPr id="274" name=""/>
            <p:cNvSpPr/>
            <p:nvPr/>
          </p:nvSpPr>
          <p:spPr>
            <a:xfrm>
              <a:off x="5867280" y="4571640"/>
              <a:ext cx="11430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48765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419076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67280" y="3809880"/>
              <a:ext cx="114300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772400" y="2286000"/>
            <a:ext cx="12193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814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3429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286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e op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main memory locations are mapped onto on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have caches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+ instructions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ccess time is no longer determin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ing address transl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translation tables require main memory ac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L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ache for address trans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m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region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: 1 Mbyte blo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age: 64 kby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page: 4 kby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ddress is marked as section-mapped or page-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level translation sche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ddress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1905120"/>
            <a:ext cx="17528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1905120"/>
            <a:ext cx="12193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905120"/>
            <a:ext cx="12952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5029200"/>
            <a:ext cx="3657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828800"/>
            <a:ext cx="2514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2743200"/>
            <a:ext cx="25146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lev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895480"/>
            <a:ext cx="2514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4419720"/>
            <a:ext cx="25146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lev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0"/>
            <a:ext cx="2514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971800"/>
            <a:ext cx="1600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962520"/>
            <a:ext cx="1600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at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1" idx="3"/>
            <a:endCxn id="292" idx="3"/>
          </p:cNvCxnSpPr>
          <p:nvPr/>
        </p:nvCxnSpPr>
        <p:spPr>
          <a:xfrm>
            <a:off x="2971800" y="2171880"/>
            <a:ext cx="2160" cy="1257840"/>
          </a:xfrm>
          <a:prstGeom prst="bentConnector3">
            <a:avLst>
              <a:gd name="adj1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2"/>
            <a:endCxn id="293" idx="3"/>
          </p:cNvCxnSpPr>
          <p:nvPr/>
        </p:nvCxnSpPr>
        <p:spPr>
          <a:xfrm rot="5400000">
            <a:off x="3333240" y="2000160"/>
            <a:ext cx="72468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2971800" y="2362320"/>
            <a:ext cx="2743200" cy="838080"/>
            <a:chOff x="2971800" y="2362320"/>
            <a:chExt cx="2743200" cy="838080"/>
          </a:xfrm>
        </p:grpSpPr>
        <p:sp>
          <p:nvSpPr>
            <p:cNvPr id="301" name=""/>
            <p:cNvSpPr/>
            <p:nvPr/>
          </p:nvSpPr>
          <p:spPr>
            <a:xfrm>
              <a:off x="5715000" y="23623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71800" y="32004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3" name=""/>
          <p:cNvCxnSpPr>
            <a:stCxn id="296" idx="2"/>
            <a:endCxn id="295" idx="3"/>
          </p:cNvCxnSpPr>
          <p:nvPr/>
        </p:nvCxnSpPr>
        <p:spPr>
          <a:xfrm rot="5400000">
            <a:off x="3504600" y="2895480"/>
            <a:ext cx="1334160" cy="24012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4" name=""/>
          <p:cNvGrpSpPr/>
          <p:nvPr/>
        </p:nvGrpSpPr>
        <p:grpSpPr>
          <a:xfrm>
            <a:off x="2971800" y="2362320"/>
            <a:ext cx="3886200" cy="2514240"/>
            <a:chOff x="2971800" y="2362320"/>
            <a:chExt cx="3886200" cy="2514240"/>
          </a:xfrm>
        </p:grpSpPr>
        <p:sp>
          <p:nvSpPr>
            <p:cNvPr id="305" name=""/>
            <p:cNvSpPr/>
            <p:nvPr/>
          </p:nvSpPr>
          <p:spPr>
            <a:xfrm flipV="1">
              <a:off x="2971800" y="4190760"/>
              <a:ext cx="2743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0" y="2362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77120" y="4419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h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ired location is in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che mi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quired location is not in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orking 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t of locations used by program in a time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mi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ulso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location has never been acces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apac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orking set is too lar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ultiple locations in working set map to same cache e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system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 = cache h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a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ache access time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a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main memory access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rage memory access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h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a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(1-h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levels of cach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590920"/>
            <a:ext cx="167616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97180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286000"/>
            <a:ext cx="1523880" cy="2362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429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429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-level cache access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ache h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rate for miss on L1, hit on L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rage memory access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2 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-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lacement polic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placement poli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trategy for choosing which cache entry to throw out to make room for a new memory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opular strateg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-recently used (LRU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10:33:27Z</dcterms:created>
  <dc:creator>Wayne Wolf</dc:creator>
  <dc:description/>
  <dc:language>en-US</dc:language>
  <cp:lastModifiedBy>Preferred Customer</cp:lastModifiedBy>
  <dcterms:modified xsi:type="dcterms:W3CDTF">2000-08-31T16:43:56Z</dcterms:modified>
  <cp:revision>65</cp:revision>
  <dc:subject/>
  <dc:title>No Slide Title</dc:title>
</cp:coreProperties>
</file>