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483-A9B5-41C5-90A0-74F765E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898-E250-4C7B-81CB-D8C3DAA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CB9-FBD1-4A59-9E2E-17391F4C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CCE-511E-46B5-99F0-47D46B4D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2BD-3E3B-485F-A649-6281E1BE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ACF2-3C85-4692-8AA6-C16AEA3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9E1A-0573-4268-8E67-071CAAA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3ECA-60D3-4873-9AB5-D7F7868A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8BC-6E82-4405-9670-4FCD41B5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49C-E2FF-4485-84B6-51F3B662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23B-08B1-4656-B249-4DAB70F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65D-D37B-4194-A471-E6B7878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3BF-4C76-4B9B-B60D-20EBA1C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094-060C-445A-BDBC-2937E6C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8FD-3E7A-499D-9FFF-1A8C80B3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7FE-9600-4708-9B08-74CEF94D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659-6888-4F45-8C21-BFC8F761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373-2585-40F7-86C4-B015A31B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8EB-CBB4-4DDC-B9A8-F9602C3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05B-E708-4B7C-BD06-439DD756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0E7-AAF5-4A36-B593-665CFF6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E83-79E2-4F70-A13E-CB70964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2C8-7F99-42C1-B3DD-76F1226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396-A850-4037-86B6-6F84F5A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066F-B803-4B65-969A-3DE5A3D199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CF7-8433-49E4-BF93-5B38E62849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attlebot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we won’t co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fa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rse gra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ex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class 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ngeon room-D 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 labs wit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 familiarization with equipment and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l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 with partner---same partner as for 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your own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, design, build, verify, document, document, doc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pro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 amplif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3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/sound syn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nd recogn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botics pro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1885680"/>
            <a:ext cx="4064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erable spinb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sensor 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bot-0088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743200"/>
            <a:ext cx="37335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4:56:53Z</dcterms:created>
  <dc:creator>Wayne Wolf</dc:creator>
  <dc:description/>
  <dc:language>en-US</dc:language>
  <cp:lastModifiedBy>Wayne Wolf</cp:lastModifiedBy>
  <dcterms:modified xsi:type="dcterms:W3CDTF">2002-09-13T14:40:48Z</dcterms:modified>
  <cp:revision>6</cp:revision>
  <dc:subject/>
  <dc:title>Course grading</dc:title>
</cp:coreProperties>
</file>