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4477-B190-4481-8E40-8D3A38752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484A-D9FF-4660-89C4-0595D101E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A16B-CF31-4565-A8C7-AA30097C9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6D9E-40F4-4C46-A999-61DC43898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7E844-5C61-4BAA-87B7-144F12F3D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AD722-83D1-42F4-8345-BC2A707E0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EA33D-81F8-49F8-AB28-19C93D304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D52CE-6248-4DE5-83F8-90575C231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1B321-C1F5-4D1C-BAF2-B07517A6B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52E73-784C-4D87-A67D-07169C06C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607B3-9D1A-4F94-B705-424958CA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409C-773D-4C71-89DB-5CED718D1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3BED8-A14D-4547-B188-E938DF49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E68D5-FFB1-4F5D-BC01-2525EC62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95D95-A97A-4206-9A78-90B127215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398CB-4441-4A47-AF01-AAA8B6D91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418C4-E6AE-44C0-81F1-2FCB77468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1607-EE5A-4D7C-871F-0E382130F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C722-2BDE-45E4-A707-28DC1AEFB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0D4F-5153-44C7-91E6-4339DF25E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8FFD-80DB-4230-8A31-A35EB5C49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F952-40F9-4E45-8952-76FE1C7A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C969-C51D-4219-A459-27B14475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F818-154B-4F4F-B610-8174432E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© 2000 Morgan Kauf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Overheads for </a:t>
            </a:r>
            <a:r>
              <a:rPr b="0" i="1" lang="en-US" sz="1400" spc="-1" strike="noStrike">
                <a:solidFill>
                  <a:srgbClr val="5e574e"/>
                </a:solidFill>
                <a:latin typeface="Arial"/>
              </a:rPr>
              <a:t>Computers as 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C2432-1047-4B4D-BD94-20943897E1F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37C7C-2969-4154-8ED6-A233C198539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struction se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er architecture taxonom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embly languag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ssembly langua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-to-one with instructions (more or less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ic featur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instruction per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bels provide names for addresses (usually in first column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ructions often start in later colum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umns run to end of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M assembly language examp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label1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DR r4,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LDR r0,[r4] ; a com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DR r4,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LDR r1,[r4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UB r0,r0,r1 ; com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seudo-op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assembler directives don’t correspond directly to instructio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current addres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 storag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on Neumann architectu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ory holds data, instruc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entral processing unit (CPU) fetches instructions from memor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CPU and memory distinguishes programmable comput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PU registers help out: program counter (PC), instruction register (IR), general-purpose registers, 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PU + memor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1981080"/>
            <a:ext cx="2209680" cy="35816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952880" y="2743200"/>
            <a:ext cx="2286000" cy="274320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57800" y="3276720"/>
            <a:ext cx="160020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3581280" y="32004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81280" y="396252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42480" y="270828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18440" y="34704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257800" y="4343400"/>
            <a:ext cx="16002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71600" y="4343400"/>
            <a:ext cx="2209680" cy="53352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D r5,r1,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9120" y="43848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16800" y="3276720"/>
            <a:ext cx="637920" cy="4597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3657240" y="3276360"/>
            <a:ext cx="1981080" cy="15228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81280" y="4114800"/>
            <a:ext cx="1828800" cy="30492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343400"/>
            <a:ext cx="2210040" cy="53352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D r5,r1,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arvard architectu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5257800" y="2362320"/>
            <a:ext cx="2286000" cy="274320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562720" y="2895480"/>
            <a:ext cx="16002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2514600"/>
            <a:ext cx="2743200" cy="9144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4114800"/>
            <a:ext cx="2743200" cy="9144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886200" y="266688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86200" y="34290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47400" y="217476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23000" y="29368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886200" y="419112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86200" y="495288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47400" y="369900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23000" y="44607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on Neumann vs. Harvar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rvard can’t use self-modifying cod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rvard allows two simultaneous memory fetch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DSPs use Harvard architecture for streaming dat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memory bandwidth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predictable bandwidt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ISC vs. CISC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x instruction set computer (</a:t>
            </a:r>
            <a:r>
              <a:rPr b="0" lang="en-US" sz="3200" spc="-1" strike="noStrike">
                <a:solidFill>
                  <a:srgbClr val="ff0033"/>
                </a:solidFill>
                <a:latin typeface="Tahoma"/>
              </a:rPr>
              <a:t>CIS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addressing mode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opera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ed instruction set computer (</a:t>
            </a:r>
            <a:r>
              <a:rPr b="0" lang="en-US" sz="3200" spc="-1" strike="noStrike">
                <a:solidFill>
                  <a:srgbClr val="ff0033"/>
                </a:solidFill>
                <a:latin typeface="Tahoma"/>
              </a:rPr>
              <a:t>RIS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/stor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pelinable instruc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struction set characteristic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xed vs. variable lengt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ressing mod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mber of operand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ypes of operand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gramming mode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ahoma"/>
              </a:rPr>
              <a:t>Programming mode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registers visible to the programm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registers are not visible (IR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ultiple implementa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ccessful architectures have several implementatio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ying clock speed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bus width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cache size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Wayne Wolf</dc:creator>
  <dc:description/>
  <dc:language>en-US</dc:language>
  <cp:lastModifiedBy>Preferred Customer</cp:lastModifiedBy>
  <dcterms:modified xsi:type="dcterms:W3CDTF">2000-08-23T02:15:38Z</dcterms:modified>
  <cp:revision>63</cp:revision>
  <dc:subject/>
  <dc:title>SHARC programming model</dc:title>
</cp:coreProperties>
</file>