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5B8-BCE1-4A93-9DC2-0A6516D7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D6A-BE3A-40DB-BB00-D3C16A32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8D4-FC23-4F0A-9E3C-5A3F5C22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B03-AD39-484F-929C-1B124CD9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C035-48E1-4C6C-843B-6C945B2C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FFF2-7AE1-4520-B346-7CA6F4B3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3E93-1EA6-4AE0-9D02-60FCB9F5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19F0-F173-4696-BF17-573CAC62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0DAF-9E48-4966-BF78-CEC5F4A3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67A7-CAF0-45BC-9CB2-E25A8639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ADBA-5B64-468C-A417-BC47883A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4B5-4DCB-4FE3-9277-C80D31C6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CB66-7677-47DC-86ED-B5648637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3DC1-80C6-41C8-8883-D8EB3199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857E-31CD-4546-951F-9A1238D7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8DAF-68AE-4496-8AC4-8AD40F4D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9331-2844-44E1-829F-2EFEDF5A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E4F-E7DF-473F-98B3-286748FA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BD0-C408-443E-A1DF-C7F2B262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CB6-66EE-4BA8-AC2A-95D1584C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36D-1F57-4E62-9DCC-84BCCEC8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22D-FC76-4A07-AE7D-B4135A81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2E5-DF37-48AC-A1C9-E30AC236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EA6-B586-4D59-8D8F-7828A672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367F-7736-4DF5-A78C-E47AD730DE7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2081-0F57-4F52-93B6-962776A040A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02000"/>
                </a:solidFill>
                <a:latin typeface="Times New Roman"/>
              </a:rPr>
              <a:t>Detecção de Bordas</a:t>
            </a:r>
            <a:endParaRPr b="0" lang="en-US" sz="7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oblemas : Caminho incorret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6477120" cy="4925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 flipV="1">
            <a:off x="3657600" y="3352680"/>
            <a:ext cx="1447920" cy="1447920"/>
          </a:xfrm>
          <a:prstGeom prst="line">
            <a:avLst/>
          </a:prstGeom>
          <a:ln w="2844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Novo Algoritmo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391160" cy="4843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90720" y="449568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ada ponto vira uma matriz 4x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3314880"/>
            <a:ext cx="457200" cy="3808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Novo Algoritm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ão haverá caminhos sem saíd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minhos errados são evitados se mudarmos a ordem do movimen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202200" y="3733920"/>
            <a:ext cx="2437560" cy="2172960"/>
            <a:chOff x="3202200" y="3733920"/>
            <a:chExt cx="2437560" cy="2172960"/>
          </a:xfrm>
        </p:grpSpPr>
        <p:sp>
          <p:nvSpPr>
            <p:cNvPr id="122" name=""/>
            <p:cNvSpPr/>
            <p:nvPr/>
          </p:nvSpPr>
          <p:spPr>
            <a:xfrm>
              <a:off x="4418640" y="3733920"/>
              <a:ext cx="0" cy="217296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202200" y="4818240"/>
              <a:ext cx="2437560" cy="18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557880" y="3958560"/>
              <a:ext cx="1721880" cy="172512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48600" y="4052880"/>
              <a:ext cx="1537920" cy="153504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7913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Novo Algoritm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2720" y="1752480"/>
            <a:ext cx="694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Courier New"/>
              </a:rPr>
              <a:t>CCCC -&gt;    C    (reduzir a uma cópi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Courier New"/>
              </a:rPr>
              <a:t>CCC  -&gt;    {}   (elimina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Courier New"/>
              </a:rPr>
              <a:t>CC   -&gt;    CC   (ignora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Courier New"/>
              </a:rPr>
              <a:t>C    -&gt;    C    (identidad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Algoritmo Básic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2895480"/>
            <a:ext cx="5715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if CorAnterior &lt;&gt; CorAtu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then begi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  </a:t>
            </a: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Pinta (x,y)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end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057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Para cada linha e para cada colun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Bordas “Grossas”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3048120" cy="2990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038840" cy="2952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5219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pós Varredura Horizont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5219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pós Varredura Vertic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Algoritmo Modificad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895480"/>
            <a:ext cx="6934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if CorAnterior &lt;&gt; CorAtu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then begi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  </a:t>
            </a: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Pinta(x,y,CorAtual)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  </a:t>
            </a: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Pinta(x-1,y,CorAnterior)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Courier New"/>
              </a:rPr>
              <a:t>end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057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Para cada linh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Bordas com Cores Diferent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91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402000"/>
                </a:solidFill>
                <a:latin typeface="Times New Roman"/>
              </a:rPr>
              <a:t>Vetorização</a:t>
            </a:r>
            <a:endParaRPr b="0" lang="en-US" sz="7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Algoritmo Tradiciona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oblemas : Sem Saíd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76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oblemas : Caminho incorreto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1" name="figura4a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3152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2T18:30:48Z</dcterms:created>
  <dc:creator>Capitão Gancho</dc:creator>
  <dc:description/>
  <dc:language>en-US</dc:language>
  <cp:lastModifiedBy>Capitão Gancho</cp:lastModifiedBy>
  <dcterms:modified xsi:type="dcterms:W3CDTF">1998-09-14T15:43:28Z</dcterms:modified>
  <cp:revision>18</cp:revision>
  <dc:subject/>
  <dc:title>Sem Saída</dc:title>
</cp:coreProperties>
</file>