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D01-437B-491B-9F64-7DCEC769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EFD-F108-4192-847B-D29BB28E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D69-C45D-461F-8E06-937ECE4B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1B3-5468-4A6C-8A66-F81F1EF8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C8C3-6A97-4969-A768-85E3EBE2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E30E-10E0-462F-8B42-D4291B7E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07BC-2086-49E4-8875-1EAC3250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B1E9-195A-4BE4-BB53-524390D6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2A46-5424-4123-9444-FA3731D1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5C8C-5759-4380-B602-535AD9A0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A9D3-5931-4F28-A8AB-650F7EBA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76F-6FA5-4F70-9037-7E6C24D0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727A-B6B3-41D6-BF51-2BD23512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A389-8080-4102-B92A-7324AD73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11F2-CCD5-4279-A857-BFCB93FB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20FE-64A2-4384-85C8-641AD128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C41F-6250-4EA9-A593-46DFF870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3D9-6426-4C3F-8357-486C1DDA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596-C291-448F-948B-8567D39A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50F-2B35-4636-B8C2-D449DFDF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BFB-5E4E-4B0E-9EAA-30D8388A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F26-B5F3-4C92-9D37-5AA8892E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822-75E5-473E-8BBF-290EF5A1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8EB-CEB3-440F-8721-B9170A0E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91CF-C8A4-4CF2-ADE1-CAAC84618CBF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5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49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CE22-06F5-4546-939C-83750DCCA36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nstancias4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296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nstancias5" descr=""/>
          <p:cNvPicPr/>
          <p:nvPr/>
        </p:nvPicPr>
        <p:blipFill>
          <a:blip r:embed="rId1"/>
          <a:stretch/>
        </p:blipFill>
        <p:spPr>
          <a:xfrm>
            <a:off x="812880" y="766800"/>
            <a:ext cx="7493040" cy="5273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524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ranslações indesejadas na ro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scRot" descr=""/>
          <p:cNvPicPr/>
          <p:nvPr/>
        </p:nvPicPr>
        <p:blipFill>
          <a:blip r:embed="rId1"/>
          <a:stretch/>
        </p:blipFill>
        <p:spPr>
          <a:xfrm>
            <a:off x="533520" y="809640"/>
            <a:ext cx="3962160" cy="3305160"/>
          </a:xfrm>
          <a:prstGeom prst="rect">
            <a:avLst/>
          </a:prstGeom>
          <a:ln w="0">
            <a:noFill/>
          </a:ln>
        </p:spPr>
      </p:pic>
      <p:pic>
        <p:nvPicPr>
          <p:cNvPr id="96" name="RotEsc" descr="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3379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43200" y="5257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ção - E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ala - Ro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430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utatividade das Trans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304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ão Comutatividade das Trans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TransEsc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496040" cy="3208320"/>
          </a:xfrm>
          <a:prstGeom prst="rect">
            <a:avLst/>
          </a:prstGeom>
          <a:ln w="0">
            <a:noFill/>
          </a:ln>
        </p:spPr>
      </p:pic>
      <p:pic>
        <p:nvPicPr>
          <p:cNvPr id="102" name="EscTrans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4419720" cy="320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148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ção - E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5410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ala - Trans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01:40:34Z</dcterms:created>
  <dc:creator>Capitão Gancho</dc:creator>
  <dc:description/>
  <dc:language>en-US</dc:language>
  <cp:lastModifiedBy>Capitão Gancho</cp:lastModifiedBy>
  <dcterms:modified xsi:type="dcterms:W3CDTF">1998-09-01T01:57:32Z</dcterms:modified>
  <cp:revision>2</cp:revision>
  <dc:subject/>
  <dc:title>Slide sem título </dc:title>
</cp:coreProperties>
</file>