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B1E-1C2C-4789-9D01-23821BFB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852-7A86-467F-B20A-33C7D77C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DB5-4CF2-4957-BB8F-6C68EA30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C63-24B9-401F-9D10-97690917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042A-8641-4E47-95C4-700F61A5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EC3A-DAD7-4867-B182-BFE7B56C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950C-7C0E-45C2-BB92-F537555F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B385-C920-4B6D-92A5-C437922A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2869-D9A5-4EA7-8F57-8E466A65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8313-B726-4666-9618-962E6CB2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E52D-5087-4F18-86FB-DB3E2CED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6D4-FC37-4361-A7E8-7C682D9B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C437-D9CE-4D2D-A3AF-14A2E86A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E1AE-2849-4C26-8EEB-A0C58041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EABF-81CD-4B61-B841-65E6359D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2A01-68C6-453A-81F9-6B207EDB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38C6-95E5-416E-9137-9FD56608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AE0-9900-46C8-98B0-71138086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EF4-1119-46E1-A94C-CF4688C7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61A-9257-4012-8CF8-3D110FC2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B93-719E-42DB-8707-8542B7D0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C2A-537F-42E3-9876-075C8DAF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35B-33EF-4A1F-A5F3-EE4A6745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99A-7267-46A8-8C7E-809EC406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8588-D072-40C1-82DB-4915A1182AFF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5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7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49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3C2D-C403-43B1-BCE4-70A6E9A41AC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nstancias4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296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nstancias5" descr=""/>
          <p:cNvPicPr/>
          <p:nvPr/>
        </p:nvPicPr>
        <p:blipFill>
          <a:blip r:embed="rId1"/>
          <a:stretch/>
        </p:blipFill>
        <p:spPr>
          <a:xfrm>
            <a:off x="812880" y="766800"/>
            <a:ext cx="7493040" cy="5273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524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ranslações indesejadas na ro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EscRot" descr=""/>
          <p:cNvPicPr/>
          <p:nvPr/>
        </p:nvPicPr>
        <p:blipFill>
          <a:blip r:embed="rId1"/>
          <a:stretch/>
        </p:blipFill>
        <p:spPr>
          <a:xfrm>
            <a:off x="533520" y="809640"/>
            <a:ext cx="3962160" cy="3305160"/>
          </a:xfrm>
          <a:prstGeom prst="rect">
            <a:avLst/>
          </a:prstGeom>
          <a:ln w="0">
            <a:noFill/>
          </a:ln>
        </p:spPr>
      </p:pic>
      <p:pic>
        <p:nvPicPr>
          <p:cNvPr id="96" name="RotEsc" descr="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3379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43200" y="5257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ção - Esc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ala - Ro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430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utatividade das Trans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304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ão Comutatividade das Trans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TransEsc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496040" cy="3208320"/>
          </a:xfrm>
          <a:prstGeom prst="rect">
            <a:avLst/>
          </a:prstGeom>
          <a:ln w="0">
            <a:noFill/>
          </a:ln>
        </p:spPr>
      </p:pic>
      <p:pic>
        <p:nvPicPr>
          <p:cNvPr id="102" name="EscTrans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4419720" cy="320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148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ção - Esc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5410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ala - Trans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01:40:34Z</dcterms:created>
  <dc:creator>Capitão Gancho</dc:creator>
  <dc:description/>
  <dc:language>en-US</dc:language>
  <cp:lastModifiedBy>Capitão Gancho</cp:lastModifiedBy>
  <dcterms:modified xsi:type="dcterms:W3CDTF">1998-09-01T01:57:32Z</dcterms:modified>
  <cp:revision>2</cp:revision>
  <dc:subject/>
  <dc:title>Slide sem título </dc:title>
</cp:coreProperties>
</file>