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6DA2-0A33-427D-B18A-86CEF72D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1AA-4A52-41D6-8964-A9C5E2EB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96F3-762C-4307-8CB9-1D0FDB94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3F9-FA73-427B-81D2-5E4E37E5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D1E6-BCBA-4F0C-A873-F10A8AAA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33EC-E064-4ECF-83A8-78C2553D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85F4-D947-48F9-BF40-F974ACD4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7A6E-E02D-4726-911F-24D68CEF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52C3-16A0-4F5E-B621-9CAD45E4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8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9140-8A0C-4BB6-88FF-C6F2ABAA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EDFC-DFD1-4AB4-9A9C-A5EDA324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0D7-41A6-4ACD-AB35-CCABA48B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1061-266C-4BE0-A1AF-37E0AB44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D989-BB49-4D4F-AB0F-F7B643D0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9240-C6EF-4F5C-ADD3-5EDA88DD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EAAA-AE62-41A9-8C21-AAAAF425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85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7128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085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7128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39B3-4753-455B-BFAC-335908D4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A57-22DD-47FE-B3BF-4187F50B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B64-126A-4E74-B429-2B556C9F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FE2-DF3E-4E61-9AD0-B0194DB8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40D-1229-443B-B004-DD2B08DF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EB9-9555-4A33-AB84-B655AFBD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4D1-5376-4803-ACD6-9FDD4ACF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5DD-102B-4567-8485-6E27E5D8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CD40-C115-457E-B5C1-FA6856FF4E80}" type="slidenum">
              <a:rPr b="0" lang="en-US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5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7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49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296C-B0A0-4836-9646-5432731E02F8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nstancias4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2296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nstancias5" descr=""/>
          <p:cNvPicPr/>
          <p:nvPr/>
        </p:nvPicPr>
        <p:blipFill>
          <a:blip r:embed="rId1"/>
          <a:stretch/>
        </p:blipFill>
        <p:spPr>
          <a:xfrm>
            <a:off x="812880" y="766800"/>
            <a:ext cx="7493040" cy="5273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524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Translações indesejadas na ro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EscRot" descr=""/>
          <p:cNvPicPr/>
          <p:nvPr/>
        </p:nvPicPr>
        <p:blipFill>
          <a:blip r:embed="rId1"/>
          <a:stretch/>
        </p:blipFill>
        <p:spPr>
          <a:xfrm>
            <a:off x="533520" y="809640"/>
            <a:ext cx="3962160" cy="3305160"/>
          </a:xfrm>
          <a:prstGeom prst="rect">
            <a:avLst/>
          </a:prstGeom>
          <a:ln w="0">
            <a:noFill/>
          </a:ln>
        </p:spPr>
      </p:pic>
      <p:pic>
        <p:nvPicPr>
          <p:cNvPr id="96" name="RotEsc" descr=""/>
          <p:cNvPicPr/>
          <p:nvPr/>
        </p:nvPicPr>
        <p:blipFill>
          <a:blip r:embed="rId2"/>
          <a:stretch/>
        </p:blipFill>
        <p:spPr>
          <a:xfrm>
            <a:off x="4572000" y="2819520"/>
            <a:ext cx="3962520" cy="3379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743200" y="5257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tação - Esc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1143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ala - Ro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2430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utatividade das Transform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304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ão Comutatividade das Transform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TransEsc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496040" cy="3208320"/>
          </a:xfrm>
          <a:prstGeom prst="rect">
            <a:avLst/>
          </a:prstGeom>
          <a:ln w="0">
            <a:noFill/>
          </a:ln>
        </p:spPr>
      </p:pic>
      <p:pic>
        <p:nvPicPr>
          <p:cNvPr id="102" name="EscTrans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4419720" cy="3201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114800" y="1143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ção - Esc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5410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ala - Trans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01:40:34Z</dcterms:created>
  <dc:creator>Capitão Gancho</dc:creator>
  <dc:description/>
  <dc:language>en-US</dc:language>
  <cp:lastModifiedBy>Capitão Gancho</cp:lastModifiedBy>
  <dcterms:modified xsi:type="dcterms:W3CDTF">1998-09-01T01:57:32Z</dcterms:modified>
  <cp:revision>2</cp:revision>
  <dc:subject/>
  <dc:title>Slide sem título </dc:title>
</cp:coreProperties>
</file>